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ED6-5E54-420F-B9FA-FB218FB0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D70-570D-44AF-B857-F8FBC5C6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162-5532-4B51-A968-92060D45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F61-507D-480F-8854-6DEC3899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C3A-F5B7-4EF5-8823-EB4E75CF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8EB2-B15D-4F92-8705-10772B14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017-1E23-450C-A9C9-70AF989D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687-7F7E-4297-84E6-417DFCDD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3A8-773C-4283-8C37-8106A705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7760-B247-48CF-BA22-0A5C0D48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3D5-58E9-4A98-8C40-A5D5AE39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A86-1B0F-4A46-9717-509BCC73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11CE-2529-49B5-A96E-E70C592FBE5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Administrator</cp:lastModifiedBy>
  <dcterms:modified xsi:type="dcterms:W3CDTF">2006-06-13T21:28:38Z</dcterms:modified>
  <cp:revision>15</cp:revision>
  <dc:subject/>
  <dc:title>Slajd 1</dc:title>
</cp:coreProperties>
</file>