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572-7D63-4D04-B7F2-E246FF44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E8E7-A352-43D6-8213-B3C4A342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F4EF-44ED-4AC0-ABDC-041D50EF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B3D-D769-4034-9576-3AE33054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F367-AA51-4823-8F89-A2D38B76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EFC-E52D-46EF-97F3-660E9649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9B4-C0D9-4FB7-9F90-E488DDCA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C54-0637-4076-A996-0E37B7BF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1E8E-A88C-4405-A253-D04D6745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5E92-98AF-41DB-895E-8E4B9C95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B38-C9CA-46C2-9F2E-738EDC54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698C-6A4F-4D19-83D7-43C54083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F287-3ED3-49CD-8637-6E432F9BB0C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657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Administrator</cp:lastModifiedBy>
  <dcterms:modified xsi:type="dcterms:W3CDTF">2006-06-13T21:28:38Z</dcterms:modified>
  <cp:revision>15</cp:revision>
  <dc:subject/>
  <dc:title>Slajd 1</dc:title>
</cp:coreProperties>
</file>