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D55B-9639-4EF4-A80E-54B0C3EA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7751-9539-4716-B86A-AF78F2DC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81DD-6E93-4F19-BDE4-C99E9BE3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5E04-1646-4724-828A-49760892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A93B-3571-4A3C-821B-B09228A3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5B81-C51A-44FE-8654-1E92BC63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365E-F28E-4831-9C23-5BDE7A4A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6D12-AAC0-462C-9BCA-F83EE47E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B555-C743-4126-A871-7B88A925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7743-4038-4567-9A68-02BBF4AC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11F2-37C8-4980-A574-56637E4C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81A4-8B70-4285-B36C-5A9979D7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1444-284E-487E-BE7E-B34982C38415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66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1197000"/>
            <a:ext cx="518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ZAMKI </a:t>
            </a:r>
            <a:br>
              <a:rPr sz="8800"/>
            </a:b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w POLSC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280" y="69228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Warsza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724280"/>
            <a:ext cx="7705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, a także siedzibą sejmu i senat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5648040" cy="423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59280" y="333360"/>
            <a:ext cx="5886360" cy="357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24000" y="9810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na Wawelu w Krak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4581360"/>
            <a:ext cx="7058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 aż do początku XVII wie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98100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zyżac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Malbor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797360"/>
            <a:ext cx="82072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zdobyta twierdza wielkiego mistrza podczas oblężenia przez wojska polsko-litewskie pod wodzą króla Władysława Jagiełły po bitwie grunwaldzkiej w 1410 ro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zamek jest siedzibą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43280" y="189000"/>
            <a:ext cx="6121440" cy="459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981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Ksią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1640" y="4365720"/>
            <a:ext cx="8280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nowi jeden z elementów Szlaku Zamków Piastowskich. Jest to trzeci co do wielkości zamek w Polsce (po zamku   w Malborku i Zamku Królewskim na Wawelu)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część zespołu pałacowego jest udostępniona dla zwiedzając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360" y="189000"/>
            <a:ext cx="5435640" cy="4078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Arial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16572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6:11:17Z</dcterms:created>
  <dc:creator>Administrator</dc:creator>
  <dc:description/>
  <dc:language>en-US</dc:language>
  <cp:lastModifiedBy>Administrator</cp:lastModifiedBy>
  <dcterms:modified xsi:type="dcterms:W3CDTF">2006-06-13T21:28:38Z</dcterms:modified>
  <cp:revision>15</cp:revision>
  <dc:subject/>
  <dc:title>Slajd 1</dc:title>
</cp:coreProperties>
</file>