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9C4E-BD43-4634-951C-DB5657735D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7A1D-0F68-4A0F-A306-C57757877B7C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EF10-E7C2-4AA6-9C3E-5157864A76BC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0A2F-BF72-4F05-A65C-1DECB26C242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8FD-8970-4ED0-A54A-F677B046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33E-6C1F-4652-B256-5A659E9A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A2C-B3F4-4AC2-AF28-329B20B2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923-C8B8-4294-B462-51661D0E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516-6691-4D02-8A19-275BF0A4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29E-4BA8-4869-9140-7CA3C805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DBB-0B8E-4147-B20B-64ECF746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40F-6A8D-4E1D-8317-3E9BDB00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F52-7195-45DF-BFBD-274B0A55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8C2-B43A-4559-9D94-D46303CA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5CF-30CC-49BE-9B0B-C6338094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338-BC89-4977-81C3-DA8899C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77A2-5F30-4EC1-859F-39305C6A47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  <a:ea typeface="Arial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  <a:ea typeface="Arial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  <a:ea typeface="Arial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k</cp:lastModifiedBy>
  <dcterms:modified xsi:type="dcterms:W3CDTF">2018-07-21T10:09:41Z</dcterms:modified>
  <cp:revision>29</cp:revision>
  <dc:subject/>
  <dc:title>Slajd 1</dc:title>
</cp:coreProperties>
</file>