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1F3F-E33D-4B24-B41E-38D86DD2BAD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BB76-CA70-4263-B6E3-84405F8F66D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21B3-F884-4DDC-9F66-6BB2A54575E6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A439-2F08-492E-9583-BAE35AF5322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75C-D4D5-4D96-B375-304B91FC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3D2-60F1-476C-B3E4-875C0A27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2AB-94E9-4CAE-8CF0-174B5FB0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FFB-C8BF-4C01-98C5-0C853D49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3DA-74EA-4DFD-809F-137CD8AB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257-EC60-44C7-A19C-DF61585A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242-4C60-4205-90A0-3447DFFF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387-0A94-441C-8393-D3D20EC7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69A-26F6-4DE8-87D6-73F3DC9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F7E-F249-480D-938B-529096FF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2C5-CCFD-4CDC-8E58-85F00D7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BEF-4148-486B-B95F-30F3D9B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A462-C4C4-4758-A846-3A6E7F88B4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  <a:ea typeface="Arial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  <a:ea typeface="Arial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  <a:ea typeface="Arial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k</cp:lastModifiedBy>
  <dcterms:modified xsi:type="dcterms:W3CDTF">2018-07-21T10:09:41Z</dcterms:modified>
  <cp:revision>29</cp:revision>
  <dc:subject/>
  <dc:title>Slajd 1</dc:title>
</cp:coreProperties>
</file>