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2528-6170-4F9B-B081-FFDB4EA1D6E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44CD-1673-43FF-91AB-DB843BF05BC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A94-125E-4FC6-9F6B-72BE2600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EC7-B2F9-483C-B463-AD0CBB2F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1E2-BDC9-4F33-BBE2-A92B1DC2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06B-1A64-4801-B4EF-30518D98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640-B26F-470B-AB10-7FF1FAB3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629-47CE-419A-998C-880C07FD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F28E-C92D-41B6-A1A6-B0A6A245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A539-B394-4ADC-A090-DFBA1F39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2A77-2990-4F4A-A565-637C935E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80EB-B098-4D26-B2C3-1AFEA277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EF0-B132-425F-860B-EBEBB42D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4016-B54A-40F0-83E3-A64B1BD1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D8D1-5E2F-4077-8105-5EB048D228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285560"/>
            <a:ext cx="3500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Calibri"/>
              </a:rPr>
              <a:t>Polsk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Polska1.jpg"/>
          <p:cNvPicPr/>
          <p:nvPr/>
        </p:nvPicPr>
        <p:blipFill>
          <a:blip r:embed="rId1"/>
          <a:stretch/>
        </p:blipFill>
        <p:spPr>
          <a:xfrm>
            <a:off x="0" y="396396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Grazyna\Pictures\Pokaz\IMG_7652.JPG"/>
          <p:cNvPicPr/>
          <p:nvPr/>
        </p:nvPicPr>
        <p:blipFill>
          <a:blip r:embed="rId2"/>
          <a:srcRect l="21877" t="0" r="27346" b="56253"/>
          <a:stretch/>
        </p:blipFill>
        <p:spPr>
          <a:xfrm>
            <a:off x="4929120" y="0"/>
            <a:ext cx="4214880" cy="2724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6" descr="Flaga_Polski_1.png"/>
          <p:cNvPicPr/>
          <p:nvPr/>
        </p:nvPicPr>
        <p:blipFill>
          <a:blip r:embed="rId3"/>
          <a:stretch/>
        </p:blipFill>
        <p:spPr>
          <a:xfrm>
            <a:off x="428760" y="214200"/>
            <a:ext cx="145728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Obraz 7" descr="Mapa_Polska_kontur.png"/>
          <p:cNvPicPr/>
          <p:nvPr/>
        </p:nvPicPr>
        <p:blipFill>
          <a:blip r:embed="rId4"/>
          <a:stretch/>
        </p:blipFill>
        <p:spPr>
          <a:xfrm>
            <a:off x="3214800" y="242892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00000"/>
                </a:solidFill>
                <a:latin typeface="Calibri"/>
              </a:rPr>
              <a:t>Stolica Polski – </a:t>
            </a: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Warsza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az 2" descr="warszawa.jpg"/>
          <p:cNvPicPr/>
          <p:nvPr/>
        </p:nvPicPr>
        <p:blipFill>
          <a:blip r:embed="rId1"/>
          <a:stretch/>
        </p:blipFill>
        <p:spPr>
          <a:xfrm>
            <a:off x="0" y="857160"/>
            <a:ext cx="4071960" cy="3054600"/>
          </a:xfrm>
          <a:prstGeom prst="rect">
            <a:avLst/>
          </a:prstGeom>
          <a:ln w="0">
            <a:noFill/>
          </a:ln>
        </p:spPr>
      </p:pic>
      <p:pic>
        <p:nvPicPr>
          <p:cNvPr id="55" name="Obraz 3" descr="warszawa2.jpg"/>
          <p:cNvPicPr/>
          <p:nvPr/>
        </p:nvPicPr>
        <p:blipFill>
          <a:blip r:embed="rId2"/>
          <a:stretch/>
        </p:blipFill>
        <p:spPr>
          <a:xfrm>
            <a:off x="4952880" y="1428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6" name="Obraz 4" descr="warszawa3.jpg"/>
          <p:cNvPicPr/>
          <p:nvPr/>
        </p:nvPicPr>
        <p:blipFill>
          <a:blip r:embed="rId3"/>
          <a:stretch/>
        </p:blipFill>
        <p:spPr>
          <a:xfrm>
            <a:off x="1071720" y="40719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Godł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3"/>
          <p:cNvSpPr/>
          <p:nvPr/>
        </p:nvSpPr>
        <p:spPr>
          <a:xfrm>
            <a:off x="2571840" y="5072040"/>
            <a:ext cx="38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Godłem Rzeczypospolitej Polskiej jest wizerunek orła białego w koronie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czerwonym polu tar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3054240" y="1285920"/>
            <a:ext cx="3035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7840" y="499680"/>
            <a:ext cx="3914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Fla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rostokąt 3"/>
          <p:cNvSpPr/>
          <p:nvPr/>
        </p:nvSpPr>
        <p:spPr>
          <a:xfrm>
            <a:off x="500040" y="40719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ami Rzeczypospolitej Polskiej są kolory biały i czerwony, ułożone w dwóch poziomych, równoległych pasach tej samej szerokoś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órny pas jest koloru białego, a dolny koloru czerwonego.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y te stanowią składniki flagi państwowej Rzeczypospolitej Polskiej</a:t>
            </a:r>
            <a:r>
              <a:rPr b="1" lang="pl-PL" sz="1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2 maja jest w Polsce obchodzony jako Dzień Flagi Rzeczypospolitej Polsk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4" descr="flaga.bmp"/>
          <p:cNvPicPr/>
          <p:nvPr/>
        </p:nvPicPr>
        <p:blipFill>
          <a:blip r:embed="rId1"/>
          <a:stretch/>
        </p:blipFill>
        <p:spPr>
          <a:xfrm>
            <a:off x="0" y="0"/>
            <a:ext cx="4924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Hymn</a:t>
            </a:r>
            <a:br>
              <a:rPr sz="4400"/>
            </a:br>
            <a:r>
              <a:rPr b="0" lang="pl-PL" sz="44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Mazurek Dąbrowski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28840" y="1857240"/>
            <a:ext cx="64008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Jeszcze Polska nie zgin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Kiedy my żyjemy.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Co nam obca przemoc wzi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Szablą odbierzemy.</a:t>
            </a:r>
            <a:br>
              <a:rPr sz="3200"/>
            </a:b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Marsz, marsz Dąbrowski,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 ziemi włoskiej do Polski.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a twoim przewodem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łączym się z narod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4640" y="714240"/>
            <a:ext cx="2714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f4402"/>
                </a:solidFill>
                <a:latin typeface="Calibri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az 4" descr="łąka.JPG"/>
          <p:cNvPicPr/>
          <p:nvPr/>
        </p:nvPicPr>
        <p:blipFill>
          <a:blip r:embed="rId1"/>
          <a:stretch/>
        </p:blipFill>
        <p:spPr>
          <a:xfrm>
            <a:off x="3941640" y="2955960"/>
            <a:ext cx="5202360" cy="3902040"/>
          </a:xfrm>
          <a:prstGeom prst="rect">
            <a:avLst/>
          </a:prstGeom>
          <a:ln w="0">
            <a:noFill/>
          </a:ln>
        </p:spPr>
      </p:pic>
      <p:pic>
        <p:nvPicPr>
          <p:cNvPr id="67" name="Obraz 3" descr="bociany.JPG"/>
          <p:cNvPicPr/>
          <p:nvPr/>
        </p:nvPicPr>
        <p:blipFill>
          <a:blip r:embed="rId2"/>
          <a:stretch/>
        </p:blipFill>
        <p:spPr>
          <a:xfrm>
            <a:off x="0" y="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68" name="pole tekstowe 4"/>
          <p:cNvSpPr/>
          <p:nvPr/>
        </p:nvSpPr>
        <p:spPr>
          <a:xfrm>
            <a:off x="214200" y="500076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f4402"/>
                </a:solidFill>
                <a:latin typeface="Arial"/>
              </a:rPr>
              <a:t>Prezentację przygotował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f4402"/>
                </a:solidFill>
                <a:latin typeface="Arial"/>
              </a:rPr>
              <a:t>Grażyna K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9:28:28Z</dcterms:created>
  <dc:creator>Grazyna</dc:creator>
  <dc:description/>
  <dc:language>en-US</dc:language>
  <cp:lastModifiedBy>Grazyna</cp:lastModifiedBy>
  <dcterms:modified xsi:type="dcterms:W3CDTF">2010-03-06T21:19:32Z</dcterms:modified>
  <cp:revision>25</cp:revision>
  <dc:subject/>
  <dc:title>Polska</dc:title>
</cp:coreProperties>
</file>