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B18D-AD4B-44C5-BB6C-42502C73EE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F929-D6E8-4D9A-B6BC-85075E3AAA7A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D4BE-9EAB-44D8-A444-9D3C687C972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9E69-D829-4D30-8F15-2F4120F0A77E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18A-9EE7-44A9-BA0E-4111D8F4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B95-569A-49FA-AD8E-4F754789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BA1-CA60-46AF-BC30-A4988C99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DE6-D063-4AB0-9A31-6D912E59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A63-B8E4-44CB-B6C1-6A6FAD33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DD1-FA0F-41D4-8425-B66AC806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5D2-5316-4AA0-A7DA-77A2C5CC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4CF-A52D-4767-B682-95B12D6E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C41-0F84-47C8-AA94-40D71E32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CB6-5738-4D18-BE42-3A231801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57C-F0F4-421A-96C9-88045B48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7A4-BBE6-4A7F-94E3-0D8AFBE4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B177-8B6D-46CF-96CD-541C87AAE5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  <a:ea typeface="Arial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  <a:ea typeface="Arial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  <a:ea typeface="Arial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k</cp:lastModifiedBy>
  <dcterms:modified xsi:type="dcterms:W3CDTF">2018-07-21T10:09:41Z</dcterms:modified>
  <cp:revision>29</cp:revision>
  <dc:subject/>
  <dc:title>Slajd 1</dc:title>
</cp:coreProperties>
</file>