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007D-F730-4A97-A7AE-F9245AA563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832F-2617-43E0-BB2E-5E2E2279A20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5D8B-0B58-4B1E-8507-F8FE5532B5F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82AD-146C-4471-9FF4-11DEA96CEDE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352D-2853-4B2C-B7E1-3AB6D5AC043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B468-A712-49C8-9C98-139CC81AF54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F88-1092-43FF-9A02-4A0FE239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B7E-E62E-4285-8693-114E0317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4CB-12E4-4562-9DF1-04D334AA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7EE-0820-4D4B-BAE1-05D338C4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809-5987-4CE1-B66D-0892F195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579-C2C2-4B11-870C-D0566E04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B47-A95A-495D-B232-55F6A151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CD18-5295-42C1-9A08-C1AE8BB2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615-25AA-4009-8DB6-4318F896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89D-0D98-4AE0-AEEC-83AA59C5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529-1EAC-427A-830B-BB1A4AF9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C3B-AA95-4B33-8B0C-0DE7535A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CD0D-2A86-48FA-942C-C6D4D4AAB4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mniki</a:t>
            </a:r>
            <a:br>
              <a:rPr sz="6000"/>
            </a:br>
            <a:r>
              <a:rPr b="1" lang="pl-PL" sz="4000" spc="-1" strike="noStrike">
                <a:solidFill>
                  <a:srgbClr val="996600"/>
                </a:solidFill>
                <a:latin typeface="Goudy Stout"/>
              </a:rPr>
              <a:t>w</a:t>
            </a: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 </a:t>
            </a:r>
            <a:br>
              <a:rPr sz="6000"/>
            </a:b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ls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yrenka Warszawsk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4" descr="IM000348.JPG"/>
          <p:cNvPicPr/>
          <p:nvPr/>
        </p:nvPicPr>
        <p:blipFill>
          <a:blip r:embed="rId1"/>
          <a:srcRect l="22157" t="0" r="27891" b="0"/>
          <a:stretch/>
        </p:blipFill>
        <p:spPr>
          <a:xfrm>
            <a:off x="571680" y="1214280"/>
            <a:ext cx="335736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renka Warszawska jest symbolem Warszaw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j pomnik stoi nad brzegiem Wis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ryderyk Chop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3"/>
          <p:cNvSpPr/>
          <p:nvPr/>
        </p:nvSpPr>
        <p:spPr>
          <a:xfrm>
            <a:off x="4714920" y="250020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yderyk Chopin był polskim kompozytor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iani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en z najbardziej znanych pomników Chopina sto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arku Łazienkowskim w Warsza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az 3" descr="szopen.jpg"/>
          <p:cNvPicPr/>
          <p:nvPr/>
        </p:nvPicPr>
        <p:blipFill>
          <a:blip r:embed="rId1"/>
          <a:stretch/>
        </p:blipFill>
        <p:spPr>
          <a:xfrm>
            <a:off x="571680" y="1214280"/>
            <a:ext cx="3350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ontanna Neptun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ntanna Neptuna jest symbolem Gdań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zeźba przedstawia boga mórz i ocean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ept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az 6" descr="neptun.jpg"/>
          <p:cNvPicPr/>
          <p:nvPr/>
        </p:nvPicPr>
        <p:blipFill>
          <a:blip r:embed="rId1"/>
          <a:srcRect l="5714" t="0" r="2854" b="0"/>
          <a:stretch/>
        </p:blipFill>
        <p:spPr>
          <a:xfrm>
            <a:off x="571680" y="1214280"/>
            <a:ext cx="3429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mok Wawelsk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4572000" y="178596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moka Wawelskiego ustawiono na pamiątkę legen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 smoku, który gnębił krakowian za rządów króla Kr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toi przed wejściem do Smoczej Jamy, nad Wisł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ko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5" descr="smok1.jpg"/>
          <p:cNvPicPr/>
          <p:nvPr/>
        </p:nvPicPr>
        <p:blipFill>
          <a:blip r:embed="rId1"/>
          <a:srcRect l="9619" t="0" r="2127" b="0"/>
          <a:stretch/>
        </p:blipFill>
        <p:spPr>
          <a:xfrm>
            <a:off x="642960" y="1285920"/>
            <a:ext cx="3357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49640" y="30715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Goudy Stout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8840" y="4857480"/>
            <a:ext cx="62150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Prezentację przygotował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Grażyna Ko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07:42Z</dcterms:created>
  <dc:creator>Grazyna</dc:creator>
  <dc:description/>
  <dc:language>en-US</dc:language>
  <cp:lastModifiedBy>Grazyna</cp:lastModifiedBy>
  <dcterms:modified xsi:type="dcterms:W3CDTF">2010-02-16T18:50:41Z</dcterms:modified>
  <cp:revision>22</cp:revision>
  <dc:subject/>
  <dc:title>Slajd 1</dc:title>
</cp:coreProperties>
</file>