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DFDB-2048-42D3-A05F-1501BE99F84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88F5-6EFB-4022-A84E-CF6741920C6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AA28-01BF-4009-99A3-E19E2CC6358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8725-CD27-4D21-B751-0FD35E4F0D9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F03-F94A-4A94-BFB2-4A96207E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1AB-663A-4B07-9291-C6CA1F1E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DA59-4944-42D8-9F3E-7AC06EBD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0E59-FA6B-4CC3-8972-3BF7C306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0BC-EE17-4D82-9BE6-BA155BCE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67D-4221-48F0-B824-D423949D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7E8C-AAA9-4FD8-B4C1-9F5706A7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6ED1-3F57-498B-B899-C1A12F6A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9E1-FFB0-4CDC-B0DB-86A702B4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7FF-C80F-42D4-949B-2EFF4B6D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9DE-4749-456F-B354-D7D7DCBB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D75-7926-4EEB-AA66-13B08628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1A2C-FC27-4A8C-9F81-F58D4C11E7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00016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Środowisko </a:t>
            </a:r>
            <a:br>
              <a:rPr sz="8800"/>
            </a:b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przyrodnicz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572160" y="5214960"/>
            <a:ext cx="1109880" cy="121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0" y="5072040"/>
            <a:ext cx="1882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az 4" descr="IMG_1875.JPG"/>
          <p:cNvPicPr/>
          <p:nvPr/>
        </p:nvPicPr>
        <p:blipFill>
          <a:blip r:embed="rId1"/>
          <a:stretch/>
        </p:blipFill>
        <p:spPr>
          <a:xfrm>
            <a:off x="2143080" y="714240"/>
            <a:ext cx="3535560" cy="471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786280" y="3643200"/>
            <a:ext cx="2571840" cy="209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14200" y="3786120"/>
            <a:ext cx="1882800" cy="178596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17"/>
          <p:cNvSpPr/>
          <p:nvPr/>
        </p:nvSpPr>
        <p:spPr>
          <a:xfrm>
            <a:off x="285840" y="1071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az 5" descr="IMG_1895.JPG"/>
          <p:cNvPicPr/>
          <p:nvPr/>
        </p:nvPicPr>
        <p:blipFill>
          <a:blip r:embed="rId1"/>
          <a:stretch/>
        </p:blipFill>
        <p:spPr>
          <a:xfrm>
            <a:off x="2071800" y="1428840"/>
            <a:ext cx="4668840" cy="35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42920" y="4214880"/>
            <a:ext cx="1285920" cy="137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7500960" y="4643280"/>
            <a:ext cx="110952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rcRect l="0" t="0" r="48489" b="0"/>
          <a:stretch/>
        </p:blipFill>
        <p:spPr>
          <a:xfrm>
            <a:off x="714240" y="785880"/>
            <a:ext cx="928800" cy="8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715080" y="0"/>
            <a:ext cx="1827360" cy="307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6"/>
          <a:srcRect l="48489" t="0" r="0" b="0"/>
          <a:stretch/>
        </p:blipFill>
        <p:spPr>
          <a:xfrm>
            <a:off x="1857240" y="0"/>
            <a:ext cx="857520" cy="80820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7"/>
          <p:cNvSpPr/>
          <p:nvPr/>
        </p:nvSpPr>
        <p:spPr>
          <a:xfrm>
            <a:off x="3000240" y="5857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az 3" descr="łąka1.jpg"/>
          <p:cNvPicPr/>
          <p:nvPr/>
        </p:nvPicPr>
        <p:blipFill>
          <a:blip r:embed="rId1"/>
          <a:stretch/>
        </p:blipFill>
        <p:spPr>
          <a:xfrm>
            <a:off x="2143080" y="1500120"/>
            <a:ext cx="4635720" cy="34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 rot="1783800">
            <a:off x="7286400" y="785520"/>
            <a:ext cx="1357200" cy="158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 rot="2451000">
            <a:off x="361800" y="4664160"/>
            <a:ext cx="1357560" cy="158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 rot="3127200">
            <a:off x="7035840" y="4098600"/>
            <a:ext cx="1209600" cy="122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 rot="7575000">
            <a:off x="462960" y="669960"/>
            <a:ext cx="12096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az 5" descr="IMG_1831.JPG"/>
          <p:cNvPicPr/>
          <p:nvPr/>
        </p:nvPicPr>
        <p:blipFill>
          <a:blip r:embed="rId1"/>
          <a:stretch/>
        </p:blipFill>
        <p:spPr>
          <a:xfrm>
            <a:off x="2143080" y="1214280"/>
            <a:ext cx="4929120" cy="369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 rot="20397600">
            <a:off x="7719840" y="342576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 rot="20397600">
            <a:off x="7005600" y="521172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4"/>
          <a:stretch/>
        </p:blipFill>
        <p:spPr>
          <a:xfrm rot="2175000">
            <a:off x="1163160" y="3784320"/>
            <a:ext cx="9194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az 3" descr="las1.jpg"/>
          <p:cNvPicPr/>
          <p:nvPr/>
        </p:nvPicPr>
        <p:blipFill>
          <a:blip r:embed="rId1"/>
          <a:stretch/>
        </p:blipFill>
        <p:spPr>
          <a:xfrm>
            <a:off x="1714680" y="135720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72" name="Obraz 5" descr="drzewo1.bmp"/>
          <p:cNvPicPr/>
          <p:nvPr/>
        </p:nvPicPr>
        <p:blipFill>
          <a:blip r:embed="rId2"/>
          <a:stretch/>
        </p:blipFill>
        <p:spPr>
          <a:xfrm>
            <a:off x="0" y="2428920"/>
            <a:ext cx="1800360" cy="315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715080" y="2857680"/>
            <a:ext cx="21463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143840" y="4572000"/>
            <a:ext cx="2146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3:17:30Z</dcterms:created>
  <dc:creator>Grazyna</dc:creator>
  <dc:description/>
  <dc:language>en-US</dc:language>
  <cp:lastModifiedBy>Grazyna</cp:lastModifiedBy>
  <dcterms:modified xsi:type="dcterms:W3CDTF">2010-03-08T19:49:07Z</dcterms:modified>
  <cp:revision>24</cp:revision>
  <dc:subject/>
  <dc:title>Środowiska naturalne</dc:title>
</cp:coreProperties>
</file>