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433-C6B9-4074-9DAB-4AED9CCD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89AA-BAD0-45F4-806A-EA5FDAF8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219-F757-463A-888C-577805DB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96E-5CCB-4FA2-9AB0-548B759E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B1B-CBA9-4948-A801-2FFFA45C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0AA-9805-4430-A372-27924597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6C1-8FF5-4670-83F8-FF5A6134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2126-32A0-4494-AF8B-EE657E8F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E91-822D-497F-BDB5-F9B190A9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1E9-FEE3-4EA3-9B3C-4E0561CF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1EB-1203-4075-BE86-787617F2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C06E-E266-4353-9F7F-C5513F31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363D-59EA-48B0-99E3-86C9532901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2357280" y="1785960"/>
            <a:ext cx="4714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Calibri"/>
              </a:rPr>
              <a:t>Urządzenia elektrycz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ole tekstowe 6"/>
          <p:cNvSpPr/>
          <p:nvPr/>
        </p:nvSpPr>
        <p:spPr>
          <a:xfrm>
            <a:off x="2786040" y="528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" descr="lodowka.bmp"/>
          <p:cNvPicPr/>
          <p:nvPr/>
        </p:nvPicPr>
        <p:blipFill>
          <a:blip r:embed="rId1"/>
          <a:stretch/>
        </p:blipFill>
        <p:spPr>
          <a:xfrm>
            <a:off x="3484440" y="1000080"/>
            <a:ext cx="2175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2" descr="odkurzacz.bmp"/>
          <p:cNvPicPr/>
          <p:nvPr/>
        </p:nvPicPr>
        <p:blipFill>
          <a:blip r:embed="rId1"/>
          <a:stretch/>
        </p:blipFill>
        <p:spPr>
          <a:xfrm>
            <a:off x="2203560" y="1928880"/>
            <a:ext cx="47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az 2" descr="żelazko.bmp"/>
          <p:cNvPicPr/>
          <p:nvPr/>
        </p:nvPicPr>
        <p:blipFill>
          <a:blip r:embed="rId1"/>
          <a:stretch/>
        </p:blipFill>
        <p:spPr>
          <a:xfrm>
            <a:off x="2909880" y="1857240"/>
            <a:ext cx="3324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raz 2" descr="pralka.bmp"/>
          <p:cNvPicPr/>
          <p:nvPr/>
        </p:nvPicPr>
        <p:blipFill>
          <a:blip r:embed="rId1"/>
          <a:stretch/>
        </p:blipFill>
        <p:spPr>
          <a:xfrm>
            <a:off x="2843280" y="1442880"/>
            <a:ext cx="325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53:53Z</dcterms:created>
  <dc:creator>Grazyna</dc:creator>
  <dc:description/>
  <dc:language>en-US</dc:language>
  <cp:lastModifiedBy>Grazyna</cp:lastModifiedBy>
  <dcterms:modified xsi:type="dcterms:W3CDTF">2010-06-19T07:56:54Z</dcterms:modified>
  <cp:revision>13</cp:revision>
  <dc:subject/>
  <dc:title>Slajd 1</dc:title>
</cp:coreProperties>
</file>