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6867-A961-4464-AA86-D5EA948F05A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E541-F0AF-4C8A-BC5E-BBD4F4AA52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489F-F710-40D0-8008-6F375D5A13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9BB3-A979-4AF9-9499-98FD49725E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D91-C16A-47D8-97BC-61D289E6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B39-8FE7-4586-A34D-662BAC6D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38FE-908C-4C64-844B-50E47208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AA4B-38BE-4381-AF3A-5B464D6E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CB2-B8EA-4A73-A8BA-223D8AF3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6ED2-9CF7-4F1B-BADA-400C6295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402-0357-4DAF-8AB0-33221C9A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CFD-803F-42D3-9D72-7EDFE12A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956-4BF2-4DF7-92B3-85C0BA1B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DDD-5447-4454-820E-B65D9D3C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B976-6FD3-4800-BBCB-AD1BFC44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BA4-DC87-4150-8573-76D50543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6E35-24BE-49C2-B15A-9D8CD3F39F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Środowisko </a:t>
            </a:r>
            <a:br>
              <a:rPr sz="8800"/>
            </a:b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przyrodnicz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572160" y="5214960"/>
            <a:ext cx="1109880" cy="12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0" y="5072040"/>
            <a:ext cx="1882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4" descr="IMG_1875.JPG"/>
          <p:cNvPicPr/>
          <p:nvPr/>
        </p:nvPicPr>
        <p:blipFill>
          <a:blip r:embed="rId1"/>
          <a:stretch/>
        </p:blipFill>
        <p:spPr>
          <a:xfrm>
            <a:off x="2143080" y="71424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786280" y="3643200"/>
            <a:ext cx="2571840" cy="209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14200" y="3786120"/>
            <a:ext cx="188280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17"/>
          <p:cNvSpPr/>
          <p:nvPr/>
        </p:nvSpPr>
        <p:spPr>
          <a:xfrm>
            <a:off x="28584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5" descr="IMG_1895.JPG"/>
          <p:cNvPicPr/>
          <p:nvPr/>
        </p:nvPicPr>
        <p:blipFill>
          <a:blip r:embed="rId1"/>
          <a:stretch/>
        </p:blipFill>
        <p:spPr>
          <a:xfrm>
            <a:off x="2071800" y="1428840"/>
            <a:ext cx="466884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42920" y="4214880"/>
            <a:ext cx="1285920" cy="13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7500960" y="4643280"/>
            <a:ext cx="110952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rcRect l="0" t="0" r="48489" b="0"/>
          <a:stretch/>
        </p:blipFill>
        <p:spPr>
          <a:xfrm>
            <a:off x="714240" y="785880"/>
            <a:ext cx="928800" cy="8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715080" y="0"/>
            <a:ext cx="1827360" cy="30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6"/>
          <a:srcRect l="48489" t="0" r="0" b="0"/>
          <a:stretch/>
        </p:blipFill>
        <p:spPr>
          <a:xfrm>
            <a:off x="1857240" y="0"/>
            <a:ext cx="857520" cy="80820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7"/>
          <p:cNvSpPr/>
          <p:nvPr/>
        </p:nvSpPr>
        <p:spPr>
          <a:xfrm>
            <a:off x="3000240" y="5857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3" descr="łąka1.jpg"/>
          <p:cNvPicPr/>
          <p:nvPr/>
        </p:nvPicPr>
        <p:blipFill>
          <a:blip r:embed="rId1"/>
          <a:stretch/>
        </p:blipFill>
        <p:spPr>
          <a:xfrm>
            <a:off x="2143080" y="1500120"/>
            <a:ext cx="4635720" cy="34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 rot="1783800">
            <a:off x="7286400" y="785520"/>
            <a:ext cx="135720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 rot="2451000">
            <a:off x="361800" y="4664160"/>
            <a:ext cx="1357560" cy="158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 rot="3127200">
            <a:off x="7035840" y="4098600"/>
            <a:ext cx="1209600" cy="122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 rot="7575000">
            <a:off x="462960" y="669960"/>
            <a:ext cx="12096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5" descr="IMG_1831.JPG"/>
          <p:cNvPicPr/>
          <p:nvPr/>
        </p:nvPicPr>
        <p:blipFill>
          <a:blip r:embed="rId1"/>
          <a:stretch/>
        </p:blipFill>
        <p:spPr>
          <a:xfrm>
            <a:off x="2143080" y="1214280"/>
            <a:ext cx="4929120" cy="369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 rot="20397600">
            <a:off x="7719840" y="342576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 rot="20397600">
            <a:off x="7005600" y="521172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 rot="2175000">
            <a:off x="1163160" y="3784320"/>
            <a:ext cx="9194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az 3" descr="las1.jpg"/>
          <p:cNvPicPr/>
          <p:nvPr/>
        </p:nvPicPr>
        <p:blipFill>
          <a:blip r:embed="rId1"/>
          <a:stretch/>
        </p:blipFill>
        <p:spPr>
          <a:xfrm>
            <a:off x="1714680" y="135720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72" name="Obraz 5" descr="drzewo1.bmp"/>
          <p:cNvPicPr/>
          <p:nvPr/>
        </p:nvPicPr>
        <p:blipFill>
          <a:blip r:embed="rId2"/>
          <a:stretch/>
        </p:blipFill>
        <p:spPr>
          <a:xfrm>
            <a:off x="0" y="2428920"/>
            <a:ext cx="1800360" cy="31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715080" y="2857680"/>
            <a:ext cx="214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143840" y="4572000"/>
            <a:ext cx="2146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3:17:30Z</dcterms:created>
  <dc:creator>Grazyna</dc:creator>
  <dc:description/>
  <dc:language>en-US</dc:language>
  <cp:lastModifiedBy>Grazyna</cp:lastModifiedBy>
  <dcterms:modified xsi:type="dcterms:W3CDTF">2010-03-08T19:49:07Z</dcterms:modified>
  <cp:revision>24</cp:revision>
  <dc:subject/>
  <dc:title>Środowiska naturalne</dc:title>
</cp:coreProperties>
</file>