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B77436-170A-4779-BCD5-4DF0E6E1192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8AC68-895D-435A-9CDE-4398027D2C9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C3301-CBB5-4614-AFCE-782E7A9BEF4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B9C4E-686B-496F-9879-758BA2E4752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1B661-AF74-4D65-A5FC-9C72CEDBD28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6DF92-341F-4813-B164-F99C605955A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C3D86-EC3B-4604-977A-EC1C671F059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DFC-160B-4D5B-93BF-A4914808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4B7-9FB0-4480-AE41-0FFC4BBE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8EFFE-8F73-48C4-997E-04506F01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1C5ED-73CA-44BB-B0C9-88A738C3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9E16D-24DB-4323-9180-52878921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C124B-313B-4F9D-B8D3-627527F7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63E92-E314-48A6-9D8E-FB8B83A6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5C88E-9FBB-42C1-88F4-4CC74FA7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73936-2FE9-4455-8CD6-6C9048B6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8D615-DD53-4BB3-BA34-EA94C5F7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A61FA-E726-4770-9B26-F6A02F2B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9F4C0-1897-4425-BE89-853409CF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075-A16C-4CFA-97E8-321B4603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ADE98-8FD8-4D06-BA93-C7755494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4BC69-4510-46C6-A040-3090D945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34577-0339-4B57-B00F-63D1AB2B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95C9F-192B-4942-9272-9BE98278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29B02-E633-422D-9398-6C6777DB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5AEA6-2FDF-4BA7-9051-ED5E4F1E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595E6-7B79-4C6F-AC31-C3BB96DF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FF716-A14B-44A6-A65C-B0CDFC43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86C28-F535-4579-8EC2-76B7D5DF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5C8BF-A895-4FDC-9A0C-91282978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8C6-F688-412A-8DC6-45EC79DB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3FC9F-E2DA-49E6-B148-1FD85741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970E-EEA0-4365-9B01-2E58545C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186F-1C9B-4924-B402-5A26DE2A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48F9-16DA-4F88-A1BF-488B8094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656C-532B-4BCE-96C4-B4809DDB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28C6-341A-4D99-9BB6-CB10F328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8549-BA28-40F1-BAF8-40ED7F8F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E4B5-9025-4B54-A9BA-A6E1E522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639-14DA-4ADE-9F5F-604EB899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ED4A-6872-4256-8BB4-4AD672A0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85E6-0455-485B-A307-88A74E1F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1B7F-DF31-49CF-ACB0-CDD36ABB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0280-7DCB-44AE-9BE5-50E27510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B9D8-D7EF-401A-B2A3-6B7AC572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B67B0-9387-41EB-8A0B-FB12A4E8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5A961-E0B8-4D72-9C9C-F2436959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7626E-AB7F-427F-8DCC-38DAA5C7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DC346-4E62-4B23-9C1B-E1C85FD5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74335-4A44-4DD0-B71B-7B4002B2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9D4-77C1-4158-A913-59823FC3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28F73-343C-41DA-A0FB-022FDFCE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C250D-9AA4-4FB5-9945-1A3E7264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7760-BEB9-44E7-9FAC-F8A6132A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2E976-F731-4249-A465-415B1E83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07830-D207-41DF-82F2-BE700F4E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0F811-BAAB-4652-AFAB-CCA71688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2AD94-BA61-42DF-8380-52E641E8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58E78-9181-4054-8126-166C4FA7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07B82-1601-4F60-A2A5-2441D1BD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45782-1C11-47E7-BC9A-F0BDD439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0AB-26CD-44AC-966D-69C37C02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14FBA-BF87-44E4-828A-0F444F55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33C11-EE74-469B-BBDB-373FE99A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1B43B-9C1E-4B9D-A768-9BDCAD73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8738A-5DB1-4F86-A3FA-C45939FB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D05C7-B6BC-4E93-8BED-8920BFD2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BA388-7A3B-4B73-ACCA-0FCD1D07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68930-C437-4202-814D-02998167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5DB00-F650-4F2B-A598-C37A294B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93EDB-7010-472F-AC4E-D89973CD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44CB8-E291-4C91-84D9-C97B8158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CE8-1C05-46AA-801D-20767184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28769-0A3C-4125-9F08-A14E7962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2A463-051B-4634-A11B-4358D63A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728BE-05C7-4237-8B9D-4FC93F61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D75A0-4B36-43ED-9B19-30223B3E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F840F-AF60-4580-9D48-6007FD3F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EC778-8FBB-4CC9-8CCC-6171BEF8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83C07-B393-46B0-AB9B-D5529A6F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5B66D-88CD-4C21-BE66-20D545F8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ADBE8-E1FD-4372-8416-CB0034B5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4152C-30B5-4F69-8A13-4E1EAD92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259-1E50-4C1E-B9DD-C72BB673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98BDF-0977-476A-AA9C-935E3602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E022F-51BE-4C6B-8CD4-7BB05C77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70EAF-3583-4A0A-AA5F-3CA84586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71273-D00F-40BA-A56A-53B86347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7B0FB-61F1-4992-9C91-693353B3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561A8-C8AC-40FE-96A9-33166005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697D4-06E1-4F2D-A465-D854C23C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393DF-0094-4459-87DE-3E33B2AE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DCAEA-0D66-4C25-A191-204A5853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4E6FF-1B80-43E0-99AE-A86972BF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3B9-64DC-4D17-82DF-7ABBB8DF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AB637-8C8F-4B41-8F24-4914CF53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CEAC0-BFDA-4729-B3EB-97ADF461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A5885-E262-4BAF-8111-5FDE220A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54AF1-9446-4F03-BBBB-6673048E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F1D8C-EA19-4BF6-A9E4-5E3389B1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4A77C-E432-4D65-9205-00A08AA5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50015-5A55-461F-9104-384905DF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27823-DAD3-4507-9DC6-99D6F2E5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38E32-6C32-4BA3-AC4F-28F8FB59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4C447-14CC-4033-A951-478A5AE7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1006-D747-4924-BF1A-26CC4265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AD794-2307-4F11-9FC0-375F2AFB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3C25E-623F-47C2-8B22-38B0D96C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C2FD2-F1FE-4055-ADA5-624313BB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83E1C-7FE5-4CF1-9FD6-66CB552D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0D691-789D-400D-8482-7DAC3FB8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9496F-2B7E-4EBD-8D48-440D1352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E741A-48F4-4CF8-B9F0-D559CF26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B4343-B218-47B0-B7D8-414DDE96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3AF5A-D0EE-4A16-86F4-E5AEE386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AF8E4-E859-41F4-8846-458D6744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402-3182-44FA-905A-A2D4300B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9B845-497B-4964-9EC8-0B65EBC2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DDE43-9860-4D33-BE16-DD2BD199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C96F9-8223-487D-A0BA-12088BEC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4E74A-62EB-464F-995E-7BA8EC3E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360FC-C48C-4F8B-9D89-22DBEC4D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0081B-D3DD-4759-893D-F6AACD75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184DA-8702-495A-B637-5921FD4B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E29AF-DB4E-46CE-9880-7164B3DF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290FF-CAD4-47AE-B405-E9BEC223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5C272-9142-4D25-9098-6DBF2110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94E97-1DAF-41BB-8742-47EA72C9F397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F9A3C-3018-4C36-B450-2094090DF1CD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E29BF-3F5A-4496-883A-11660FD6D393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56D1B-45BE-4D85-AFA1-9BCF5682F56C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FFFA7-4C3B-43B4-A1B9-47F128AA18A2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68F87-D43A-4B9E-8A0E-33A0CB12B10D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85C57-8FCB-45FC-A8B7-FF6183B96585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828AD-2ED8-4197-B486-AEBDFF612499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F26C0-3D74-4013-A916-3818690B16E9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8943B-E119-4D04-98C5-18584E8ADF11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81040" y="99072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600" spc="-1" strike="noStrike">
                <a:solidFill>
                  <a:srgbClr val="366658"/>
                </a:solidFill>
                <a:latin typeface="Arial"/>
              </a:rPr>
              <a:t>TWORZENIE PREZENTACJI MULTIMEDIALNEJ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55280" y="3860280"/>
            <a:ext cx="781524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ill Sans MT"/>
              </a:rPr>
              <a:t>W SZEŚCIU KROKACH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Diagram 3" descr=""/>
          <p:cNvPicPr/>
          <p:nvPr/>
        </p:nvPicPr>
        <p:blipFill>
          <a:blip r:embed="rId1"/>
          <a:stretch/>
        </p:blipFill>
        <p:spPr>
          <a:xfrm>
            <a:off x="262080" y="1530360"/>
            <a:ext cx="8626320" cy="5718240"/>
          </a:xfrm>
          <a:prstGeom prst="rect">
            <a:avLst/>
          </a:prstGeom>
          <a:ln w="0">
            <a:noFill/>
          </a:ln>
        </p:spPr>
      </p:pic>
      <p:grpSp>
        <p:nvGrpSpPr>
          <p:cNvPr id="459" name="Grupa 2"/>
          <p:cNvGrpSpPr/>
          <p:nvPr/>
        </p:nvGrpSpPr>
        <p:grpSpPr>
          <a:xfrm>
            <a:off x="1424160" y="1336680"/>
            <a:ext cx="1276200" cy="1276200"/>
            <a:chOff x="1424160" y="1336680"/>
            <a:chExt cx="1276200" cy="1276200"/>
          </a:xfrm>
        </p:grpSpPr>
        <p:sp>
          <p:nvSpPr>
            <p:cNvPr id="460" name="Owal 20"/>
            <p:cNvSpPr/>
            <p:nvPr/>
          </p:nvSpPr>
          <p:spPr>
            <a:xfrm>
              <a:off x="1424160" y="1336680"/>
              <a:ext cx="1276200" cy="127620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1" name="Grafika 17" descr="Lista kontrolna"/>
            <p:cNvPicPr/>
            <p:nvPr/>
          </p:nvPicPr>
          <p:blipFill>
            <a:blip r:embed="rId2"/>
            <a:stretch/>
          </p:blipFill>
          <p:spPr>
            <a:xfrm>
              <a:off x="1604880" y="1517400"/>
              <a:ext cx="90000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2" name="Grupa 4"/>
          <p:cNvGrpSpPr/>
          <p:nvPr/>
        </p:nvGrpSpPr>
        <p:grpSpPr>
          <a:xfrm>
            <a:off x="7684920" y="1263600"/>
            <a:ext cx="1274760" cy="1276560"/>
            <a:chOff x="7684920" y="1263600"/>
            <a:chExt cx="1274760" cy="1276560"/>
          </a:xfrm>
        </p:grpSpPr>
        <p:sp>
          <p:nvSpPr>
            <p:cNvPr id="463" name="Owal 21"/>
            <p:cNvSpPr/>
            <p:nvPr/>
          </p:nvSpPr>
          <p:spPr>
            <a:xfrm>
              <a:off x="7684920" y="1263600"/>
              <a:ext cx="12747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4" name="Grafika 15" descr="Głośność"/>
            <p:cNvPicPr/>
            <p:nvPr/>
          </p:nvPicPr>
          <p:blipFill>
            <a:blip r:embed="rId3"/>
            <a:stretch/>
          </p:blipFill>
          <p:spPr>
            <a:xfrm>
              <a:off x="7924680" y="1450800"/>
              <a:ext cx="8985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upa 1"/>
          <p:cNvGrpSpPr/>
          <p:nvPr/>
        </p:nvGrpSpPr>
        <p:grpSpPr>
          <a:xfrm>
            <a:off x="4616280" y="1263600"/>
            <a:ext cx="1276560" cy="1276560"/>
            <a:chOff x="4616280" y="1263600"/>
            <a:chExt cx="1276560" cy="1276560"/>
          </a:xfrm>
        </p:grpSpPr>
        <p:sp>
          <p:nvSpPr>
            <p:cNvPr id="466" name="Owal 23"/>
            <p:cNvSpPr/>
            <p:nvPr/>
          </p:nvSpPr>
          <p:spPr>
            <a:xfrm>
              <a:off x="4616280" y="1263600"/>
              <a:ext cx="12765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7" name="Grafika 19" descr="Ekran projekcyjny"/>
            <p:cNvPicPr/>
            <p:nvPr/>
          </p:nvPicPr>
          <p:blipFill>
            <a:blip r:embed="rId4"/>
            <a:stretch/>
          </p:blipFill>
          <p:spPr>
            <a:xfrm>
              <a:off x="4806720" y="1446120"/>
              <a:ext cx="9003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Grupa 27"/>
          <p:cNvGrpSpPr/>
          <p:nvPr/>
        </p:nvGrpSpPr>
        <p:grpSpPr>
          <a:xfrm>
            <a:off x="7701120" y="3860640"/>
            <a:ext cx="1274760" cy="1276560"/>
            <a:chOff x="7701120" y="3860640"/>
            <a:chExt cx="1274760" cy="1276560"/>
          </a:xfrm>
        </p:grpSpPr>
        <p:sp>
          <p:nvSpPr>
            <p:cNvPr id="469" name="Owal 28"/>
            <p:cNvSpPr/>
            <p:nvPr/>
          </p:nvSpPr>
          <p:spPr>
            <a:xfrm>
              <a:off x="7701120" y="3860640"/>
              <a:ext cx="12747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0" name="Grafika 29" descr="Dyskietka"/>
            <p:cNvPicPr/>
            <p:nvPr/>
          </p:nvPicPr>
          <p:blipFill>
            <a:blip r:embed="rId5"/>
            <a:stretch/>
          </p:blipFill>
          <p:spPr>
            <a:xfrm>
              <a:off x="7888320" y="4047840"/>
              <a:ext cx="9003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Grupa 30"/>
          <p:cNvGrpSpPr/>
          <p:nvPr/>
        </p:nvGrpSpPr>
        <p:grpSpPr>
          <a:xfrm>
            <a:off x="4610160" y="3860640"/>
            <a:ext cx="1276200" cy="1276560"/>
            <a:chOff x="4610160" y="3860640"/>
            <a:chExt cx="1276200" cy="1276560"/>
          </a:xfrm>
        </p:grpSpPr>
        <p:sp>
          <p:nvSpPr>
            <p:cNvPr id="472" name="Owal 31"/>
            <p:cNvSpPr/>
            <p:nvPr/>
          </p:nvSpPr>
          <p:spPr>
            <a:xfrm>
              <a:off x="4610160" y="3860640"/>
              <a:ext cx="127620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3" name="Grafika 32" descr="Drukarka"/>
            <p:cNvPicPr/>
            <p:nvPr/>
          </p:nvPicPr>
          <p:blipFill>
            <a:blip r:embed="rId6"/>
            <a:stretch/>
          </p:blipFill>
          <p:spPr>
            <a:xfrm>
              <a:off x="4802040" y="4039920"/>
              <a:ext cx="901800" cy="9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Grupa 33"/>
          <p:cNvGrpSpPr/>
          <p:nvPr/>
        </p:nvGrpSpPr>
        <p:grpSpPr>
          <a:xfrm>
            <a:off x="1494000" y="3860640"/>
            <a:ext cx="1276200" cy="1276560"/>
            <a:chOff x="1494000" y="3860640"/>
            <a:chExt cx="1276200" cy="1276560"/>
          </a:xfrm>
        </p:grpSpPr>
        <p:sp>
          <p:nvSpPr>
            <p:cNvPr id="475" name="Owal 34"/>
            <p:cNvSpPr/>
            <p:nvPr/>
          </p:nvSpPr>
          <p:spPr>
            <a:xfrm>
              <a:off x="1494000" y="3860640"/>
              <a:ext cx="127620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6" name="Grafika 35" descr="Nauczyciel"/>
            <p:cNvPicPr/>
            <p:nvPr/>
          </p:nvPicPr>
          <p:blipFill>
            <a:blip r:embed="rId7"/>
            <a:stretch/>
          </p:blipFill>
          <p:spPr>
            <a:xfrm>
              <a:off x="1681200" y="4092480"/>
              <a:ext cx="901800" cy="9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ETAPY PRZYGOTOWYWANIA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ole tekstowe 5"/>
          <p:cNvSpPr/>
          <p:nvPr/>
        </p:nvSpPr>
        <p:spPr>
          <a:xfrm>
            <a:off x="3865680" y="6332400"/>
            <a:ext cx="15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(opcjonalni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1. PLANOWANIE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480" name="Prostokąt 29"/>
          <p:cNvGrpSpPr/>
          <p:nvPr/>
        </p:nvGrpSpPr>
        <p:grpSpPr>
          <a:xfrm>
            <a:off x="781200" y="2438280"/>
            <a:ext cx="1309680" cy="884520"/>
            <a:chOff x="781200" y="2438280"/>
            <a:chExt cx="1309680" cy="884520"/>
          </a:xfrm>
        </p:grpSpPr>
        <p:pic>
          <p:nvPicPr>
            <p:cNvPr id="481" name="Prostokąt 29" descr=""/>
            <p:cNvPicPr/>
            <p:nvPr/>
          </p:nvPicPr>
          <p:blipFill>
            <a:blip r:embed="rId1"/>
            <a:stretch/>
          </p:blipFill>
          <p:spPr>
            <a:xfrm>
              <a:off x="781200" y="2438280"/>
              <a:ext cx="130968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861840" y="2516040"/>
              <a:ext cx="1152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83" name="Prostokąt 30"/>
          <p:cNvGrpSpPr/>
          <p:nvPr/>
        </p:nvGrpSpPr>
        <p:grpSpPr>
          <a:xfrm>
            <a:off x="781200" y="3376440"/>
            <a:ext cx="1309680" cy="884520"/>
            <a:chOff x="781200" y="3376440"/>
            <a:chExt cx="1309680" cy="884520"/>
          </a:xfrm>
        </p:grpSpPr>
        <p:pic>
          <p:nvPicPr>
            <p:cNvPr id="484" name="Prostokąt 30" descr=""/>
            <p:cNvPicPr/>
            <p:nvPr/>
          </p:nvPicPr>
          <p:blipFill>
            <a:blip r:embed="rId2"/>
            <a:stretch/>
          </p:blipFill>
          <p:spPr>
            <a:xfrm>
              <a:off x="781200" y="3376440"/>
              <a:ext cx="130968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861840" y="3457440"/>
              <a:ext cx="1152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2. 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86" name="Grupa 31"/>
          <p:cNvGrpSpPr/>
          <p:nvPr/>
        </p:nvGrpSpPr>
        <p:grpSpPr>
          <a:xfrm>
            <a:off x="692280" y="4348080"/>
            <a:ext cx="1549440" cy="987480"/>
            <a:chOff x="692280" y="4348080"/>
            <a:chExt cx="1549440" cy="987480"/>
          </a:xfrm>
        </p:grpSpPr>
        <p:grpSp>
          <p:nvGrpSpPr>
            <p:cNvPr id="487" name="Prostokąt 32"/>
            <p:cNvGrpSpPr/>
            <p:nvPr/>
          </p:nvGrpSpPr>
          <p:grpSpPr>
            <a:xfrm>
              <a:off x="692280" y="4348080"/>
              <a:ext cx="1189800" cy="761760"/>
              <a:chOff x="692280" y="4348080"/>
              <a:chExt cx="1189800" cy="761760"/>
            </a:xfrm>
          </p:grpSpPr>
          <p:pic>
            <p:nvPicPr>
              <p:cNvPr id="488" name="Prostokąt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434808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761400" y="441756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90" name="Prostokąt 33"/>
            <p:cNvGrpSpPr/>
            <p:nvPr/>
          </p:nvGrpSpPr>
          <p:grpSpPr>
            <a:xfrm>
              <a:off x="858240" y="4442400"/>
              <a:ext cx="1189800" cy="761760"/>
              <a:chOff x="858240" y="4442400"/>
              <a:chExt cx="1189800" cy="761760"/>
            </a:xfrm>
          </p:grpSpPr>
          <p:pic>
            <p:nvPicPr>
              <p:cNvPr id="491" name="Prostokąt 33" descr=""/>
              <p:cNvPicPr/>
              <p:nvPr/>
            </p:nvPicPr>
            <p:blipFill>
              <a:blip r:embed="rId4"/>
              <a:stretch/>
            </p:blipFill>
            <p:spPr>
              <a:xfrm>
                <a:off x="858240" y="444240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929880" y="450972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93" name="Prostokąt 34"/>
            <p:cNvGrpSpPr/>
            <p:nvPr/>
          </p:nvGrpSpPr>
          <p:grpSpPr>
            <a:xfrm>
              <a:off x="1051920" y="4573800"/>
              <a:ext cx="1189800" cy="761760"/>
              <a:chOff x="1051920" y="4573800"/>
              <a:chExt cx="1189800" cy="761760"/>
            </a:xfrm>
          </p:grpSpPr>
          <p:pic>
            <p:nvPicPr>
              <p:cNvPr id="494" name="Prostokąt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51920" y="457380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1121760" y="464256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pl-PL" sz="1800" spc="-1" strike="noStrike">
                    <a:solidFill>
                      <a:srgbClr val="366658"/>
                    </a:solidFill>
                    <a:latin typeface="Arial"/>
                    <a:ea typeface="Arial"/>
                  </a:rPr>
                  <a:t>3. do n-1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496" name="Prostokąt 37"/>
          <p:cNvGrpSpPr/>
          <p:nvPr/>
        </p:nvGrpSpPr>
        <p:grpSpPr>
          <a:xfrm>
            <a:off x="781200" y="5456160"/>
            <a:ext cx="1309680" cy="884160"/>
            <a:chOff x="781200" y="5456160"/>
            <a:chExt cx="1309680" cy="884160"/>
          </a:xfrm>
        </p:grpSpPr>
        <p:pic>
          <p:nvPicPr>
            <p:cNvPr id="497" name="Prostokąt 37" descr=""/>
            <p:cNvPicPr/>
            <p:nvPr/>
          </p:nvPicPr>
          <p:blipFill>
            <a:blip r:embed="rId6"/>
            <a:stretch/>
          </p:blipFill>
          <p:spPr>
            <a:xfrm>
              <a:off x="781200" y="5456160"/>
              <a:ext cx="13096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861840" y="5535720"/>
              <a:ext cx="11527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99" name="pole tekstowe 20"/>
          <p:cNvSpPr/>
          <p:nvPr/>
        </p:nvSpPr>
        <p:spPr>
          <a:xfrm>
            <a:off x="2705040" y="2570040"/>
            <a:ext cx="54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ytuł i ewentualnie podtytuł oraz autor prezenta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ole tekstowe 20"/>
          <p:cNvSpPr/>
          <p:nvPr/>
        </p:nvSpPr>
        <p:spPr>
          <a:xfrm>
            <a:off x="2641680" y="3495600"/>
            <a:ext cx="54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stęp, spis treści prezentacji (np. w formie nawigacji po głównych punktach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ole tekstowe 20"/>
          <p:cNvSpPr/>
          <p:nvPr/>
        </p:nvSpPr>
        <p:spPr>
          <a:xfrm>
            <a:off x="2682720" y="4618080"/>
            <a:ext cx="50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łaściwa treść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ole tekstowe 20"/>
          <p:cNvSpPr/>
          <p:nvPr/>
        </p:nvSpPr>
        <p:spPr>
          <a:xfrm>
            <a:off x="2617920" y="5457960"/>
            <a:ext cx="54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sumowanie, dane o autorze, dane kontaktowe, podziękowania itp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3" name="Grafika 57" descr="Grupa"/>
          <p:cNvPicPr/>
          <p:nvPr/>
        </p:nvPicPr>
        <p:blipFill>
          <a:blip r:embed="rId7"/>
          <a:stretch/>
        </p:blipFill>
        <p:spPr>
          <a:xfrm>
            <a:off x="5388120" y="1254240"/>
            <a:ext cx="965160" cy="965160"/>
          </a:xfrm>
          <a:prstGeom prst="rect">
            <a:avLst/>
          </a:prstGeom>
          <a:ln w="0">
            <a:noFill/>
          </a:ln>
        </p:spPr>
      </p:pic>
      <p:pic>
        <p:nvPicPr>
          <p:cNvPr id="504" name="Grafika 58" descr="Dokument"/>
          <p:cNvPicPr/>
          <p:nvPr/>
        </p:nvPicPr>
        <p:blipFill>
          <a:blip r:embed="rId8"/>
          <a:stretch/>
        </p:blipFill>
        <p:spPr>
          <a:xfrm>
            <a:off x="6357960" y="1476360"/>
            <a:ext cx="704880" cy="703440"/>
          </a:xfrm>
          <a:prstGeom prst="rect">
            <a:avLst/>
          </a:prstGeom>
          <a:ln w="0">
            <a:noFill/>
          </a:ln>
        </p:spPr>
      </p:pic>
      <p:sp>
        <p:nvSpPr>
          <p:cNvPr id="505" name="Strzałka: pięciokąt 59"/>
          <p:cNvSpPr/>
          <p:nvPr/>
        </p:nvSpPr>
        <p:spPr>
          <a:xfrm>
            <a:off x="592200" y="1476360"/>
            <a:ext cx="4124160" cy="647640"/>
          </a:xfrm>
          <a:custGeom>
            <a:avLst/>
            <a:gdLst>
              <a:gd name="textAreaLeft" fmla="*/ 0 w 4124160"/>
              <a:gd name="textAreaRight" fmla="*/ 4124520 w 41241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4" y="0"/>
                </a:lnTo>
                <a:lnTo>
                  <a:pt x="21600" y="10800"/>
                </a:lnTo>
                <a:lnTo>
                  <a:pt x="1990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stosuj prezentację do odbiorców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i zaplanuj zawartość merytoryczną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Strzałka: pagon 60"/>
          <p:cNvSpPr/>
          <p:nvPr/>
        </p:nvSpPr>
        <p:spPr>
          <a:xfrm>
            <a:off x="4545000" y="1476360"/>
            <a:ext cx="646200" cy="631800"/>
          </a:xfrm>
          <a:custGeom>
            <a:avLst/>
            <a:gdLst>
              <a:gd name="textAreaLeft" fmla="*/ 0 w 646200"/>
              <a:gd name="textAreaRight" fmla="*/ 646560 w 64620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39" y="0"/>
                </a:lnTo>
                <a:lnTo>
                  <a:pt x="21600" y="10800"/>
                </a:lnTo>
                <a:lnTo>
                  <a:pt x="11039" y="21600"/>
                </a:lnTo>
                <a:lnTo>
                  <a:pt x="0" y="21600"/>
                </a:lnTo>
                <a:lnTo>
                  <a:pt x="10561" y="10800"/>
                </a:lnTo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Owal 61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8" name="Grafika 62" descr="Lista kontrolna"/>
          <p:cNvPicPr/>
          <p:nvPr/>
        </p:nvPicPr>
        <p:blipFill>
          <a:blip r:embed="rId9"/>
          <a:stretch/>
        </p:blipFill>
        <p:spPr>
          <a:xfrm>
            <a:off x="8185320" y="376200"/>
            <a:ext cx="574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2. TWORZENIE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Owal 35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1" name="Grafika 36" descr="Ekran projekcyjny"/>
          <p:cNvPicPr/>
          <p:nvPr/>
        </p:nvPicPr>
        <p:blipFill>
          <a:blip r:embed="rId1"/>
          <a:stretch/>
        </p:blipFill>
        <p:spPr>
          <a:xfrm>
            <a:off x="8193240" y="390600"/>
            <a:ext cx="574560" cy="576360"/>
          </a:xfrm>
          <a:prstGeom prst="rect">
            <a:avLst/>
          </a:prstGeom>
          <a:ln w="0">
            <a:noFill/>
          </a:ln>
        </p:spPr>
      </p:pic>
      <p:pic>
        <p:nvPicPr>
          <p:cNvPr id="512" name="Diagram 4" descr=""/>
          <p:cNvPicPr/>
          <p:nvPr/>
        </p:nvPicPr>
        <p:blipFill>
          <a:blip r:embed="rId2"/>
          <a:stretch/>
        </p:blipFill>
        <p:spPr>
          <a:xfrm>
            <a:off x="615960" y="1785960"/>
            <a:ext cx="3541680" cy="4200480"/>
          </a:xfrm>
          <a:prstGeom prst="rect">
            <a:avLst/>
          </a:prstGeom>
          <a:ln w="0">
            <a:noFill/>
          </a:ln>
        </p:spPr>
      </p:pic>
      <p:sp>
        <p:nvSpPr>
          <p:cNvPr id="513" name="Prostokąt 14"/>
          <p:cNvSpPr/>
          <p:nvPr/>
        </p:nvSpPr>
        <p:spPr>
          <a:xfrm>
            <a:off x="5364000" y="183204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lik/N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lub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rojektowanie/Motyw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4" name="Grupa 19"/>
          <p:cNvGrpSpPr/>
          <p:nvPr/>
        </p:nvGrpSpPr>
        <p:grpSpPr>
          <a:xfrm>
            <a:off x="3913200" y="2844720"/>
            <a:ext cx="1257120" cy="925560"/>
            <a:chOff x="3913200" y="2844720"/>
            <a:chExt cx="1257120" cy="925560"/>
          </a:xfrm>
        </p:grpSpPr>
        <p:sp>
          <p:nvSpPr>
            <p:cNvPr id="515" name="Prostokąt: zaokrąglone rogi 17"/>
            <p:cNvSpPr/>
            <p:nvPr/>
          </p:nvSpPr>
          <p:spPr>
            <a:xfrm>
              <a:off x="3913200" y="2844720"/>
              <a:ext cx="12571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16" name="Grupa 12"/>
            <p:cNvGrpSpPr/>
            <p:nvPr/>
          </p:nvGrpSpPr>
          <p:grpSpPr>
            <a:xfrm>
              <a:off x="3954600" y="2879280"/>
              <a:ext cx="1100160" cy="869400"/>
              <a:chOff x="3954600" y="2879280"/>
              <a:chExt cx="1100160" cy="869400"/>
            </a:xfrm>
          </p:grpSpPr>
          <p:pic>
            <p:nvPicPr>
              <p:cNvPr id="517" name="Grafika 38" descr="Dokument"/>
              <p:cNvPicPr/>
              <p:nvPr/>
            </p:nvPicPr>
            <p:blipFill>
              <a:blip r:embed="rId3"/>
              <a:stretch/>
            </p:blipFill>
            <p:spPr>
              <a:xfrm rot="21288600">
                <a:off x="3980160" y="2988720"/>
                <a:ext cx="593640" cy="59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8" name="Grupa 39"/>
              <p:cNvGrpSpPr/>
              <p:nvPr/>
            </p:nvGrpSpPr>
            <p:grpSpPr>
              <a:xfrm>
                <a:off x="4451040" y="2879280"/>
                <a:ext cx="603720" cy="869400"/>
                <a:chOff x="4451040" y="2879280"/>
                <a:chExt cx="603720" cy="869400"/>
              </a:xfrm>
            </p:grpSpPr>
            <p:pic>
              <p:nvPicPr>
                <p:cNvPr id="519" name="Grafika 40" descr="Paleta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2080" y="3145680"/>
                  <a:ext cx="562680" cy="60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Grafika 41" descr="Mały pędze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451040" y="2879280"/>
                  <a:ext cx="562680" cy="603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521" name="Grupa 23"/>
          <p:cNvGrpSpPr/>
          <p:nvPr/>
        </p:nvGrpSpPr>
        <p:grpSpPr>
          <a:xfrm>
            <a:off x="3886200" y="1700280"/>
            <a:ext cx="1258920" cy="925560"/>
            <a:chOff x="3886200" y="1700280"/>
            <a:chExt cx="1258920" cy="925560"/>
          </a:xfrm>
        </p:grpSpPr>
        <p:sp>
          <p:nvSpPr>
            <p:cNvPr id="522" name="Prostokąt: zaokrąglone rogi 45"/>
            <p:cNvSpPr/>
            <p:nvPr/>
          </p:nvSpPr>
          <p:spPr>
            <a:xfrm>
              <a:off x="3886200" y="170028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523" name="Grafika 18" descr="Rolka filmu"/>
            <p:cNvPicPr/>
            <p:nvPr/>
          </p:nvPicPr>
          <p:blipFill>
            <a:blip r:embed="rId6"/>
            <a:stretch/>
          </p:blipFill>
          <p:spPr>
            <a:xfrm>
              <a:off x="4170240" y="1839960"/>
              <a:ext cx="615960" cy="61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4" name="Grupa 21"/>
          <p:cNvGrpSpPr/>
          <p:nvPr/>
        </p:nvGrpSpPr>
        <p:grpSpPr>
          <a:xfrm>
            <a:off x="3886200" y="3979800"/>
            <a:ext cx="1258920" cy="925560"/>
            <a:chOff x="3886200" y="3979800"/>
            <a:chExt cx="1258920" cy="925560"/>
          </a:xfrm>
        </p:grpSpPr>
        <p:sp>
          <p:nvSpPr>
            <p:cNvPr id="525" name="Prostokąt: zaokrąglone rogi 46"/>
            <p:cNvSpPr/>
            <p:nvPr/>
          </p:nvSpPr>
          <p:spPr>
            <a:xfrm>
              <a:off x="3886200" y="397980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26" name="Grupa 42"/>
            <p:cNvGrpSpPr/>
            <p:nvPr/>
          </p:nvGrpSpPr>
          <p:grpSpPr>
            <a:xfrm>
              <a:off x="4029120" y="4033440"/>
              <a:ext cx="911160" cy="847080"/>
              <a:chOff x="4029120" y="4033440"/>
              <a:chExt cx="911160" cy="847080"/>
            </a:xfrm>
          </p:grpSpPr>
          <p:pic>
            <p:nvPicPr>
              <p:cNvPr id="527" name="Grafika 43" descr="Chodzenie"/>
              <p:cNvPicPr/>
              <p:nvPr/>
            </p:nvPicPr>
            <p:blipFill>
              <a:blip r:embed="rId7"/>
              <a:stretch/>
            </p:blipFill>
            <p:spPr>
              <a:xfrm>
                <a:off x="4029120" y="4033440"/>
                <a:ext cx="681120" cy="68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Grafika 44" descr="Bieg"/>
              <p:cNvPicPr/>
              <p:nvPr/>
            </p:nvPicPr>
            <p:blipFill>
              <a:blip r:embed="rId8"/>
              <a:stretch/>
            </p:blipFill>
            <p:spPr>
              <a:xfrm>
                <a:off x="4333680" y="4275000"/>
                <a:ext cx="606600" cy="605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9" name="Prostokąt 47"/>
          <p:cNvSpPr/>
          <p:nvPr/>
        </p:nvSpPr>
        <p:spPr>
          <a:xfrm>
            <a:off x="5364000" y="291924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stawia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Kształ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Ik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SmartAr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ykr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30" name="Grupa 25"/>
          <p:cNvGrpSpPr/>
          <p:nvPr/>
        </p:nvGrpSpPr>
        <p:grpSpPr>
          <a:xfrm>
            <a:off x="3886200" y="5076720"/>
            <a:ext cx="1258920" cy="925560"/>
            <a:chOff x="3886200" y="5076720"/>
            <a:chExt cx="1258920" cy="925560"/>
          </a:xfrm>
        </p:grpSpPr>
        <p:sp>
          <p:nvSpPr>
            <p:cNvPr id="531" name="Prostokąt: zaokrąglone rogi 50"/>
            <p:cNvSpPr/>
            <p:nvPr/>
          </p:nvSpPr>
          <p:spPr>
            <a:xfrm>
              <a:off x="3886200" y="507672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32" name="Grupa 24"/>
            <p:cNvGrpSpPr/>
            <p:nvPr/>
          </p:nvGrpSpPr>
          <p:grpSpPr>
            <a:xfrm>
              <a:off x="3983400" y="5197680"/>
              <a:ext cx="1061280" cy="741600"/>
              <a:chOff x="3983400" y="5197680"/>
              <a:chExt cx="1061280" cy="741600"/>
            </a:xfrm>
          </p:grpSpPr>
          <p:pic>
            <p:nvPicPr>
              <p:cNvPr id="533" name="Grafika 48" descr="Puzzle"/>
              <p:cNvPicPr/>
              <p:nvPr/>
            </p:nvPicPr>
            <p:blipFill>
              <a:blip r:embed="rId9"/>
              <a:stretch/>
            </p:blipFill>
            <p:spPr>
              <a:xfrm>
                <a:off x="3983400" y="5197680"/>
                <a:ext cx="620280" cy="61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Grafika 49" descr="Budzik"/>
              <p:cNvPicPr/>
              <p:nvPr/>
            </p:nvPicPr>
            <p:blipFill>
              <a:blip r:embed="rId10"/>
              <a:stretch/>
            </p:blipFill>
            <p:spPr>
              <a:xfrm>
                <a:off x="4424400" y="5319720"/>
                <a:ext cx="620280" cy="619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rostokąt 51"/>
          <p:cNvSpPr/>
          <p:nvPr/>
        </p:nvSpPr>
        <p:spPr>
          <a:xfrm>
            <a:off x="5364000" y="4067280"/>
            <a:ext cx="39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Animacj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Okienko anim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Chronometraż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rostokąt 52"/>
          <p:cNvSpPr/>
          <p:nvPr/>
        </p:nvSpPr>
        <p:spPr>
          <a:xfrm>
            <a:off x="5364000" y="5202360"/>
            <a:ext cx="35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Shif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 +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Ente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Ctr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 + strzałka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Linie siat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ołoże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yrówna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Rozmieść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3. DODAWANIE DŹWIĘKÓW I FILMÓW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Uatrakcyjnij prezentację dodając multimedi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Owal 9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9" name="Grafika 10" descr="Głośność"/>
          <p:cNvPicPr/>
          <p:nvPr/>
        </p:nvPicPr>
        <p:blipFill>
          <a:blip r:embed="rId1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40" name="pole tekstowe 8"/>
          <p:cNvSpPr/>
          <p:nvPr/>
        </p:nvSpPr>
        <p:spPr>
          <a:xfrm>
            <a:off x="6159600" y="219564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j dźwię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ole tekstowe 11"/>
          <p:cNvSpPr/>
          <p:nvPr/>
        </p:nvSpPr>
        <p:spPr>
          <a:xfrm>
            <a:off x="3200400" y="504036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j film, np. nagraną zawartość ekran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42" name="Grupa 19"/>
          <p:cNvGrpSpPr/>
          <p:nvPr/>
        </p:nvGrpSpPr>
        <p:grpSpPr>
          <a:xfrm>
            <a:off x="2006640" y="2055960"/>
            <a:ext cx="3600360" cy="2225520"/>
            <a:chOff x="2006640" y="2055960"/>
            <a:chExt cx="3600360" cy="2225520"/>
          </a:xfrm>
        </p:grpSpPr>
        <p:sp>
          <p:nvSpPr>
            <p:cNvPr id="543" name="pole tekstowe 6"/>
            <p:cNvSpPr/>
            <p:nvPr/>
          </p:nvSpPr>
          <p:spPr>
            <a:xfrm>
              <a:off x="2006640" y="2055960"/>
              <a:ext cx="3600360" cy="22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8cb6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544" name="Obraz 6" descr=""/>
            <p:cNvPicPr/>
            <p:nvPr/>
          </p:nvPicPr>
          <p:blipFill>
            <a:blip r:embed="rId2"/>
            <a:stretch/>
          </p:blipFill>
          <p:spPr>
            <a:xfrm>
              <a:off x="2047320" y="2286360"/>
              <a:ext cx="115200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Obraz 7" descr=""/>
            <p:cNvPicPr/>
            <p:nvPr/>
          </p:nvPicPr>
          <p:blipFill>
            <a:blip r:embed="rId3"/>
            <a:stretch/>
          </p:blipFill>
          <p:spPr>
            <a:xfrm>
              <a:off x="2154960" y="2760480"/>
              <a:ext cx="2743560" cy="1335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46" name="Łącznik prosty ze strzałką 13"/>
          <p:cNvCxnSpPr/>
          <p:nvPr/>
        </p:nvCxnSpPr>
        <p:spPr>
          <a:xfrm flipV="1">
            <a:off x="3404880" y="2439720"/>
            <a:ext cx="2680200" cy="41184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cxnSp>
        <p:nvCxnSpPr>
          <p:cNvPr id="547" name="Łącznik prosty ze strzałką 15"/>
          <p:cNvCxnSpPr/>
          <p:nvPr/>
        </p:nvCxnSpPr>
        <p:spPr>
          <a:xfrm>
            <a:off x="4713120" y="3309480"/>
            <a:ext cx="2151720" cy="43596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cxnSp>
        <p:nvCxnSpPr>
          <p:cNvPr id="548" name="Łącznik prosty ze strzałką 17"/>
          <p:cNvCxnSpPr>
            <a:stCxn id="545" idx="1"/>
          </p:cNvCxnSpPr>
          <p:nvPr/>
        </p:nvCxnSpPr>
        <p:spPr>
          <a:xfrm flipH="1">
            <a:off x="1437840" y="3427200"/>
            <a:ext cx="717840" cy="100692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pic>
        <p:nvPicPr>
          <p:cNvPr id="549" name="Obraz 29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2558880" cy="203508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pic>
        <p:nvPicPr>
          <p:cNvPr id="550" name="Obraz 31" descr=""/>
          <p:cNvPicPr/>
          <p:nvPr/>
        </p:nvPicPr>
        <p:blipFill>
          <a:blip r:embed="rId5"/>
          <a:stretch/>
        </p:blipFill>
        <p:spPr>
          <a:xfrm>
            <a:off x="6512040" y="3860640"/>
            <a:ext cx="2368440" cy="201960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pic>
        <p:nvPicPr>
          <p:cNvPr id="551" name="Obraz 33" descr=""/>
          <p:cNvPicPr/>
          <p:nvPr/>
        </p:nvPicPr>
        <p:blipFill>
          <a:blip r:embed="rId6"/>
          <a:stretch/>
        </p:blipFill>
        <p:spPr>
          <a:xfrm>
            <a:off x="7696080" y="2116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4. ZAPISYWANIE PREZENTACJI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Formaty i ich zastosowani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rostokąt: zaokrąglone rogi 7"/>
          <p:cNvSpPr/>
          <p:nvPr/>
        </p:nvSpPr>
        <p:spPr>
          <a:xfrm>
            <a:off x="851040" y="2476440"/>
            <a:ext cx="33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żliwość późniejszej edycji prezenta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zentowanie przez prelegent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rostokąt: zaokrąglone rogi 6"/>
          <p:cNvSpPr/>
          <p:nvPr/>
        </p:nvSpPr>
        <p:spPr>
          <a:xfrm>
            <a:off x="468360" y="1623960"/>
            <a:ext cx="2808360" cy="119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ezentacja programu Microsoft PowerPo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rozszerzenie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tx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rostokąt: zaokrąglone rogi 12"/>
          <p:cNvSpPr/>
          <p:nvPr/>
        </p:nvSpPr>
        <p:spPr>
          <a:xfrm>
            <a:off x="5172120" y="2492280"/>
            <a:ext cx="33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zentacja samouruchamiająca się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możliwości edy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rostokąt: zaokrąglone rogi 13"/>
          <p:cNvSpPr/>
          <p:nvPr/>
        </p:nvSpPr>
        <p:spPr>
          <a:xfrm>
            <a:off x="4834080" y="1623960"/>
            <a:ext cx="2896920" cy="1190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kaz programu Microsoft PowerPoint (rozszerzenie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s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sx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rostokąt: zaokrąglone rogi 14"/>
          <p:cNvSpPr/>
          <p:nvPr/>
        </p:nvSpPr>
        <p:spPr>
          <a:xfrm>
            <a:off x="806400" y="4941720"/>
            <a:ext cx="3348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ksport jednego lub wszystkich slajdów do plików graficznyc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rostokąt: zaokrąglone rogi 15"/>
          <p:cNvSpPr/>
          <p:nvPr/>
        </p:nvSpPr>
        <p:spPr>
          <a:xfrm>
            <a:off x="468360" y="4346640"/>
            <a:ext cx="25192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ma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IF, JPG, BMP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rostokąt: zaokrąglone rogi 16"/>
          <p:cNvSpPr/>
          <p:nvPr/>
        </p:nvSpPr>
        <p:spPr>
          <a:xfrm>
            <a:off x="5172120" y="4941720"/>
            <a:ext cx="3348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 obejrzenie slajdów (bez animacji) przy braku zainstalowanego programu MS Power Po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rostokąt: zaokrąglone rogi 17"/>
          <p:cNvSpPr/>
          <p:nvPr/>
        </p:nvSpPr>
        <p:spPr>
          <a:xfrm>
            <a:off x="4834080" y="4346640"/>
            <a:ext cx="25192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ma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Owal 18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" name="Grafika 19" descr="Dyskietka"/>
          <p:cNvPicPr/>
          <p:nvPr/>
        </p:nvPicPr>
        <p:blipFill>
          <a:blip r:embed="rId1"/>
          <a:stretch/>
        </p:blipFill>
        <p:spPr>
          <a:xfrm>
            <a:off x="8194680" y="39528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Obraz 4" descr=""/>
          <p:cNvPicPr/>
          <p:nvPr/>
        </p:nvPicPr>
        <p:blipFill>
          <a:blip r:embed="rId1"/>
          <a:stretch/>
        </p:blipFill>
        <p:spPr>
          <a:xfrm>
            <a:off x="2452680" y="2276640"/>
            <a:ext cx="4067280" cy="405756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sp>
        <p:nvSpPr>
          <p:cNvPr id="564" name="Prostokąt: zaokrąglone rogi 2"/>
          <p:cNvSpPr/>
          <p:nvPr/>
        </p:nvSpPr>
        <p:spPr>
          <a:xfrm>
            <a:off x="179280" y="2419200"/>
            <a:ext cx="2076480" cy="108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5. DRUKOWANIE MATERIAŁÓW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NFORMACYJNYCH I NOTATEK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6" name="Owal 6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Grafika 7" descr="Drukarka"/>
          <p:cNvPicPr/>
          <p:nvPr/>
        </p:nvPicPr>
        <p:blipFill>
          <a:blip r:embed="rId2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68" name="Prostokąt: zaokrąglone rogi 10"/>
          <p:cNvSpPr/>
          <p:nvPr/>
        </p:nvSpPr>
        <p:spPr>
          <a:xfrm>
            <a:off x="230040" y="5084640"/>
            <a:ext cx="3046680" cy="16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Objaśnienie: linia bez obramowania 15"/>
          <p:cNvSpPr/>
          <p:nvPr/>
        </p:nvSpPr>
        <p:spPr>
          <a:xfrm flipH="1">
            <a:off x="250920" y="2276640"/>
            <a:ext cx="1860480" cy="13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204" y="13619"/>
                </a:moveTo>
                <a:lnTo>
                  <a:pt x="-2778" y="11171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lajdy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– jeden slajd na jednej stroni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Objaśnienie: linia bez obramowania 16"/>
          <p:cNvSpPr/>
          <p:nvPr/>
        </p:nvSpPr>
        <p:spPr>
          <a:xfrm flipH="1">
            <a:off x="250920" y="5229360"/>
            <a:ext cx="3168720" cy="13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47" y="-12429"/>
                </a:moveTo>
                <a:lnTo>
                  <a:pt x="368" y="7049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Materiały informacyjne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pie slajdów.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 jednej stronie może być kilka slajdów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rostokąt: zaokrąglone rogi 11"/>
          <p:cNvSpPr/>
          <p:nvPr/>
        </p:nvSpPr>
        <p:spPr>
          <a:xfrm>
            <a:off x="6539040" y="1482840"/>
            <a:ext cx="2185920" cy="11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rostokąt: zaokrąglone rogi 12"/>
          <p:cNvSpPr/>
          <p:nvPr/>
        </p:nvSpPr>
        <p:spPr>
          <a:xfrm>
            <a:off x="6875640" y="4200480"/>
            <a:ext cx="1849320" cy="1965240"/>
          </a:xfrm>
          <a:custGeom>
            <a:avLst/>
            <a:gdLst>
              <a:gd name="textAreaLeft" fmla="*/ 90000 w 1849320"/>
              <a:gd name="textAreaRight" fmla="*/ 1759320 w 1849320"/>
              <a:gd name="textAreaTop" fmla="*/ 90000 h 1965240"/>
              <a:gd name="textAreaBottom" fmla="*/ 1875240 h 1965240"/>
            </a:gdLst>
            <a:ahLst/>
            <a:rect l="textAreaLeft" t="textAreaTop" r="textAreaRight" b="textAreaBottom"/>
            <a:pathLst>
              <a:path w="21600" h="22954">
                <a:moveTo>
                  <a:pt x="3600" y="0"/>
                </a:moveTo>
                <a:arcTo wR="3600" hR="3600" stAng="16200000" swAng="-5400000"/>
                <a:lnTo>
                  <a:pt x="0" y="19354"/>
                </a:lnTo>
                <a:arcTo wR="3600" hR="3600" stAng="10800000" swAng="-5400000"/>
                <a:lnTo>
                  <a:pt x="18000" y="229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Objaśnienie: linia bez obramowania 17"/>
          <p:cNvSpPr/>
          <p:nvPr/>
        </p:nvSpPr>
        <p:spPr>
          <a:xfrm>
            <a:off x="6576840" y="1463760"/>
            <a:ext cx="2251080" cy="11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00" y="33293"/>
                </a:moveTo>
                <a:lnTo>
                  <a:pt x="-1909" y="11660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rony notatek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moc dla prelegent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Objaśnienie: linia bez obramowania 18"/>
          <p:cNvSpPr/>
          <p:nvPr/>
        </p:nvSpPr>
        <p:spPr>
          <a:xfrm>
            <a:off x="6948360" y="4281480"/>
            <a:ext cx="1944720" cy="16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63" y="-10320"/>
                </a:moveTo>
                <a:lnTo>
                  <a:pt x="-2328" y="-720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idok konspektu –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rukowanie konspektu prezentacj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6. USTALENIE PARAMETRÓW POKAZU I POKAZ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 czym należy pamiętać wygłaszając prezentację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Owal 9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" name="Grafika 10" descr="Nauczyciel"/>
          <p:cNvPicPr/>
          <p:nvPr/>
        </p:nvPicPr>
        <p:blipFill>
          <a:blip r:embed="rId1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78" name="Obraz 4" descr=""/>
          <p:cNvPicPr/>
          <p:nvPr/>
        </p:nvPicPr>
        <p:blipFill>
          <a:blip r:embed="rId2"/>
          <a:stretch/>
        </p:blipFill>
        <p:spPr>
          <a:xfrm>
            <a:off x="1403280" y="2166840"/>
            <a:ext cx="1782720" cy="1338480"/>
          </a:xfrm>
          <a:prstGeom prst="rect">
            <a:avLst/>
          </a:prstGeom>
          <a:ln w="0">
            <a:noFill/>
          </a:ln>
        </p:spPr>
      </p:pic>
      <p:pic>
        <p:nvPicPr>
          <p:cNvPr id="579" name="Grafika 2" descr="Nauczyciel"/>
          <p:cNvPicPr/>
          <p:nvPr/>
        </p:nvPicPr>
        <p:blipFill>
          <a:blip r:embed="rId3"/>
          <a:stretch/>
        </p:blipFill>
        <p:spPr>
          <a:xfrm>
            <a:off x="598320" y="1397160"/>
            <a:ext cx="2876760" cy="2876400"/>
          </a:xfrm>
          <a:prstGeom prst="rect">
            <a:avLst/>
          </a:prstGeom>
          <a:ln w="0">
            <a:noFill/>
          </a:ln>
        </p:spPr>
      </p:pic>
      <p:sp>
        <p:nvSpPr>
          <p:cNvPr id="580" name="Dymek mowy: prostokąt z zaokrąglonymi rogami 8"/>
          <p:cNvSpPr/>
          <p:nvPr/>
        </p:nvSpPr>
        <p:spPr>
          <a:xfrm>
            <a:off x="3762360" y="2060640"/>
            <a:ext cx="5035680" cy="3701880"/>
          </a:xfrm>
          <a:prstGeom prst="wedgeRoundRectCallout">
            <a:avLst>
              <a:gd name="adj1" fmla="val -91833"/>
              <a:gd name="adj2" fmla="val -25731"/>
              <a:gd name="adj3" fmla="val 16667"/>
            </a:avLst>
          </a:prstGeom>
          <a:solidFill>
            <a:srgbClr val="ffffff"/>
          </a:solidFill>
          <a:ln cap="rnd" w="2232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tal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arametry pokazu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sposób przełączania slajdów, narracja) w karc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kaz slajd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brze si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gotu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przed pokazem przejrzyj jeszcze notatk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jest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ierwsze wrażeni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dopracuj wstęp prezentacj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trzymuj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ontak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odbiorcam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zytaj tekst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tylko go komentuj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rób krótk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umowa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ole tekstowe 3"/>
          <p:cNvSpPr/>
          <p:nvPr/>
        </p:nvSpPr>
        <p:spPr>
          <a:xfrm>
            <a:off x="2087640" y="220500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5400" spc="-1" strike="noStrike">
                <a:solidFill>
                  <a:srgbClr val="366658"/>
                </a:solidFill>
                <a:latin typeface="Calibri"/>
                <a:ea typeface="Calibri"/>
              </a:rPr>
              <a:t>Dziękuję za uwagę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13:27:44Z</dcterms:created>
  <dc:creator>MK</dc:creator>
  <dc:description/>
  <dc:language>en-US</dc:language>
  <cp:lastModifiedBy>msk</cp:lastModifiedBy>
  <dcterms:modified xsi:type="dcterms:W3CDTF">2019-11-02T13:20:40Z</dcterms:modified>
  <cp:revision>152</cp:revision>
  <dc:subject/>
  <dc:title>Jak stworzyć dobrą prezentację?</dc:title>
</cp:coreProperties>
</file>