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1ED6C0-9C07-402F-9DA1-1E98E7C17D3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794B3A-0617-486C-811D-81026260389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00AAAC-B534-4FBC-9DCE-C65B0FF1223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272336-717E-45B1-8C5F-D630A299C70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168541-E83A-4FF1-AF81-64DFD3FDBB7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708698-DB43-4E8D-BEF3-C317C6106C6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88FA7A-42A2-406F-8061-4BA50A958A8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AC86-686B-47B1-B606-6819AD7C3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6C44-6F6C-4F04-A802-AE7959AB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9CFB2-9400-4A93-8D87-70F9CD82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8AAA6-7BB4-4463-BF29-3EC66B3D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1A2C10-5AEE-43C2-A7EF-565AE025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1BFCD3-12F3-4C96-8025-DF4BEF7B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FBE298-817B-4E1D-8F2B-12EF3A69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932B69-4988-47FB-BF4B-AF94E012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7B7D3-470F-46DE-A3FF-B375C382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43AFFA-BB98-4195-AB6B-C1B9BDE59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C3BD69-0DD8-45C6-9E8A-269040918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CB275D-7B6E-4A42-8BCC-E42ABCB08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FCAC-E11A-4173-BDC6-6A3356CC1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F2D4B9-E72C-4900-8D32-75A2A535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67638B-1A50-4F00-A57D-BE50E1B7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11C1BE-59DF-4239-8EBA-8C608C14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F289A7-7E9E-42EB-A4B6-C3F21C3F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685A94-155D-4915-AE1E-284ABDA9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6A1B0C-B34C-4DAD-8C7E-DBFFAE9C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5F67CB-9988-42B4-9EA6-CE418C3B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316DB7-E5BC-4ABD-9B8B-87477322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0EDB8A-D9FD-469C-89D2-00FD4557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126948-5902-4756-9F51-807654614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ABA9-B965-40C2-BEFA-C923143E7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DBB38A-EFB4-4D65-8131-77BC58117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AD71-BCA6-425D-9A3E-23DFDA652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3B767-2BC6-458B-B31B-C400B868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3605-6114-423E-90C7-35204979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5FA4B-5B8D-420A-882D-D102763E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4449-27FB-4035-9B13-F7F9AD89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3298-0070-462E-9505-B8EE5EC4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820A-B26C-424F-8CAC-1D81E79E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C0F4-DA2D-4EAD-AC95-95BD7B20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9E12-78A4-4FC5-945B-B4FA8E0A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F9FF-9CA2-4940-9B37-0254B496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2F4CD-B432-41E8-A980-40E9C6A3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BBCF-4C27-48A9-B46E-35C8450D5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A8F7-60E5-4C96-9BA5-7A2317566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12A96-88AC-4005-AF3C-031ABE620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50906-687C-45D4-A659-F24D0395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54E30-9C78-49CF-8B58-B09AE1B2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1203F-F038-4846-9443-43BB9CD6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9E287-49C6-4506-9B06-B7890772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8B1A-418B-4B0A-845B-56D8D8D2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0E728-040E-48D4-A327-3B680635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F84C9-06CF-43C3-BEFE-A103B0E5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BDB79-4F5E-4C8B-9A3C-68966596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BF01C-C146-44C3-9608-2C4E0E36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6C69F-D94A-458D-9ED7-6F74D3E4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22C8A-BF49-490C-9ADC-F08FB5612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4A516-113A-4CDC-B8D3-298094C10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2DA5A-C75E-4FC2-82EB-D043D41FD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9ED28-232B-4936-85F6-C2C15DF9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5D637-6C2F-42F2-8A4B-54C19651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29C7-41E2-4608-AF55-415DB344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EB0A4-6B55-464E-8EFD-5C355336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DA012-F07B-459B-A9EB-53ACF61B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133A9-9D8F-4969-95EF-4C2E2084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8B574-1700-4BC9-AC36-37FFAE9A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38E49-0A91-4EC6-8B07-7D047784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41E7E-8850-462E-B440-9DD5989E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32A6A-5819-4AAE-A6F2-A445DE71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7EFC3-9140-4901-8E0E-045E84BF6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6731C-632A-4E84-A02A-96259F061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2E293-9FBF-44FA-A728-18E62836D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2ADD-F811-4F0A-AFF9-9F82ACB9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E54C7-5FF4-48AB-B895-C110515E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105FE-BF01-4E09-ACD0-4BEC840A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9C69A-94BE-440B-A677-93CB2965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C0DD5-6DD8-4F82-8734-B69C7A98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5981D-A7C2-43A2-B013-8FB79580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A06F3-E212-4629-8D95-ED619191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CD029-64C9-4268-BE31-9F04DD3D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ACEFA-1078-49E4-B022-F85E13E7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6DE79-394B-4412-A902-49F6FB96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AC4FD-B1A2-4848-A289-8EB1C3DCC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4923-D7EF-4EA4-A8B6-3C194284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0F0D7-3D0D-4A29-BC52-7860CE03B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CEE83-D004-416F-8A1E-EEEF40AAC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166DF-562B-45A5-AC05-C7AAE5C5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0776D-2A31-46CD-9E59-FCD63F4A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D6DD8-7AE6-406A-B1C3-338CD49A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860B7-4305-4B13-B43A-71E10725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155E6-2A05-41BE-B5B2-71166D69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A3DFC-6B1F-4449-A238-D6538105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E6A27-13D0-4A1A-BA8C-1B3D2099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C893E-C322-4A0D-B469-F51DC9E0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74C5-1361-411F-8428-2A361FC9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ED469-7E8D-4D88-BB64-D46EC297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84537-0F00-4E7C-B2AD-3E2DB8996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F6D4A-6497-4126-AE35-E5F3AF72E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A87B4-2897-46BC-9012-F61975BBF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F38C4-2472-4EAA-9860-B7CE0404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713BC-293A-4F91-A104-A0B33994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25A05-3696-46A7-AC4B-E52C7B0B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4F93E-5331-4C82-AFBD-B3DF736B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34F1E-768F-4915-9B1E-61CC5329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09FEA-D41B-4F0A-BE0C-3E8E2C08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55D2-08CC-4956-AFC0-81535BC8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92E07-C8A9-437B-A517-3A6B003F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4EE52-ECA9-4BE8-A5CE-4FF44208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53D03-5E2D-478C-8FFB-C3E236DB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9A939-0C71-4537-8060-73B31E84D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29E11-1530-470E-B0AE-92FA867EC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BC5D7-6AA1-438F-9895-E46BA56E7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012F9-FBEF-4D27-8595-67A4306F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CE10A-14C9-49CD-861B-1E7A994E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B8F74-25DD-4FCB-8E27-1FB7373C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CD079-D4DC-4176-938A-0246DDFE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69B2-FDA6-4511-9996-0AF7A280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C1459-2966-4C34-906D-A02643ED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510BB-B48E-43E6-9ECC-8FFC061A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EAFC7-E2CE-40B2-8CC2-861D62AF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1547E-29D3-4EC3-BD46-1DB20194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D70AF-3451-4DAA-8340-173CD884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7B493-3185-4283-A5D1-068F357E2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F9B58-FC03-4290-928B-DED5C3753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946018-4800-4A1A-8991-18DFE61B5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C26FF2-C9A9-47DF-B536-CA1CA917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EAD232-0B97-459A-B2E7-295F3A4C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B4ABE2-1834-4CFC-87A8-6D2BDFAB8772}" type="slidenum"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6629400" y="600120"/>
            <a:ext cx="2057400" cy="581652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744960" y="5955840"/>
            <a:ext cx="947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580680" y="5951520"/>
            <a:ext cx="5923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54BD21-C3A9-46FC-B16A-A2D09A5C296B}" type="slidenum"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447840" y="3086280"/>
            <a:ext cx="8240400" cy="330516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444478-CB1B-47AC-906A-1ABA0AA18D21}" type="slidenum"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682CCB-64C5-4877-AE10-2615E8834249}" type="slidenum"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452520" y="5141880"/>
            <a:ext cx="8238960" cy="125892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3F0608-F10B-4458-B786-F0DFB911E86A}" type="slidenum"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719362-825F-48A3-89CC-6B8A623AA2E3}" type="slidenum"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C9CD62-2DD9-4BF0-9638-37AC396D9137}" type="slidenum"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19D8FB-14DB-4940-8AB9-7BC6C52E9A46}" type="slidenum"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Rectangle 8"/>
          <p:cNvSpPr/>
          <p:nvPr/>
        </p:nvSpPr>
        <p:spPr>
          <a:xfrm>
            <a:off x="452520" y="5141880"/>
            <a:ext cx="8238960" cy="127476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203330-00CA-4246-AC71-1F00AAD82D64}" type="slidenum"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5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6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7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99AE03-6233-40C4-96C5-225B27DB7402}" type="slidenum"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81040" y="990720"/>
            <a:ext cx="7989840" cy="15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3600" spc="-1" strike="noStrike">
                <a:solidFill>
                  <a:srgbClr val="366658"/>
                </a:solidFill>
                <a:latin typeface="Arial"/>
              </a:rPr>
              <a:t>TWORZENIE PREZENTACJI MULTIMEDIALNEJ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755280" y="3860280"/>
            <a:ext cx="7815240" cy="15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Gill Sans MT"/>
              </a:rPr>
              <a:t>W SZEŚCIU KROKACH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Diagram 3" descr=""/>
          <p:cNvPicPr/>
          <p:nvPr/>
        </p:nvPicPr>
        <p:blipFill>
          <a:blip r:embed="rId1"/>
          <a:stretch/>
        </p:blipFill>
        <p:spPr>
          <a:xfrm>
            <a:off x="262080" y="1530360"/>
            <a:ext cx="8626320" cy="5718240"/>
          </a:xfrm>
          <a:prstGeom prst="rect">
            <a:avLst/>
          </a:prstGeom>
          <a:ln w="0">
            <a:noFill/>
          </a:ln>
        </p:spPr>
      </p:pic>
      <p:grpSp>
        <p:nvGrpSpPr>
          <p:cNvPr id="459" name="Grupa 2"/>
          <p:cNvGrpSpPr/>
          <p:nvPr/>
        </p:nvGrpSpPr>
        <p:grpSpPr>
          <a:xfrm>
            <a:off x="1424160" y="1336680"/>
            <a:ext cx="1276200" cy="1276200"/>
            <a:chOff x="1424160" y="1336680"/>
            <a:chExt cx="1276200" cy="1276200"/>
          </a:xfrm>
        </p:grpSpPr>
        <p:sp>
          <p:nvSpPr>
            <p:cNvPr id="460" name="Owal 20"/>
            <p:cNvSpPr/>
            <p:nvPr/>
          </p:nvSpPr>
          <p:spPr>
            <a:xfrm>
              <a:off x="1424160" y="1336680"/>
              <a:ext cx="1276200" cy="1276200"/>
            </a:xfrm>
            <a:prstGeom prst="ellipse">
              <a:avLst/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461" name="Grafika 17" descr="Lista kontrolna"/>
            <p:cNvPicPr/>
            <p:nvPr/>
          </p:nvPicPr>
          <p:blipFill>
            <a:blip r:embed="rId2"/>
            <a:stretch/>
          </p:blipFill>
          <p:spPr>
            <a:xfrm>
              <a:off x="1604880" y="1517400"/>
              <a:ext cx="900000" cy="90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2" name="Grupa 4"/>
          <p:cNvGrpSpPr/>
          <p:nvPr/>
        </p:nvGrpSpPr>
        <p:grpSpPr>
          <a:xfrm>
            <a:off x="7684920" y="1263600"/>
            <a:ext cx="1274760" cy="1276560"/>
            <a:chOff x="7684920" y="1263600"/>
            <a:chExt cx="1274760" cy="1276560"/>
          </a:xfrm>
        </p:grpSpPr>
        <p:sp>
          <p:nvSpPr>
            <p:cNvPr id="463" name="Owal 21"/>
            <p:cNvSpPr/>
            <p:nvPr/>
          </p:nvSpPr>
          <p:spPr>
            <a:xfrm>
              <a:off x="7684920" y="1263600"/>
              <a:ext cx="1274760" cy="1276560"/>
            </a:xfrm>
            <a:prstGeom prst="ellipse">
              <a:avLst/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464" name="Grafika 15" descr="Głośność"/>
            <p:cNvPicPr/>
            <p:nvPr/>
          </p:nvPicPr>
          <p:blipFill>
            <a:blip r:embed="rId3"/>
            <a:stretch/>
          </p:blipFill>
          <p:spPr>
            <a:xfrm>
              <a:off x="7924680" y="1450800"/>
              <a:ext cx="898560" cy="90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5" name="Grupa 1"/>
          <p:cNvGrpSpPr/>
          <p:nvPr/>
        </p:nvGrpSpPr>
        <p:grpSpPr>
          <a:xfrm>
            <a:off x="4616280" y="1263600"/>
            <a:ext cx="1276560" cy="1276560"/>
            <a:chOff x="4616280" y="1263600"/>
            <a:chExt cx="1276560" cy="1276560"/>
          </a:xfrm>
        </p:grpSpPr>
        <p:sp>
          <p:nvSpPr>
            <p:cNvPr id="466" name="Owal 23"/>
            <p:cNvSpPr/>
            <p:nvPr/>
          </p:nvSpPr>
          <p:spPr>
            <a:xfrm>
              <a:off x="4616280" y="1263600"/>
              <a:ext cx="1276560" cy="1276560"/>
            </a:xfrm>
            <a:prstGeom prst="ellipse">
              <a:avLst/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467" name="Grafika 19" descr="Ekran projekcyjny"/>
            <p:cNvPicPr/>
            <p:nvPr/>
          </p:nvPicPr>
          <p:blipFill>
            <a:blip r:embed="rId4"/>
            <a:stretch/>
          </p:blipFill>
          <p:spPr>
            <a:xfrm>
              <a:off x="4806720" y="1446120"/>
              <a:ext cx="900360" cy="90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8" name="Grupa 27"/>
          <p:cNvGrpSpPr/>
          <p:nvPr/>
        </p:nvGrpSpPr>
        <p:grpSpPr>
          <a:xfrm>
            <a:off x="7701120" y="3860640"/>
            <a:ext cx="1274760" cy="1276560"/>
            <a:chOff x="7701120" y="3860640"/>
            <a:chExt cx="1274760" cy="1276560"/>
          </a:xfrm>
        </p:grpSpPr>
        <p:sp>
          <p:nvSpPr>
            <p:cNvPr id="469" name="Owal 28"/>
            <p:cNvSpPr/>
            <p:nvPr/>
          </p:nvSpPr>
          <p:spPr>
            <a:xfrm>
              <a:off x="7701120" y="3860640"/>
              <a:ext cx="1274760" cy="1276560"/>
            </a:xfrm>
            <a:prstGeom prst="ellipse">
              <a:avLst/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470" name="Grafika 29" descr="Dyskietka"/>
            <p:cNvPicPr/>
            <p:nvPr/>
          </p:nvPicPr>
          <p:blipFill>
            <a:blip r:embed="rId5"/>
            <a:stretch/>
          </p:blipFill>
          <p:spPr>
            <a:xfrm>
              <a:off x="7888320" y="4047840"/>
              <a:ext cx="900360" cy="90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1" name="Grupa 30"/>
          <p:cNvGrpSpPr/>
          <p:nvPr/>
        </p:nvGrpSpPr>
        <p:grpSpPr>
          <a:xfrm>
            <a:off x="4610160" y="3860640"/>
            <a:ext cx="1276200" cy="1276560"/>
            <a:chOff x="4610160" y="3860640"/>
            <a:chExt cx="1276200" cy="1276560"/>
          </a:xfrm>
        </p:grpSpPr>
        <p:sp>
          <p:nvSpPr>
            <p:cNvPr id="472" name="Owal 31"/>
            <p:cNvSpPr/>
            <p:nvPr/>
          </p:nvSpPr>
          <p:spPr>
            <a:xfrm>
              <a:off x="4610160" y="3860640"/>
              <a:ext cx="1276200" cy="1276560"/>
            </a:xfrm>
            <a:prstGeom prst="ellipse">
              <a:avLst/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473" name="Grafika 32" descr="Drukarka"/>
            <p:cNvPicPr/>
            <p:nvPr/>
          </p:nvPicPr>
          <p:blipFill>
            <a:blip r:embed="rId6"/>
            <a:stretch/>
          </p:blipFill>
          <p:spPr>
            <a:xfrm>
              <a:off x="4802040" y="4039920"/>
              <a:ext cx="901800" cy="90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4" name="Grupa 33"/>
          <p:cNvGrpSpPr/>
          <p:nvPr/>
        </p:nvGrpSpPr>
        <p:grpSpPr>
          <a:xfrm>
            <a:off x="1494000" y="3860640"/>
            <a:ext cx="1276200" cy="1276560"/>
            <a:chOff x="1494000" y="3860640"/>
            <a:chExt cx="1276200" cy="1276560"/>
          </a:xfrm>
        </p:grpSpPr>
        <p:sp>
          <p:nvSpPr>
            <p:cNvPr id="475" name="Owal 34"/>
            <p:cNvSpPr/>
            <p:nvPr/>
          </p:nvSpPr>
          <p:spPr>
            <a:xfrm>
              <a:off x="1494000" y="3860640"/>
              <a:ext cx="1276200" cy="1276560"/>
            </a:xfrm>
            <a:prstGeom prst="ellipse">
              <a:avLst/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476" name="Grafika 35" descr="Nauczyciel"/>
            <p:cNvPicPr/>
            <p:nvPr/>
          </p:nvPicPr>
          <p:blipFill>
            <a:blip r:embed="rId7"/>
            <a:stretch/>
          </p:blipFill>
          <p:spPr>
            <a:xfrm>
              <a:off x="1681200" y="4092480"/>
              <a:ext cx="901800" cy="90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68360" y="46800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ETAPY PRZYGOTOWYWANIA PREZENTACJI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8" name="pole tekstowe 5"/>
          <p:cNvSpPr/>
          <p:nvPr/>
        </p:nvSpPr>
        <p:spPr>
          <a:xfrm>
            <a:off x="3865680" y="6332400"/>
            <a:ext cx="150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(opcjonalnie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8360" y="46800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1. PLANOWANIE PREZENTACJI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grpSp>
        <p:nvGrpSpPr>
          <p:cNvPr id="480" name="Prostokąt 29"/>
          <p:cNvGrpSpPr/>
          <p:nvPr/>
        </p:nvGrpSpPr>
        <p:grpSpPr>
          <a:xfrm>
            <a:off x="781200" y="2438280"/>
            <a:ext cx="1309680" cy="884520"/>
            <a:chOff x="781200" y="2438280"/>
            <a:chExt cx="1309680" cy="884520"/>
          </a:xfrm>
        </p:grpSpPr>
        <p:pic>
          <p:nvPicPr>
            <p:cNvPr id="481" name="Prostokąt 29" descr=""/>
            <p:cNvPicPr/>
            <p:nvPr/>
          </p:nvPicPr>
          <p:blipFill>
            <a:blip r:embed="rId1"/>
            <a:stretch/>
          </p:blipFill>
          <p:spPr>
            <a:xfrm>
              <a:off x="781200" y="2438280"/>
              <a:ext cx="1309680" cy="8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861840" y="2516040"/>
              <a:ext cx="1152720" cy="7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pl-PL" sz="1800" spc="-1" strike="noStrike">
                  <a:solidFill>
                    <a:srgbClr val="366658"/>
                  </a:solidFill>
                  <a:latin typeface="Arial"/>
                  <a:ea typeface="Arial"/>
                </a:rPr>
                <a:t>1.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483" name="Prostokąt 30"/>
          <p:cNvGrpSpPr/>
          <p:nvPr/>
        </p:nvGrpSpPr>
        <p:grpSpPr>
          <a:xfrm>
            <a:off x="781200" y="3376440"/>
            <a:ext cx="1309680" cy="884520"/>
            <a:chOff x="781200" y="3376440"/>
            <a:chExt cx="1309680" cy="884520"/>
          </a:xfrm>
        </p:grpSpPr>
        <p:pic>
          <p:nvPicPr>
            <p:cNvPr id="484" name="Prostokąt 30" descr=""/>
            <p:cNvPicPr/>
            <p:nvPr/>
          </p:nvPicPr>
          <p:blipFill>
            <a:blip r:embed="rId2"/>
            <a:stretch/>
          </p:blipFill>
          <p:spPr>
            <a:xfrm>
              <a:off x="781200" y="3376440"/>
              <a:ext cx="1309680" cy="8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861840" y="3457440"/>
              <a:ext cx="1152720" cy="7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pl-PL" sz="1800" spc="-1" strike="noStrike">
                  <a:solidFill>
                    <a:srgbClr val="366658"/>
                  </a:solidFill>
                  <a:latin typeface="Arial"/>
                  <a:ea typeface="Arial"/>
                </a:rPr>
                <a:t>2. 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486" name="Grupa 31"/>
          <p:cNvGrpSpPr/>
          <p:nvPr/>
        </p:nvGrpSpPr>
        <p:grpSpPr>
          <a:xfrm>
            <a:off x="692280" y="4348080"/>
            <a:ext cx="1549440" cy="987480"/>
            <a:chOff x="692280" y="4348080"/>
            <a:chExt cx="1549440" cy="987480"/>
          </a:xfrm>
        </p:grpSpPr>
        <p:grpSp>
          <p:nvGrpSpPr>
            <p:cNvPr id="487" name="Prostokąt 32"/>
            <p:cNvGrpSpPr/>
            <p:nvPr/>
          </p:nvGrpSpPr>
          <p:grpSpPr>
            <a:xfrm>
              <a:off x="692280" y="4348080"/>
              <a:ext cx="1189800" cy="761760"/>
              <a:chOff x="692280" y="4348080"/>
              <a:chExt cx="1189800" cy="761760"/>
            </a:xfrm>
          </p:grpSpPr>
          <p:pic>
            <p:nvPicPr>
              <p:cNvPr id="488" name="Prostokąt 32" descr=""/>
              <p:cNvPicPr/>
              <p:nvPr/>
            </p:nvPicPr>
            <p:blipFill>
              <a:blip r:embed="rId3"/>
              <a:stretch/>
            </p:blipFill>
            <p:spPr>
              <a:xfrm>
                <a:off x="692280" y="4348080"/>
                <a:ext cx="1189800" cy="76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9" name=""/>
              <p:cNvSpPr/>
              <p:nvPr/>
            </p:nvSpPr>
            <p:spPr>
              <a:xfrm>
                <a:off x="761400" y="4417560"/>
                <a:ext cx="104652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490" name="Prostokąt 33"/>
            <p:cNvGrpSpPr/>
            <p:nvPr/>
          </p:nvGrpSpPr>
          <p:grpSpPr>
            <a:xfrm>
              <a:off x="858240" y="4442400"/>
              <a:ext cx="1189800" cy="761760"/>
              <a:chOff x="858240" y="4442400"/>
              <a:chExt cx="1189800" cy="761760"/>
            </a:xfrm>
          </p:grpSpPr>
          <p:pic>
            <p:nvPicPr>
              <p:cNvPr id="491" name="Prostokąt 33" descr=""/>
              <p:cNvPicPr/>
              <p:nvPr/>
            </p:nvPicPr>
            <p:blipFill>
              <a:blip r:embed="rId4"/>
              <a:stretch/>
            </p:blipFill>
            <p:spPr>
              <a:xfrm>
                <a:off x="858240" y="4442400"/>
                <a:ext cx="1189800" cy="76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2" name=""/>
              <p:cNvSpPr/>
              <p:nvPr/>
            </p:nvSpPr>
            <p:spPr>
              <a:xfrm>
                <a:off x="929880" y="4509720"/>
                <a:ext cx="104652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493" name="Prostokąt 34"/>
            <p:cNvGrpSpPr/>
            <p:nvPr/>
          </p:nvGrpSpPr>
          <p:grpSpPr>
            <a:xfrm>
              <a:off x="1051920" y="4573800"/>
              <a:ext cx="1189800" cy="761760"/>
              <a:chOff x="1051920" y="4573800"/>
              <a:chExt cx="1189800" cy="761760"/>
            </a:xfrm>
          </p:grpSpPr>
          <p:pic>
            <p:nvPicPr>
              <p:cNvPr id="494" name="Prostokąt 34" descr=""/>
              <p:cNvPicPr/>
              <p:nvPr/>
            </p:nvPicPr>
            <p:blipFill>
              <a:blip r:embed="rId5"/>
              <a:stretch/>
            </p:blipFill>
            <p:spPr>
              <a:xfrm>
                <a:off x="1051920" y="4573800"/>
                <a:ext cx="1189800" cy="76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5" name=""/>
              <p:cNvSpPr/>
              <p:nvPr/>
            </p:nvSpPr>
            <p:spPr>
              <a:xfrm>
                <a:off x="1121760" y="4642560"/>
                <a:ext cx="104652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pl-PL" sz="1800" spc="-1" strike="noStrike">
                    <a:solidFill>
                      <a:srgbClr val="366658"/>
                    </a:solidFill>
                    <a:latin typeface="Arial"/>
                    <a:ea typeface="Arial"/>
                  </a:rPr>
                  <a:t>3. do n-1</a:t>
                </a: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grpSp>
        <p:nvGrpSpPr>
          <p:cNvPr id="496" name="Prostokąt 37"/>
          <p:cNvGrpSpPr/>
          <p:nvPr/>
        </p:nvGrpSpPr>
        <p:grpSpPr>
          <a:xfrm>
            <a:off x="781200" y="5456160"/>
            <a:ext cx="1309680" cy="884160"/>
            <a:chOff x="781200" y="5456160"/>
            <a:chExt cx="1309680" cy="884160"/>
          </a:xfrm>
        </p:grpSpPr>
        <p:pic>
          <p:nvPicPr>
            <p:cNvPr id="497" name="Prostokąt 37" descr=""/>
            <p:cNvPicPr/>
            <p:nvPr/>
          </p:nvPicPr>
          <p:blipFill>
            <a:blip r:embed="rId6"/>
            <a:stretch/>
          </p:blipFill>
          <p:spPr>
            <a:xfrm>
              <a:off x="781200" y="5456160"/>
              <a:ext cx="130968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861840" y="5535720"/>
              <a:ext cx="11527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pl-PL" sz="1800" spc="-1" strike="noStrike">
                  <a:solidFill>
                    <a:srgbClr val="366658"/>
                  </a:solidFill>
                  <a:latin typeface="Arial"/>
                  <a:ea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99" name="pole tekstowe 20"/>
          <p:cNvSpPr/>
          <p:nvPr/>
        </p:nvSpPr>
        <p:spPr>
          <a:xfrm>
            <a:off x="2705040" y="2570040"/>
            <a:ext cx="548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Tytuł i ewentualnie podtytuł oraz autor prezentacji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ole tekstowe 20"/>
          <p:cNvSpPr/>
          <p:nvPr/>
        </p:nvSpPr>
        <p:spPr>
          <a:xfrm>
            <a:off x="2641680" y="3495600"/>
            <a:ext cx="549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stęp, spis treści prezentacji (np. w formie nawigacji po głównych punktach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ole tekstowe 20"/>
          <p:cNvSpPr/>
          <p:nvPr/>
        </p:nvSpPr>
        <p:spPr>
          <a:xfrm>
            <a:off x="2682720" y="4618080"/>
            <a:ext cx="50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łaściwa treść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ole tekstowe 20"/>
          <p:cNvSpPr/>
          <p:nvPr/>
        </p:nvSpPr>
        <p:spPr>
          <a:xfrm>
            <a:off x="2617920" y="5457960"/>
            <a:ext cx="549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Podsumowanie, dane o autorze, dane kontaktowe, podziękowania itp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3" name="Grafika 57" descr="Grupa"/>
          <p:cNvPicPr/>
          <p:nvPr/>
        </p:nvPicPr>
        <p:blipFill>
          <a:blip r:embed="rId7"/>
          <a:stretch/>
        </p:blipFill>
        <p:spPr>
          <a:xfrm>
            <a:off x="5388120" y="1254240"/>
            <a:ext cx="965160" cy="965160"/>
          </a:xfrm>
          <a:prstGeom prst="rect">
            <a:avLst/>
          </a:prstGeom>
          <a:ln w="0">
            <a:noFill/>
          </a:ln>
        </p:spPr>
      </p:pic>
      <p:pic>
        <p:nvPicPr>
          <p:cNvPr id="504" name="Grafika 58" descr="Dokument"/>
          <p:cNvPicPr/>
          <p:nvPr/>
        </p:nvPicPr>
        <p:blipFill>
          <a:blip r:embed="rId8"/>
          <a:stretch/>
        </p:blipFill>
        <p:spPr>
          <a:xfrm>
            <a:off x="6357960" y="1476360"/>
            <a:ext cx="704880" cy="703440"/>
          </a:xfrm>
          <a:prstGeom prst="rect">
            <a:avLst/>
          </a:prstGeom>
          <a:ln w="0">
            <a:noFill/>
          </a:ln>
        </p:spPr>
      </p:pic>
      <p:sp>
        <p:nvSpPr>
          <p:cNvPr id="505" name="Strzałka: pięciokąt 59"/>
          <p:cNvSpPr/>
          <p:nvPr/>
        </p:nvSpPr>
        <p:spPr>
          <a:xfrm>
            <a:off x="592200" y="1476360"/>
            <a:ext cx="4124160" cy="647640"/>
          </a:xfrm>
          <a:custGeom>
            <a:avLst/>
            <a:gdLst>
              <a:gd name="textAreaLeft" fmla="*/ 0 w 4124160"/>
              <a:gd name="textAreaRight" fmla="*/ 4124520 w 412416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04" y="0"/>
                </a:lnTo>
                <a:lnTo>
                  <a:pt x="21600" y="10800"/>
                </a:lnTo>
                <a:lnTo>
                  <a:pt x="1990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ostosuj prezentację do odbiorców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i zaplanuj zawartość merytoryczną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Strzałka: pagon 60"/>
          <p:cNvSpPr/>
          <p:nvPr/>
        </p:nvSpPr>
        <p:spPr>
          <a:xfrm>
            <a:off x="4545000" y="1476360"/>
            <a:ext cx="646200" cy="631800"/>
          </a:xfrm>
          <a:custGeom>
            <a:avLst/>
            <a:gdLst>
              <a:gd name="textAreaLeft" fmla="*/ 0 w 646200"/>
              <a:gd name="textAreaRight" fmla="*/ 646560 w 64620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039" y="0"/>
                </a:lnTo>
                <a:lnTo>
                  <a:pt x="21600" y="10800"/>
                </a:lnTo>
                <a:lnTo>
                  <a:pt x="11039" y="21600"/>
                </a:lnTo>
                <a:lnTo>
                  <a:pt x="0" y="21600"/>
                </a:lnTo>
                <a:lnTo>
                  <a:pt x="10561" y="10800"/>
                </a:lnTo>
                <a:close/>
              </a:path>
            </a:pathLst>
          </a:cu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Owal 61"/>
          <p:cNvSpPr/>
          <p:nvPr/>
        </p:nvSpPr>
        <p:spPr>
          <a:xfrm>
            <a:off x="8059680" y="239760"/>
            <a:ext cx="846360" cy="847800"/>
          </a:xfrm>
          <a:prstGeom prst="ellipse">
            <a:avLst/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8" name="Grafika 62" descr="Lista kontrolna"/>
          <p:cNvPicPr/>
          <p:nvPr/>
        </p:nvPicPr>
        <p:blipFill>
          <a:blip r:embed="rId9"/>
          <a:stretch/>
        </p:blipFill>
        <p:spPr>
          <a:xfrm>
            <a:off x="8185320" y="376200"/>
            <a:ext cx="5745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68360" y="46800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2. TWORZENIE PREZENTACJI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0" name="Owal 35"/>
          <p:cNvSpPr/>
          <p:nvPr/>
        </p:nvSpPr>
        <p:spPr>
          <a:xfrm>
            <a:off x="8059680" y="239760"/>
            <a:ext cx="846360" cy="847800"/>
          </a:xfrm>
          <a:prstGeom prst="ellipse">
            <a:avLst/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1" name="Grafika 36" descr="Ekran projekcyjny"/>
          <p:cNvPicPr/>
          <p:nvPr/>
        </p:nvPicPr>
        <p:blipFill>
          <a:blip r:embed="rId1"/>
          <a:stretch/>
        </p:blipFill>
        <p:spPr>
          <a:xfrm>
            <a:off x="8193240" y="390600"/>
            <a:ext cx="574560" cy="576360"/>
          </a:xfrm>
          <a:prstGeom prst="rect">
            <a:avLst/>
          </a:prstGeom>
          <a:ln w="0">
            <a:noFill/>
          </a:ln>
        </p:spPr>
      </p:pic>
      <p:pic>
        <p:nvPicPr>
          <p:cNvPr id="512" name="Diagram 4" descr=""/>
          <p:cNvPicPr/>
          <p:nvPr/>
        </p:nvPicPr>
        <p:blipFill>
          <a:blip r:embed="rId2"/>
          <a:stretch/>
        </p:blipFill>
        <p:spPr>
          <a:xfrm>
            <a:off x="615960" y="1785960"/>
            <a:ext cx="3541680" cy="4200480"/>
          </a:xfrm>
          <a:prstGeom prst="rect">
            <a:avLst/>
          </a:prstGeom>
          <a:ln w="0">
            <a:noFill/>
          </a:ln>
        </p:spPr>
      </p:pic>
      <p:sp>
        <p:nvSpPr>
          <p:cNvPr id="513" name="Prostokąt 14"/>
          <p:cNvSpPr/>
          <p:nvPr/>
        </p:nvSpPr>
        <p:spPr>
          <a:xfrm>
            <a:off x="5364000" y="1832040"/>
            <a:ext cx="352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Plik/Nowy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lub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Projektowanie/Motyw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14" name="Grupa 19"/>
          <p:cNvGrpSpPr/>
          <p:nvPr/>
        </p:nvGrpSpPr>
        <p:grpSpPr>
          <a:xfrm>
            <a:off x="3913200" y="2844720"/>
            <a:ext cx="1257120" cy="925560"/>
            <a:chOff x="3913200" y="2844720"/>
            <a:chExt cx="1257120" cy="925560"/>
          </a:xfrm>
        </p:grpSpPr>
        <p:sp>
          <p:nvSpPr>
            <p:cNvPr id="515" name="Prostokąt: zaokrąglone rogi 17"/>
            <p:cNvSpPr/>
            <p:nvPr/>
          </p:nvSpPr>
          <p:spPr>
            <a:xfrm>
              <a:off x="3913200" y="2844720"/>
              <a:ext cx="1257120" cy="92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516" name="Grupa 12"/>
            <p:cNvGrpSpPr/>
            <p:nvPr/>
          </p:nvGrpSpPr>
          <p:grpSpPr>
            <a:xfrm>
              <a:off x="3954600" y="2879280"/>
              <a:ext cx="1100160" cy="869400"/>
              <a:chOff x="3954600" y="2879280"/>
              <a:chExt cx="1100160" cy="869400"/>
            </a:xfrm>
          </p:grpSpPr>
          <p:pic>
            <p:nvPicPr>
              <p:cNvPr id="517" name="Grafika 38" descr="Dokument"/>
              <p:cNvPicPr/>
              <p:nvPr/>
            </p:nvPicPr>
            <p:blipFill>
              <a:blip r:embed="rId3"/>
              <a:stretch/>
            </p:blipFill>
            <p:spPr>
              <a:xfrm rot="21288600">
                <a:off x="3980160" y="2988720"/>
                <a:ext cx="593640" cy="59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18" name="Grupa 39"/>
              <p:cNvGrpSpPr/>
              <p:nvPr/>
            </p:nvGrpSpPr>
            <p:grpSpPr>
              <a:xfrm>
                <a:off x="4451040" y="2879280"/>
                <a:ext cx="603720" cy="869400"/>
                <a:chOff x="4451040" y="2879280"/>
                <a:chExt cx="603720" cy="869400"/>
              </a:xfrm>
            </p:grpSpPr>
            <p:pic>
              <p:nvPicPr>
                <p:cNvPr id="519" name="Grafika 40" descr="Paleta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492080" y="3145680"/>
                  <a:ext cx="562680" cy="603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0" name="Grafika 41" descr="Mały pędze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451040" y="2879280"/>
                  <a:ext cx="562680" cy="603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521" name="Grupa 23"/>
          <p:cNvGrpSpPr/>
          <p:nvPr/>
        </p:nvGrpSpPr>
        <p:grpSpPr>
          <a:xfrm>
            <a:off x="3886200" y="1700280"/>
            <a:ext cx="1258920" cy="925560"/>
            <a:chOff x="3886200" y="1700280"/>
            <a:chExt cx="1258920" cy="925560"/>
          </a:xfrm>
        </p:grpSpPr>
        <p:sp>
          <p:nvSpPr>
            <p:cNvPr id="522" name="Prostokąt: zaokrąglone rogi 45"/>
            <p:cNvSpPr/>
            <p:nvPr/>
          </p:nvSpPr>
          <p:spPr>
            <a:xfrm>
              <a:off x="3886200" y="1700280"/>
              <a:ext cx="1258920" cy="92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523" name="Grafika 18" descr="Rolka filmu"/>
            <p:cNvPicPr/>
            <p:nvPr/>
          </p:nvPicPr>
          <p:blipFill>
            <a:blip r:embed="rId6"/>
            <a:stretch/>
          </p:blipFill>
          <p:spPr>
            <a:xfrm>
              <a:off x="4170240" y="1839960"/>
              <a:ext cx="615960" cy="615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4" name="Grupa 21"/>
          <p:cNvGrpSpPr/>
          <p:nvPr/>
        </p:nvGrpSpPr>
        <p:grpSpPr>
          <a:xfrm>
            <a:off x="3886200" y="3979800"/>
            <a:ext cx="1258920" cy="925560"/>
            <a:chOff x="3886200" y="3979800"/>
            <a:chExt cx="1258920" cy="925560"/>
          </a:xfrm>
        </p:grpSpPr>
        <p:sp>
          <p:nvSpPr>
            <p:cNvPr id="525" name="Prostokąt: zaokrąglone rogi 46"/>
            <p:cNvSpPr/>
            <p:nvPr/>
          </p:nvSpPr>
          <p:spPr>
            <a:xfrm>
              <a:off x="3886200" y="3979800"/>
              <a:ext cx="1258920" cy="92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526" name="Grupa 42"/>
            <p:cNvGrpSpPr/>
            <p:nvPr/>
          </p:nvGrpSpPr>
          <p:grpSpPr>
            <a:xfrm>
              <a:off x="4029120" y="4033440"/>
              <a:ext cx="911160" cy="847080"/>
              <a:chOff x="4029120" y="4033440"/>
              <a:chExt cx="911160" cy="847080"/>
            </a:xfrm>
          </p:grpSpPr>
          <p:pic>
            <p:nvPicPr>
              <p:cNvPr id="527" name="Grafika 43" descr="Chodzenie"/>
              <p:cNvPicPr/>
              <p:nvPr/>
            </p:nvPicPr>
            <p:blipFill>
              <a:blip r:embed="rId7"/>
              <a:stretch/>
            </p:blipFill>
            <p:spPr>
              <a:xfrm>
                <a:off x="4029120" y="4033440"/>
                <a:ext cx="681120" cy="68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8" name="Grafika 44" descr="Bieg"/>
              <p:cNvPicPr/>
              <p:nvPr/>
            </p:nvPicPr>
            <p:blipFill>
              <a:blip r:embed="rId8"/>
              <a:stretch/>
            </p:blipFill>
            <p:spPr>
              <a:xfrm>
                <a:off x="4333680" y="4275000"/>
                <a:ext cx="606600" cy="605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29" name="Prostokąt 47"/>
          <p:cNvSpPr/>
          <p:nvPr/>
        </p:nvSpPr>
        <p:spPr>
          <a:xfrm>
            <a:off x="5364000" y="2919240"/>
            <a:ext cx="37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Wstawiani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/..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Kształt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Iko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SmartAr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Wykr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30" name="Grupa 25"/>
          <p:cNvGrpSpPr/>
          <p:nvPr/>
        </p:nvGrpSpPr>
        <p:grpSpPr>
          <a:xfrm>
            <a:off x="3886200" y="5076720"/>
            <a:ext cx="1258920" cy="925560"/>
            <a:chOff x="3886200" y="5076720"/>
            <a:chExt cx="1258920" cy="925560"/>
          </a:xfrm>
        </p:grpSpPr>
        <p:sp>
          <p:nvSpPr>
            <p:cNvPr id="531" name="Prostokąt: zaokrąglone rogi 50"/>
            <p:cNvSpPr/>
            <p:nvPr/>
          </p:nvSpPr>
          <p:spPr>
            <a:xfrm>
              <a:off x="3886200" y="5076720"/>
              <a:ext cx="1258920" cy="92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532" name="Grupa 24"/>
            <p:cNvGrpSpPr/>
            <p:nvPr/>
          </p:nvGrpSpPr>
          <p:grpSpPr>
            <a:xfrm>
              <a:off x="3983400" y="5197680"/>
              <a:ext cx="1061280" cy="741600"/>
              <a:chOff x="3983400" y="5197680"/>
              <a:chExt cx="1061280" cy="741600"/>
            </a:xfrm>
          </p:grpSpPr>
          <p:pic>
            <p:nvPicPr>
              <p:cNvPr id="533" name="Grafika 48" descr="Puzzle"/>
              <p:cNvPicPr/>
              <p:nvPr/>
            </p:nvPicPr>
            <p:blipFill>
              <a:blip r:embed="rId9"/>
              <a:stretch/>
            </p:blipFill>
            <p:spPr>
              <a:xfrm>
                <a:off x="3983400" y="5197680"/>
                <a:ext cx="620280" cy="61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4" name="Grafika 49" descr="Budzik"/>
              <p:cNvPicPr/>
              <p:nvPr/>
            </p:nvPicPr>
            <p:blipFill>
              <a:blip r:embed="rId10"/>
              <a:stretch/>
            </p:blipFill>
            <p:spPr>
              <a:xfrm>
                <a:off x="4424400" y="5319720"/>
                <a:ext cx="620280" cy="619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35" name="Prostokąt 51"/>
          <p:cNvSpPr/>
          <p:nvPr/>
        </p:nvSpPr>
        <p:spPr>
          <a:xfrm>
            <a:off x="5364000" y="4067280"/>
            <a:ext cx="39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Animacj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Okienko animacj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Chronometraż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6" name="Prostokąt 52"/>
          <p:cNvSpPr/>
          <p:nvPr/>
        </p:nvSpPr>
        <p:spPr>
          <a:xfrm>
            <a:off x="5364000" y="5202360"/>
            <a:ext cx="352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Shif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 +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Enter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Ctrl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 + strzałka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Linie siatk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Położeni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Wyrównaj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Rozmieść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68360" y="46800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3. DODAWANIE DŹWIĘKÓW I FILMÓW</a:t>
            </a:r>
            <a:br>
              <a:rPr sz="24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Uatrakcyjnij prezentację dodając multimedia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8" name="Owal 9"/>
          <p:cNvSpPr/>
          <p:nvPr/>
        </p:nvSpPr>
        <p:spPr>
          <a:xfrm>
            <a:off x="8059680" y="239760"/>
            <a:ext cx="846360" cy="847800"/>
          </a:xfrm>
          <a:prstGeom prst="ellipse">
            <a:avLst/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9" name="Grafika 10" descr="Głośność"/>
          <p:cNvPicPr/>
          <p:nvPr/>
        </p:nvPicPr>
        <p:blipFill>
          <a:blip r:embed="rId1"/>
          <a:stretch/>
        </p:blipFill>
        <p:spPr>
          <a:xfrm>
            <a:off x="8194680" y="37620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540" name="pole tekstowe 8"/>
          <p:cNvSpPr/>
          <p:nvPr/>
        </p:nvSpPr>
        <p:spPr>
          <a:xfrm>
            <a:off x="6159600" y="2195640"/>
            <a:ext cx="36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daj dźwięk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ole tekstowe 11"/>
          <p:cNvSpPr/>
          <p:nvPr/>
        </p:nvSpPr>
        <p:spPr>
          <a:xfrm>
            <a:off x="3200400" y="5040360"/>
            <a:ext cx="29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daj film, np. nagraną zawartość ekranu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42" name="Grupa 19"/>
          <p:cNvGrpSpPr/>
          <p:nvPr/>
        </p:nvGrpSpPr>
        <p:grpSpPr>
          <a:xfrm>
            <a:off x="2006640" y="2055960"/>
            <a:ext cx="3600360" cy="2225520"/>
            <a:chOff x="2006640" y="2055960"/>
            <a:chExt cx="3600360" cy="2225520"/>
          </a:xfrm>
        </p:grpSpPr>
        <p:sp>
          <p:nvSpPr>
            <p:cNvPr id="543" name="pole tekstowe 6"/>
            <p:cNvSpPr/>
            <p:nvPr/>
          </p:nvSpPr>
          <p:spPr>
            <a:xfrm>
              <a:off x="2006640" y="2055960"/>
              <a:ext cx="3600360" cy="2225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8cb6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544" name="Obraz 6" descr=""/>
            <p:cNvPicPr/>
            <p:nvPr/>
          </p:nvPicPr>
          <p:blipFill>
            <a:blip r:embed="rId2"/>
            <a:stretch/>
          </p:blipFill>
          <p:spPr>
            <a:xfrm>
              <a:off x="2047320" y="2286360"/>
              <a:ext cx="1152000" cy="40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Obraz 7" descr=""/>
            <p:cNvPicPr/>
            <p:nvPr/>
          </p:nvPicPr>
          <p:blipFill>
            <a:blip r:embed="rId3"/>
            <a:stretch/>
          </p:blipFill>
          <p:spPr>
            <a:xfrm>
              <a:off x="2154960" y="2760480"/>
              <a:ext cx="2743560" cy="13352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546" name="Łącznik prosty ze strzałką 13"/>
          <p:cNvCxnSpPr/>
          <p:nvPr/>
        </p:nvCxnSpPr>
        <p:spPr>
          <a:xfrm flipV="1">
            <a:off x="3404880" y="2439720"/>
            <a:ext cx="2680200" cy="411840"/>
          </a:xfrm>
          <a:prstGeom prst="straightConnector1">
            <a:avLst/>
          </a:prstGeom>
          <a:ln cap="rnd" w="19080">
            <a:solidFill>
              <a:srgbClr val="8cb64a"/>
            </a:solidFill>
            <a:miter/>
            <a:headEnd len="med" type="oval" w="med"/>
            <a:tailEnd len="med" type="oval" w="med"/>
          </a:ln>
        </p:spPr>
      </p:cxnSp>
      <p:cxnSp>
        <p:nvCxnSpPr>
          <p:cNvPr id="547" name="Łącznik prosty ze strzałką 15"/>
          <p:cNvCxnSpPr/>
          <p:nvPr/>
        </p:nvCxnSpPr>
        <p:spPr>
          <a:xfrm>
            <a:off x="4713120" y="3309480"/>
            <a:ext cx="2151720" cy="435960"/>
          </a:xfrm>
          <a:prstGeom prst="straightConnector1">
            <a:avLst/>
          </a:prstGeom>
          <a:ln cap="rnd" w="19080">
            <a:solidFill>
              <a:srgbClr val="8cb64a"/>
            </a:solidFill>
            <a:miter/>
            <a:headEnd len="med" type="oval" w="med"/>
            <a:tailEnd len="med" type="oval" w="med"/>
          </a:ln>
        </p:spPr>
      </p:cxnSp>
      <p:cxnSp>
        <p:nvCxnSpPr>
          <p:cNvPr id="548" name="Łącznik prosty ze strzałką 17"/>
          <p:cNvCxnSpPr>
            <a:stCxn id="545" idx="1"/>
          </p:cNvCxnSpPr>
          <p:nvPr/>
        </p:nvCxnSpPr>
        <p:spPr>
          <a:xfrm flipH="1">
            <a:off x="1437840" y="3427200"/>
            <a:ext cx="717840" cy="1006920"/>
          </a:xfrm>
          <a:prstGeom prst="straightConnector1">
            <a:avLst/>
          </a:prstGeom>
          <a:ln cap="rnd" w="19080">
            <a:solidFill>
              <a:srgbClr val="8cb64a"/>
            </a:solidFill>
            <a:miter/>
            <a:headEnd len="med" type="oval" w="med"/>
            <a:tailEnd len="med" type="oval" w="med"/>
          </a:ln>
        </p:spPr>
      </p:cxnSp>
      <p:pic>
        <p:nvPicPr>
          <p:cNvPr id="549" name="Obraz 29" descr=""/>
          <p:cNvPicPr/>
          <p:nvPr/>
        </p:nvPicPr>
        <p:blipFill>
          <a:blip r:embed="rId4"/>
          <a:stretch/>
        </p:blipFill>
        <p:spPr>
          <a:xfrm>
            <a:off x="324000" y="4508640"/>
            <a:ext cx="2558880" cy="2035080"/>
          </a:xfrm>
          <a:prstGeom prst="rect">
            <a:avLst/>
          </a:prstGeom>
          <a:ln w="9360">
            <a:solidFill>
              <a:srgbClr val="8cb64a"/>
            </a:solidFill>
            <a:miter/>
          </a:ln>
        </p:spPr>
      </p:pic>
      <p:pic>
        <p:nvPicPr>
          <p:cNvPr id="550" name="Obraz 31" descr=""/>
          <p:cNvPicPr/>
          <p:nvPr/>
        </p:nvPicPr>
        <p:blipFill>
          <a:blip r:embed="rId5"/>
          <a:stretch/>
        </p:blipFill>
        <p:spPr>
          <a:xfrm>
            <a:off x="6512040" y="3860640"/>
            <a:ext cx="2368440" cy="2019600"/>
          </a:xfrm>
          <a:prstGeom prst="rect">
            <a:avLst/>
          </a:prstGeom>
          <a:ln w="9360">
            <a:solidFill>
              <a:srgbClr val="8cb64a"/>
            </a:solidFill>
            <a:miter/>
          </a:ln>
        </p:spPr>
      </p:pic>
      <p:pic>
        <p:nvPicPr>
          <p:cNvPr id="551" name="Obraz 33" descr=""/>
          <p:cNvPicPr/>
          <p:nvPr/>
        </p:nvPicPr>
        <p:blipFill>
          <a:blip r:embed="rId6"/>
          <a:stretch/>
        </p:blipFill>
        <p:spPr>
          <a:xfrm>
            <a:off x="7696080" y="211608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68360" y="46800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4. ZAPISYWANIE PREZENTACJI</a:t>
            </a:r>
            <a:br>
              <a:rPr sz="24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Formaty i ich zastosowanie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3" name="Prostokąt: zaokrąglone rogi 7"/>
          <p:cNvSpPr/>
          <p:nvPr/>
        </p:nvSpPr>
        <p:spPr>
          <a:xfrm>
            <a:off x="851040" y="2476440"/>
            <a:ext cx="3348000" cy="17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8440">
            <a:solidFill>
              <a:srgbClr val="8cb6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0" bIns="46800" anchor="ctr">
            <a:noAutofit/>
          </a:bodyPr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ożliwość późniejszej edycji prezentacji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ezentowanie przez prelegent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rostokąt: zaokrąglone rogi 6"/>
          <p:cNvSpPr/>
          <p:nvPr/>
        </p:nvSpPr>
        <p:spPr>
          <a:xfrm>
            <a:off x="468360" y="1623960"/>
            <a:ext cx="2808360" cy="119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ezentacja programu Microsoft PowerPoin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(rozszerzenie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pptx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rostokąt: zaokrąglone rogi 12"/>
          <p:cNvSpPr/>
          <p:nvPr/>
        </p:nvSpPr>
        <p:spPr>
          <a:xfrm>
            <a:off x="5172120" y="2492280"/>
            <a:ext cx="3348000" cy="17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8440">
            <a:solidFill>
              <a:srgbClr val="8cb6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0" bIns="46800" anchor="ctr">
            <a:noAutofit/>
          </a:bodyPr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ezentacja samouruchamiająca się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możliwości edycji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rostokąt: zaokrąglone rogi 13"/>
          <p:cNvSpPr/>
          <p:nvPr/>
        </p:nvSpPr>
        <p:spPr>
          <a:xfrm>
            <a:off x="4834080" y="1623960"/>
            <a:ext cx="2896920" cy="1190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kaz programu Microsoft PowerPoint (rozszerzenie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pps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ppsx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rostokąt: zaokrąglone rogi 14"/>
          <p:cNvSpPr/>
          <p:nvPr/>
        </p:nvSpPr>
        <p:spPr>
          <a:xfrm>
            <a:off x="806400" y="4941720"/>
            <a:ext cx="3348000" cy="172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8440">
            <a:solidFill>
              <a:srgbClr val="8cb6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0" bIns="46800" anchor="ctr">
            <a:noAutofit/>
          </a:bodyPr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ksport jednego lub wszystkich slajdów do plików graficznych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rostokąt: zaokrąglone rogi 15"/>
          <p:cNvSpPr/>
          <p:nvPr/>
        </p:nvSpPr>
        <p:spPr>
          <a:xfrm>
            <a:off x="468360" y="4346640"/>
            <a:ext cx="2519280" cy="9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ormat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GIF, JPG, BMP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Prostokąt: zaokrąglone rogi 16"/>
          <p:cNvSpPr/>
          <p:nvPr/>
        </p:nvSpPr>
        <p:spPr>
          <a:xfrm>
            <a:off x="5172120" y="4941720"/>
            <a:ext cx="3348000" cy="172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8440">
            <a:solidFill>
              <a:srgbClr val="8cb6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0" bIns="46800" anchor="ctr">
            <a:noAutofit/>
          </a:bodyPr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możliwia obejrzenie slajdów (bez animacji) przy braku zainstalowanego programu MS Power Poin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0" name="Prostokąt: zaokrąglone rogi 17"/>
          <p:cNvSpPr/>
          <p:nvPr/>
        </p:nvSpPr>
        <p:spPr>
          <a:xfrm>
            <a:off x="4834080" y="4346640"/>
            <a:ext cx="2519280" cy="9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orma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PDF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Owal 18"/>
          <p:cNvSpPr/>
          <p:nvPr/>
        </p:nvSpPr>
        <p:spPr>
          <a:xfrm>
            <a:off x="8059680" y="239760"/>
            <a:ext cx="846360" cy="847800"/>
          </a:xfrm>
          <a:prstGeom prst="ellipse">
            <a:avLst/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2" name="Grafika 19" descr="Dyskietka"/>
          <p:cNvPicPr/>
          <p:nvPr/>
        </p:nvPicPr>
        <p:blipFill>
          <a:blip r:embed="rId1"/>
          <a:stretch/>
        </p:blipFill>
        <p:spPr>
          <a:xfrm>
            <a:off x="8194680" y="395280"/>
            <a:ext cx="5763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Obraz 4" descr=""/>
          <p:cNvPicPr/>
          <p:nvPr/>
        </p:nvPicPr>
        <p:blipFill>
          <a:blip r:embed="rId1"/>
          <a:stretch/>
        </p:blipFill>
        <p:spPr>
          <a:xfrm>
            <a:off x="2452680" y="2276640"/>
            <a:ext cx="4067280" cy="4057560"/>
          </a:xfrm>
          <a:prstGeom prst="rect">
            <a:avLst/>
          </a:prstGeom>
          <a:ln w="9360">
            <a:solidFill>
              <a:srgbClr val="8cb64a"/>
            </a:solidFill>
            <a:miter/>
          </a:ln>
        </p:spPr>
      </p:pic>
      <p:sp>
        <p:nvSpPr>
          <p:cNvPr id="564" name="Prostokąt: zaokrąglone rogi 2"/>
          <p:cNvSpPr/>
          <p:nvPr/>
        </p:nvSpPr>
        <p:spPr>
          <a:xfrm>
            <a:off x="179280" y="2419200"/>
            <a:ext cx="2076480" cy="108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360" y="46800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5. DRUKOWANIE MATERIAŁÓW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INFORMACYJNYCH I NOTATEK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6" name="Owal 6"/>
          <p:cNvSpPr/>
          <p:nvPr/>
        </p:nvSpPr>
        <p:spPr>
          <a:xfrm>
            <a:off x="8059680" y="239760"/>
            <a:ext cx="846360" cy="847800"/>
          </a:xfrm>
          <a:prstGeom prst="ellipse">
            <a:avLst/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7" name="Grafika 7" descr="Drukarka"/>
          <p:cNvPicPr/>
          <p:nvPr/>
        </p:nvPicPr>
        <p:blipFill>
          <a:blip r:embed="rId2"/>
          <a:stretch/>
        </p:blipFill>
        <p:spPr>
          <a:xfrm>
            <a:off x="8194680" y="37620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568" name="Prostokąt: zaokrąglone rogi 10"/>
          <p:cNvSpPr/>
          <p:nvPr/>
        </p:nvSpPr>
        <p:spPr>
          <a:xfrm>
            <a:off x="230040" y="5084640"/>
            <a:ext cx="3046680" cy="1616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Objaśnienie: linia bez obramowania 15"/>
          <p:cNvSpPr/>
          <p:nvPr/>
        </p:nvSpPr>
        <p:spPr>
          <a:xfrm flipH="1">
            <a:off x="250920" y="2276640"/>
            <a:ext cx="1860480" cy="136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204" y="13619"/>
                </a:moveTo>
                <a:lnTo>
                  <a:pt x="-2778" y="11171"/>
                </a:lnTo>
              </a:path>
            </a:pathLst>
          </a:custGeom>
          <a:noFill/>
          <a:ln cap="rnd" w="22320">
            <a:solidFill>
              <a:srgbClr val="8cb64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Slajdy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– jeden slajd na jednej stronie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Objaśnienie: linia bez obramowania 16"/>
          <p:cNvSpPr/>
          <p:nvPr/>
        </p:nvSpPr>
        <p:spPr>
          <a:xfrm flipH="1">
            <a:off x="250920" y="5229360"/>
            <a:ext cx="3168720" cy="136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47" y="-12429"/>
                </a:moveTo>
                <a:lnTo>
                  <a:pt x="368" y="7049"/>
                </a:lnTo>
              </a:path>
            </a:pathLst>
          </a:custGeom>
          <a:noFill/>
          <a:ln cap="rnd" w="22320">
            <a:solidFill>
              <a:srgbClr val="8cb64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Materiały informacyjne –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pie slajdów. 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Na jednej stronie może być kilka slajdów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rostokąt: zaokrąglone rogi 11"/>
          <p:cNvSpPr/>
          <p:nvPr/>
        </p:nvSpPr>
        <p:spPr>
          <a:xfrm>
            <a:off x="6539040" y="1482840"/>
            <a:ext cx="2185920" cy="117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rostokąt: zaokrąglone rogi 12"/>
          <p:cNvSpPr/>
          <p:nvPr/>
        </p:nvSpPr>
        <p:spPr>
          <a:xfrm>
            <a:off x="6875640" y="4200480"/>
            <a:ext cx="1849320" cy="1965240"/>
          </a:xfrm>
          <a:custGeom>
            <a:avLst/>
            <a:gdLst>
              <a:gd name="textAreaLeft" fmla="*/ 90000 w 1849320"/>
              <a:gd name="textAreaRight" fmla="*/ 1759320 w 1849320"/>
              <a:gd name="textAreaTop" fmla="*/ 90000 h 1965240"/>
              <a:gd name="textAreaBottom" fmla="*/ 1875240 h 1965240"/>
            </a:gdLst>
            <a:ahLst/>
            <a:rect l="textAreaLeft" t="textAreaTop" r="textAreaRight" b="textAreaBottom"/>
            <a:pathLst>
              <a:path w="21600" h="22954">
                <a:moveTo>
                  <a:pt x="3600" y="0"/>
                </a:moveTo>
                <a:arcTo wR="3600" hR="3600" stAng="16200000" swAng="-5400000"/>
                <a:lnTo>
                  <a:pt x="0" y="19354"/>
                </a:lnTo>
                <a:arcTo wR="3600" hR="3600" stAng="10800000" swAng="-5400000"/>
                <a:lnTo>
                  <a:pt x="18000" y="229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3" name="Objaśnienie: linia bez obramowania 17"/>
          <p:cNvSpPr/>
          <p:nvPr/>
        </p:nvSpPr>
        <p:spPr>
          <a:xfrm>
            <a:off x="6576840" y="1463760"/>
            <a:ext cx="2251080" cy="11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00" y="33293"/>
                </a:moveTo>
                <a:lnTo>
                  <a:pt x="-1909" y="11660"/>
                </a:lnTo>
              </a:path>
            </a:pathLst>
          </a:custGeom>
          <a:noFill/>
          <a:ln cap="rnd" w="22320">
            <a:solidFill>
              <a:srgbClr val="8cb64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Strony notatek –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moc dla prelegent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4" name="Objaśnienie: linia bez obramowania 18"/>
          <p:cNvSpPr/>
          <p:nvPr/>
        </p:nvSpPr>
        <p:spPr>
          <a:xfrm>
            <a:off x="6948360" y="4281480"/>
            <a:ext cx="1944720" cy="166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863" y="-10320"/>
                </a:moveTo>
                <a:lnTo>
                  <a:pt x="-2328" y="-720"/>
                </a:lnTo>
              </a:path>
            </a:pathLst>
          </a:custGeom>
          <a:noFill/>
          <a:ln cap="rnd" w="22320">
            <a:solidFill>
              <a:srgbClr val="8cb64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idok konspektu –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rukowanie konspektu prezentacji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68360" y="46800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6. USTALENIE PARAMETRÓW POKAZU I POKAZ</a:t>
            </a:r>
            <a:br>
              <a:rPr sz="24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O czym należy pamiętać wygłaszając prezentację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6" name="Owal 9"/>
          <p:cNvSpPr/>
          <p:nvPr/>
        </p:nvSpPr>
        <p:spPr>
          <a:xfrm>
            <a:off x="8059680" y="239760"/>
            <a:ext cx="846360" cy="847800"/>
          </a:xfrm>
          <a:prstGeom prst="ellipse">
            <a:avLst/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7" name="Grafika 10" descr="Nauczyciel"/>
          <p:cNvPicPr/>
          <p:nvPr/>
        </p:nvPicPr>
        <p:blipFill>
          <a:blip r:embed="rId1"/>
          <a:stretch/>
        </p:blipFill>
        <p:spPr>
          <a:xfrm>
            <a:off x="8194680" y="37620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578" name="Obraz 4" descr=""/>
          <p:cNvPicPr/>
          <p:nvPr/>
        </p:nvPicPr>
        <p:blipFill>
          <a:blip r:embed="rId2"/>
          <a:stretch/>
        </p:blipFill>
        <p:spPr>
          <a:xfrm>
            <a:off x="1403280" y="2166840"/>
            <a:ext cx="1782720" cy="1338480"/>
          </a:xfrm>
          <a:prstGeom prst="rect">
            <a:avLst/>
          </a:prstGeom>
          <a:ln w="0">
            <a:noFill/>
          </a:ln>
        </p:spPr>
      </p:pic>
      <p:pic>
        <p:nvPicPr>
          <p:cNvPr id="579" name="Grafika 2" descr="Nauczyciel"/>
          <p:cNvPicPr/>
          <p:nvPr/>
        </p:nvPicPr>
        <p:blipFill>
          <a:blip r:embed="rId3"/>
          <a:stretch/>
        </p:blipFill>
        <p:spPr>
          <a:xfrm>
            <a:off x="598320" y="1397160"/>
            <a:ext cx="2876760" cy="2876400"/>
          </a:xfrm>
          <a:prstGeom prst="rect">
            <a:avLst/>
          </a:prstGeom>
          <a:ln w="0">
            <a:noFill/>
          </a:ln>
        </p:spPr>
      </p:pic>
      <p:sp>
        <p:nvSpPr>
          <p:cNvPr id="580" name="Dymek mowy: prostokąt z zaokrąglonymi rogami 8"/>
          <p:cNvSpPr/>
          <p:nvPr/>
        </p:nvSpPr>
        <p:spPr>
          <a:xfrm>
            <a:off x="3762360" y="2060640"/>
            <a:ext cx="5035680" cy="3701880"/>
          </a:xfrm>
          <a:prstGeom prst="wedgeRoundRectCallout">
            <a:avLst>
              <a:gd name="adj1" fmla="val -91833"/>
              <a:gd name="adj2" fmla="val -25731"/>
              <a:gd name="adj3" fmla="val 16667"/>
            </a:avLst>
          </a:prstGeom>
          <a:solidFill>
            <a:srgbClr val="ffffff"/>
          </a:solidFill>
          <a:ln cap="rnd" w="22320">
            <a:solidFill>
              <a:srgbClr val="8cb6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25092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stal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arametry pokazu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sposób przełączania slajdów, narracja) w karcie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kaz slajdów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5092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brze się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ygotuj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przed pokazem przejrzyj jeszcze notatki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5092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ażne jest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ierwsze wrażenie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– dopracuj wstęp prezentacji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5092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trzymuj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kontak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 odbiorcami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5092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Ni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zytaj tekstu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tylko go komentuj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5092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rób krótkie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dsumowani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ole tekstowe 3"/>
          <p:cNvSpPr/>
          <p:nvPr/>
        </p:nvSpPr>
        <p:spPr>
          <a:xfrm>
            <a:off x="2087640" y="2205000"/>
            <a:ext cx="49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5400" spc="-1" strike="noStrike">
                <a:solidFill>
                  <a:srgbClr val="366658"/>
                </a:solidFill>
                <a:latin typeface="Calibri"/>
                <a:ea typeface="Calibri"/>
              </a:rPr>
              <a:t>Dziękuję za uwagę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8T13:27:44Z</dcterms:created>
  <dc:creator>MK</dc:creator>
  <dc:description/>
  <dc:language>en-US</dc:language>
  <cp:lastModifiedBy>msk</cp:lastModifiedBy>
  <dcterms:modified xsi:type="dcterms:W3CDTF">2019-11-02T13:20:40Z</dcterms:modified>
  <cp:revision>152</cp:revision>
  <dc:subject/>
  <dc:title>Jak stworzyć dobrą prezentację?</dc:title>
</cp:coreProperties>
</file>