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8B01E3-99B5-488E-971B-52F3092F074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344FA9-9D0F-4F28-9997-A91A413E778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8779D-A43D-4BC9-A38C-FB65D738E48C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1B30F-1F16-4274-9EF9-B0C17168159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B9E776-F22C-4010-9ADF-437AFB28679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56DC94-2240-453C-8971-5E3E6EAC1CF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F42862-DE03-49BF-B6F2-3C185F18875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661-55D6-4E9D-9AF1-19F601A3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CB58-3EAF-40FE-87E3-3341E0C0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B9C74-2034-4D91-A519-AADFA9B5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AC333-4068-4885-B24E-EB79ED4AE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5F355-3B54-40C8-B748-BEB6E509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06514-D28C-4C25-BC80-A5BD4858A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E9B28-0047-4C87-8DB3-A1600020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A062C-8BD3-41D9-97E9-D65B8EE6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F51A0-B237-41E0-8A69-DB02E40A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34184-ADF6-4756-A338-918CE2EB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78F9ED-C936-4304-97E4-7ABD265E2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FEC47-063B-4FDD-9411-25A40D66C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68F-9260-46A4-BD80-DB71A0B5F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2F78A-4EA0-4623-ADC4-9AF20A88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5E15C-DF6C-4641-857E-4318DBF3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B0817-FD64-4F6E-ACED-CED1AFBB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129DF7-5887-4C60-AC98-25F7B7D7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0A2AAC-47A7-4991-BE38-76D7C50C5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F3368-B6F7-476C-B125-0D6BB81B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C2D9E2-A92B-48B6-83E2-A4942109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7FE97D-3D83-442D-83B7-CE994BD4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EF9C5-E571-4525-81AB-5E4AB11F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8E0049-B74D-45F2-8F27-B4E5E7B3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23A3-DCDE-4B95-8BD0-B8D2F39B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59825-C989-42DA-B893-2D8E7B7BB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0FE5-E4E3-49C9-B698-4B0E88116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D7F94-7BC9-41C3-86B9-3EB0E53D1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89C4-943D-49D4-8762-AC19F022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6FE69-B404-403E-9AAC-FC8AFD1A5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D9B0-0160-4A02-987A-B1262D821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6839-EF02-4CAF-9A26-9A021CB3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9B65-2753-46AC-9482-1EE90B05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8488-1602-476C-8405-1F2089961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2CC3F-7FFF-469D-9DF6-8D9B5350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0CBC-0506-4325-A919-D90C4263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118F-2C92-47C7-9246-B49B228A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6BA5A-3B1E-4A27-93C5-D1BD5CF9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5002-DF2E-4345-9ED8-6B56CCEA6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4CB45-079A-4685-99CF-4735E6B56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F38CA-BDBB-46DF-A238-880C05D3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F0F2A-5471-4502-891B-4823CE64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6F7C2-B155-4C50-8FDB-E9D921C5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A98FB-EB3D-488C-84BF-80108C08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37AC-4E4D-4B98-897B-0BD63395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E1E6C-6576-4C41-A26D-D757B9E4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8C557-8F5D-419B-B240-7D0E4A76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38469-A488-475A-8760-AAE1ADEC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B8470-462D-4A59-8A66-02B7BC1B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F153B-1ED9-483B-9077-9F7BC60C7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45C3B-B61F-4863-BA0D-7A8E34AF4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6739F-1181-4380-AE3C-9E52B342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52683-231E-40C2-A332-3E56A7EC5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10889-769D-43C6-B5DD-3BA5672E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27755-011C-4CB0-8562-1BCE6557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3FE-D520-4C52-9C1D-B6DF6B39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FF7DB-9F72-46E0-9F4F-3750BC99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C63E8-C3C6-4516-A610-12577127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C47D7-5D5D-4B8C-8779-4673EFA1D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136F7-420A-4FE3-A1CD-9839622D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92DE6-B902-4EB7-AC7F-21282D5E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B1DAA-E74C-4D13-B70B-2F4B3D59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7763D-3734-4690-9B5B-29CFD345D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070ED-7C93-4848-BAF5-34873242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B2E71-1628-42B2-872C-C71987AED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920D9-6192-4D33-97AB-CF5E384D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BD1E-7177-4D26-9CA5-07DE33F3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43DAE-88BB-41EE-A83A-08B6F2DE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AC94C-C850-48CE-93CD-AB0EFD4A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2A633-6104-4773-BC8B-45D55264F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358DF-2B49-4059-8D63-AF9A427F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613B8-50CB-4A51-90B0-58B301BD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97923-1806-450B-802D-B688A70B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271D1-F57E-4190-A7F7-5079B05F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482F6-5C41-4771-8868-155FAB50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76207-665B-420C-BD32-56F7D37D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B1929-6A47-46CF-A8D5-2A463A857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36EA-A9F6-4A29-9F4B-E28ADEA6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D23A5-B327-4556-8DB8-B9C34F6F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DB7E3D-45EF-4DF7-8E4B-27428642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B52208-1ABA-4930-ABB5-B46E3E82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0D2C0-4BBC-462E-97C1-A074646B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0D791-1C7A-4674-958F-F32F798B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5D693-A778-4302-91E1-8B8846BF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5C61E-9914-4EDE-9AA7-61DBFC82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21D2F-B49E-438A-B282-4495FA05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C82D4-5A5B-4FA7-B6A7-C2E9760B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89B7CD-3088-424F-A40F-1C510E186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BCB-4F5A-40A0-A4D1-C7B21BAC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732DF-E27C-4735-A547-B635DA17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30BE5-677F-4C19-AB9A-4EAA7522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E8147-2388-4F9E-8D35-97A872A6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B43CB-1904-48A5-A13D-A2326E906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60ADB-F6D9-4E68-861C-7BF915AAA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6BA7D-3E6C-42A0-A473-A6AACDF1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7C6169-0CF7-432F-B12F-A4FB93FA1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726E2-1EA2-423C-89EB-FA29CCA4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D91AC-603E-447C-8276-FA6751B0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B00B1-A093-401A-A167-45734D36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9345-F346-4430-8C99-6EFE0BA3C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B98D4-E70D-4BC8-86E9-667D316B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C91DA-77AB-462F-B9B2-543FF114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05061-BD02-45B7-8396-AE563FCF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0DDBC-43EC-4B00-B606-75BA90894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4B453-EE55-4ECB-A325-5D18D107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DDD0B-BC24-446D-8CF9-973D3916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BDCE9-BD6E-4B3A-ABE0-DCE918DD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DC230-0427-468E-ABE5-4BC2509F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3ACE4-F78D-41E6-BBE2-4583A06F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3B046-CD24-44AA-8647-3031851C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6ABA-9646-4947-9C6A-54E6D269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581040" y="687240"/>
            <a:ext cx="7989840" cy="50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921B8-2539-420D-A68D-C42094B7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D2CC67-1CE2-4AB4-A5D4-2D225BE3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096E2-9108-4470-B31A-381D1330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CAD10-9476-49F9-9DB5-9BD5E439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81040" y="4124160"/>
            <a:ext cx="798984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67B7A-CD4C-4D64-A58F-46308CDED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5320" y="22269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58104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5320" y="4124160"/>
            <a:ext cx="389880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E39E4-953C-4B46-93D0-CCD268073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824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984280" y="22269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58104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824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984280" y="4124160"/>
            <a:ext cx="2572560" cy="17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B5BCB-B6B4-4439-BC11-1DC0C825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03AD6C-EC04-4A8B-B4EA-CC36F443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4441C-7CF5-4CBB-9C2F-CB099E9A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38BD43-2C3E-45F2-8AA5-A6C7492E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8B935A-C966-4F6F-90E2-60380BB457EF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629400" y="600120"/>
            <a:ext cx="2057400" cy="58165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744960" y="5955840"/>
            <a:ext cx="947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580680" y="5951520"/>
            <a:ext cx="5923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40808-330C-43DD-B69E-75467A87661C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447840" y="3086280"/>
            <a:ext cx="8240400" cy="330516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443CB8-B2B3-4A31-8EFF-63B3784CAA35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D3FD7E-310D-47CC-9444-8DBA355795D1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452520" y="514188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80949-4EA8-4161-A35B-90F0AB1C0218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71A98-EB3E-4BB7-B055-BCC7A7CD0588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EFD347-2ED8-4232-8592-DBB216B48012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Rectangle 5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01ECD-7597-4336-917C-8D05215CAD6D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452520" y="5141880"/>
            <a:ext cx="8238960" cy="127476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55a0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745F6D-F125-4064-A36B-DC41783E61E8}" type="slidenum">
              <a:rPr b="0" lang="pl-PL" sz="900" spc="-1" strike="noStrike">
                <a:solidFill>
                  <a:srgbClr val="55a08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f4e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8"/>
          <p:cNvSpPr/>
          <p:nvPr/>
        </p:nvSpPr>
        <p:spPr>
          <a:xfrm>
            <a:off x="447840" y="441360"/>
            <a:ext cx="2720880" cy="10800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9"/>
          <p:cNvSpPr/>
          <p:nvPr/>
        </p:nvSpPr>
        <p:spPr>
          <a:xfrm>
            <a:off x="5975280" y="441360"/>
            <a:ext cx="2711520" cy="108000"/>
          </a:xfrm>
          <a:prstGeom prst="rect">
            <a:avLst/>
          </a:prstGeom>
          <a:solidFill>
            <a:srgbClr val="969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Rectangle 10"/>
          <p:cNvSpPr/>
          <p:nvPr/>
        </p:nvSpPr>
        <p:spPr>
          <a:xfrm>
            <a:off x="3216240" y="441360"/>
            <a:ext cx="2711520" cy="108000"/>
          </a:xfrm>
          <a:prstGeom prst="rect">
            <a:avLst/>
          </a:prstGeom>
          <a:solidFill>
            <a:srgbClr val="8cb6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447840" y="600120"/>
            <a:ext cx="8238960" cy="1258920"/>
          </a:xfrm>
          <a:prstGeom prst="rect">
            <a:avLst/>
          </a:prstGeom>
          <a:solidFill>
            <a:srgbClr val="366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81040" y="687240"/>
            <a:ext cx="7989840" cy="10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81040" y="2226960"/>
            <a:ext cx="79898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04920" indent="-30492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Click to edit the outline text format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1" marL="628560" indent="-30456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con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2" marL="898560" indent="-27000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Third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3" marL="124128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our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4" marL="1601640" indent="-233280">
              <a:spcBef>
                <a:spcPts val="451"/>
              </a:spcBef>
              <a:spcAft>
                <a:spcPts val="601"/>
              </a:spcAft>
              <a:buClr>
                <a:srgbClr val="8cb64a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Fif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5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ix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  <a:p>
            <a:pPr lvl="6" marL="1601640" indent="-2332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SzPct val="92000"/>
              <a:buFont typeface="Wingdings 2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3d3d3d"/>
                </a:solidFill>
                <a:latin typeface="Gill Sans MT"/>
              </a:rPr>
              <a:t>Seventh Outline Level</a:t>
            </a:r>
            <a:endParaRPr b="0" lang="en-US" sz="1800" spc="-1" strike="noStrike">
              <a:solidFill>
                <a:srgbClr val="3d3d3d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5559120" y="595584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580680" y="5951520"/>
            <a:ext cx="4870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7800480" y="5955840"/>
            <a:ext cx="7700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l-PL" sz="900" spc="-1" strike="noStrike">
                <a:solidFill>
                  <a:srgbClr val="8cb6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490C14-0D8E-4DAA-BEAB-0C0E496625A8}" type="slidenum">
              <a:rPr b="0" lang="pl-PL" sz="900" spc="-1" strike="noStrike">
                <a:solidFill>
                  <a:srgbClr val="8cb64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81040" y="990720"/>
            <a:ext cx="7989840" cy="15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3600" spc="-1" strike="noStrike">
                <a:solidFill>
                  <a:srgbClr val="366658"/>
                </a:solidFill>
                <a:latin typeface="Arial"/>
              </a:rPr>
              <a:t>TWORZENIE PREZENTACJI MULTIMEDIALNEJ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55280" y="3860280"/>
            <a:ext cx="781524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Gill Sans MT"/>
              </a:rPr>
              <a:t>W SZEŚCIU KROKACH</a:t>
            </a:r>
            <a:endParaRPr b="0" lang="en-US" sz="2400" spc="-1" strike="noStrike">
              <a:solidFill>
                <a:srgbClr val="3d3d3d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Diagram 3" descr=""/>
          <p:cNvPicPr/>
          <p:nvPr/>
        </p:nvPicPr>
        <p:blipFill>
          <a:blip r:embed="rId1"/>
          <a:stretch/>
        </p:blipFill>
        <p:spPr>
          <a:xfrm>
            <a:off x="262080" y="1530360"/>
            <a:ext cx="8626320" cy="5718240"/>
          </a:xfrm>
          <a:prstGeom prst="rect">
            <a:avLst/>
          </a:prstGeom>
          <a:ln w="0">
            <a:noFill/>
          </a:ln>
        </p:spPr>
      </p:pic>
      <p:grpSp>
        <p:nvGrpSpPr>
          <p:cNvPr id="459" name="Grupa 2"/>
          <p:cNvGrpSpPr/>
          <p:nvPr/>
        </p:nvGrpSpPr>
        <p:grpSpPr>
          <a:xfrm>
            <a:off x="1424160" y="1336680"/>
            <a:ext cx="1276200" cy="1276200"/>
            <a:chOff x="1424160" y="1336680"/>
            <a:chExt cx="1276200" cy="1276200"/>
          </a:xfrm>
        </p:grpSpPr>
        <p:sp>
          <p:nvSpPr>
            <p:cNvPr id="460" name="Owal 20"/>
            <p:cNvSpPr/>
            <p:nvPr/>
          </p:nvSpPr>
          <p:spPr>
            <a:xfrm>
              <a:off x="1424160" y="1336680"/>
              <a:ext cx="1276200" cy="127620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1" name="Grafika 17" descr="Lista kontrolna"/>
            <p:cNvPicPr/>
            <p:nvPr/>
          </p:nvPicPr>
          <p:blipFill>
            <a:blip r:embed="rId2"/>
            <a:stretch/>
          </p:blipFill>
          <p:spPr>
            <a:xfrm>
              <a:off x="1604880" y="1517400"/>
              <a:ext cx="900000" cy="9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2" name="Grupa 4"/>
          <p:cNvGrpSpPr/>
          <p:nvPr/>
        </p:nvGrpSpPr>
        <p:grpSpPr>
          <a:xfrm>
            <a:off x="7684920" y="1263600"/>
            <a:ext cx="1274760" cy="1276560"/>
            <a:chOff x="7684920" y="1263600"/>
            <a:chExt cx="1274760" cy="1276560"/>
          </a:xfrm>
        </p:grpSpPr>
        <p:sp>
          <p:nvSpPr>
            <p:cNvPr id="463" name="Owal 21"/>
            <p:cNvSpPr/>
            <p:nvPr/>
          </p:nvSpPr>
          <p:spPr>
            <a:xfrm>
              <a:off x="7684920" y="1263600"/>
              <a:ext cx="12747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4" name="Grafika 15" descr="Głośność"/>
            <p:cNvPicPr/>
            <p:nvPr/>
          </p:nvPicPr>
          <p:blipFill>
            <a:blip r:embed="rId3"/>
            <a:stretch/>
          </p:blipFill>
          <p:spPr>
            <a:xfrm>
              <a:off x="7924680" y="1450800"/>
              <a:ext cx="8985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upa 1"/>
          <p:cNvGrpSpPr/>
          <p:nvPr/>
        </p:nvGrpSpPr>
        <p:grpSpPr>
          <a:xfrm>
            <a:off x="4616280" y="1263600"/>
            <a:ext cx="1276560" cy="1276560"/>
            <a:chOff x="4616280" y="1263600"/>
            <a:chExt cx="1276560" cy="1276560"/>
          </a:xfrm>
        </p:grpSpPr>
        <p:sp>
          <p:nvSpPr>
            <p:cNvPr id="466" name="Owal 23"/>
            <p:cNvSpPr/>
            <p:nvPr/>
          </p:nvSpPr>
          <p:spPr>
            <a:xfrm>
              <a:off x="4616280" y="1263600"/>
              <a:ext cx="12765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67" name="Grafika 19" descr="Ekran projekcyjny"/>
            <p:cNvPicPr/>
            <p:nvPr/>
          </p:nvPicPr>
          <p:blipFill>
            <a:blip r:embed="rId4"/>
            <a:stretch/>
          </p:blipFill>
          <p:spPr>
            <a:xfrm>
              <a:off x="4806720" y="1446120"/>
              <a:ext cx="9003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8" name="Grupa 27"/>
          <p:cNvGrpSpPr/>
          <p:nvPr/>
        </p:nvGrpSpPr>
        <p:grpSpPr>
          <a:xfrm>
            <a:off x="7701120" y="3860640"/>
            <a:ext cx="1274760" cy="1276560"/>
            <a:chOff x="7701120" y="3860640"/>
            <a:chExt cx="1274760" cy="1276560"/>
          </a:xfrm>
        </p:grpSpPr>
        <p:sp>
          <p:nvSpPr>
            <p:cNvPr id="469" name="Owal 28"/>
            <p:cNvSpPr/>
            <p:nvPr/>
          </p:nvSpPr>
          <p:spPr>
            <a:xfrm>
              <a:off x="7701120" y="3860640"/>
              <a:ext cx="127476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0" name="Grafika 29" descr="Dyskietka"/>
            <p:cNvPicPr/>
            <p:nvPr/>
          </p:nvPicPr>
          <p:blipFill>
            <a:blip r:embed="rId5"/>
            <a:stretch/>
          </p:blipFill>
          <p:spPr>
            <a:xfrm>
              <a:off x="7888320" y="4047840"/>
              <a:ext cx="900360" cy="90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1" name="Grupa 30"/>
          <p:cNvGrpSpPr/>
          <p:nvPr/>
        </p:nvGrpSpPr>
        <p:grpSpPr>
          <a:xfrm>
            <a:off x="4610160" y="3860640"/>
            <a:ext cx="1276200" cy="1276560"/>
            <a:chOff x="4610160" y="3860640"/>
            <a:chExt cx="1276200" cy="1276560"/>
          </a:xfrm>
        </p:grpSpPr>
        <p:sp>
          <p:nvSpPr>
            <p:cNvPr id="472" name="Owal 31"/>
            <p:cNvSpPr/>
            <p:nvPr/>
          </p:nvSpPr>
          <p:spPr>
            <a:xfrm>
              <a:off x="4610160" y="3860640"/>
              <a:ext cx="127620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3" name="Grafika 32" descr="Drukarka"/>
            <p:cNvPicPr/>
            <p:nvPr/>
          </p:nvPicPr>
          <p:blipFill>
            <a:blip r:embed="rId6"/>
            <a:stretch/>
          </p:blipFill>
          <p:spPr>
            <a:xfrm>
              <a:off x="4802040" y="4039920"/>
              <a:ext cx="901800" cy="9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4" name="Grupa 33"/>
          <p:cNvGrpSpPr/>
          <p:nvPr/>
        </p:nvGrpSpPr>
        <p:grpSpPr>
          <a:xfrm>
            <a:off x="1494000" y="3860640"/>
            <a:ext cx="1276200" cy="1276560"/>
            <a:chOff x="1494000" y="3860640"/>
            <a:chExt cx="1276200" cy="1276560"/>
          </a:xfrm>
        </p:grpSpPr>
        <p:sp>
          <p:nvSpPr>
            <p:cNvPr id="475" name="Owal 34"/>
            <p:cNvSpPr/>
            <p:nvPr/>
          </p:nvSpPr>
          <p:spPr>
            <a:xfrm>
              <a:off x="1494000" y="3860640"/>
              <a:ext cx="1276200" cy="1276560"/>
            </a:xfrm>
            <a:prstGeom prst="ellipse">
              <a:avLst/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476" name="Grafika 35" descr="Nauczyciel"/>
            <p:cNvPicPr/>
            <p:nvPr/>
          </p:nvPicPr>
          <p:blipFill>
            <a:blip r:embed="rId7"/>
            <a:stretch/>
          </p:blipFill>
          <p:spPr>
            <a:xfrm>
              <a:off x="1681200" y="4092480"/>
              <a:ext cx="901800" cy="90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ETAPY PRZYGOTOWYWANIA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ole tekstowe 5"/>
          <p:cNvSpPr/>
          <p:nvPr/>
        </p:nvSpPr>
        <p:spPr>
          <a:xfrm>
            <a:off x="3865680" y="6332400"/>
            <a:ext cx="15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Gill Sans MT"/>
              </a:rPr>
              <a:t>(opcjonalnie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1. PLANOWANIE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480" name="Prostokąt 29"/>
          <p:cNvGrpSpPr/>
          <p:nvPr/>
        </p:nvGrpSpPr>
        <p:grpSpPr>
          <a:xfrm>
            <a:off x="781200" y="2438280"/>
            <a:ext cx="1309680" cy="884520"/>
            <a:chOff x="781200" y="2438280"/>
            <a:chExt cx="1309680" cy="884520"/>
          </a:xfrm>
        </p:grpSpPr>
        <p:pic>
          <p:nvPicPr>
            <p:cNvPr id="481" name="Prostokąt 29" descr=""/>
            <p:cNvPicPr/>
            <p:nvPr/>
          </p:nvPicPr>
          <p:blipFill>
            <a:blip r:embed="rId1"/>
            <a:stretch/>
          </p:blipFill>
          <p:spPr>
            <a:xfrm>
              <a:off x="781200" y="2438280"/>
              <a:ext cx="130968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861840" y="2516040"/>
              <a:ext cx="1152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83" name="Prostokąt 30"/>
          <p:cNvGrpSpPr/>
          <p:nvPr/>
        </p:nvGrpSpPr>
        <p:grpSpPr>
          <a:xfrm>
            <a:off x="781200" y="3376440"/>
            <a:ext cx="1309680" cy="884520"/>
            <a:chOff x="781200" y="3376440"/>
            <a:chExt cx="1309680" cy="884520"/>
          </a:xfrm>
        </p:grpSpPr>
        <p:pic>
          <p:nvPicPr>
            <p:cNvPr id="484" name="Prostokąt 30" descr=""/>
            <p:cNvPicPr/>
            <p:nvPr/>
          </p:nvPicPr>
          <p:blipFill>
            <a:blip r:embed="rId2"/>
            <a:stretch/>
          </p:blipFill>
          <p:spPr>
            <a:xfrm>
              <a:off x="781200" y="3376440"/>
              <a:ext cx="1309680" cy="8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861840" y="3457440"/>
              <a:ext cx="115272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2. 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grpSp>
        <p:nvGrpSpPr>
          <p:cNvPr id="486" name="Grupa 31"/>
          <p:cNvGrpSpPr/>
          <p:nvPr/>
        </p:nvGrpSpPr>
        <p:grpSpPr>
          <a:xfrm>
            <a:off x="692280" y="4348080"/>
            <a:ext cx="1549440" cy="987480"/>
            <a:chOff x="692280" y="4348080"/>
            <a:chExt cx="1549440" cy="987480"/>
          </a:xfrm>
        </p:grpSpPr>
        <p:grpSp>
          <p:nvGrpSpPr>
            <p:cNvPr id="487" name="Prostokąt 32"/>
            <p:cNvGrpSpPr/>
            <p:nvPr/>
          </p:nvGrpSpPr>
          <p:grpSpPr>
            <a:xfrm>
              <a:off x="692280" y="4348080"/>
              <a:ext cx="1189800" cy="761760"/>
              <a:chOff x="692280" y="4348080"/>
              <a:chExt cx="1189800" cy="761760"/>
            </a:xfrm>
          </p:grpSpPr>
          <p:pic>
            <p:nvPicPr>
              <p:cNvPr id="488" name="Prostokąt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434808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761400" y="441756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90" name="Prostokąt 33"/>
            <p:cNvGrpSpPr/>
            <p:nvPr/>
          </p:nvGrpSpPr>
          <p:grpSpPr>
            <a:xfrm>
              <a:off x="858240" y="4442400"/>
              <a:ext cx="1189800" cy="761760"/>
              <a:chOff x="858240" y="4442400"/>
              <a:chExt cx="1189800" cy="761760"/>
            </a:xfrm>
          </p:grpSpPr>
          <p:pic>
            <p:nvPicPr>
              <p:cNvPr id="491" name="Prostokąt 33" descr=""/>
              <p:cNvPicPr/>
              <p:nvPr/>
            </p:nvPicPr>
            <p:blipFill>
              <a:blip r:embed="rId4"/>
              <a:stretch/>
            </p:blipFill>
            <p:spPr>
              <a:xfrm>
                <a:off x="858240" y="444240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2" name=""/>
              <p:cNvSpPr/>
              <p:nvPr/>
            </p:nvSpPr>
            <p:spPr>
              <a:xfrm>
                <a:off x="929880" y="450972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493" name="Prostokąt 34"/>
            <p:cNvGrpSpPr/>
            <p:nvPr/>
          </p:nvGrpSpPr>
          <p:grpSpPr>
            <a:xfrm>
              <a:off x="1051920" y="4573800"/>
              <a:ext cx="1189800" cy="761760"/>
              <a:chOff x="1051920" y="4573800"/>
              <a:chExt cx="1189800" cy="761760"/>
            </a:xfrm>
          </p:grpSpPr>
          <p:pic>
            <p:nvPicPr>
              <p:cNvPr id="494" name="Prostokąt 34" descr=""/>
              <p:cNvPicPr/>
              <p:nvPr/>
            </p:nvPicPr>
            <p:blipFill>
              <a:blip r:embed="rId5"/>
              <a:stretch/>
            </p:blipFill>
            <p:spPr>
              <a:xfrm>
                <a:off x="1051920" y="4573800"/>
                <a:ext cx="1189800" cy="76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5" name=""/>
              <p:cNvSpPr/>
              <p:nvPr/>
            </p:nvSpPr>
            <p:spPr>
              <a:xfrm>
                <a:off x="1121760" y="4642560"/>
                <a:ext cx="10465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pl-PL" sz="1800" spc="-1" strike="noStrike">
                    <a:solidFill>
                      <a:srgbClr val="366658"/>
                    </a:solidFill>
                    <a:latin typeface="Arial"/>
                    <a:ea typeface="Arial"/>
                  </a:rPr>
                  <a:t>3. do n-1</a:t>
                </a: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grpSp>
        <p:nvGrpSpPr>
          <p:cNvPr id="496" name="Prostokąt 37"/>
          <p:cNvGrpSpPr/>
          <p:nvPr/>
        </p:nvGrpSpPr>
        <p:grpSpPr>
          <a:xfrm>
            <a:off x="781200" y="5456160"/>
            <a:ext cx="1309680" cy="884160"/>
            <a:chOff x="781200" y="5456160"/>
            <a:chExt cx="1309680" cy="884160"/>
          </a:xfrm>
        </p:grpSpPr>
        <p:pic>
          <p:nvPicPr>
            <p:cNvPr id="497" name="Prostokąt 37" descr=""/>
            <p:cNvPicPr/>
            <p:nvPr/>
          </p:nvPicPr>
          <p:blipFill>
            <a:blip r:embed="rId6"/>
            <a:stretch/>
          </p:blipFill>
          <p:spPr>
            <a:xfrm>
              <a:off x="781200" y="5456160"/>
              <a:ext cx="13096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861840" y="5535720"/>
              <a:ext cx="11527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pl-PL" sz="1800" spc="-1" strike="noStrike">
                  <a:solidFill>
                    <a:srgbClr val="366658"/>
                  </a:solidFill>
                  <a:latin typeface="Arial"/>
                  <a:ea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499" name="pole tekstowe 20"/>
          <p:cNvSpPr/>
          <p:nvPr/>
        </p:nvSpPr>
        <p:spPr>
          <a:xfrm>
            <a:off x="2705040" y="2570040"/>
            <a:ext cx="548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Tytuł i ewentualnie podtytuł oraz autor prezenta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ole tekstowe 20"/>
          <p:cNvSpPr/>
          <p:nvPr/>
        </p:nvSpPr>
        <p:spPr>
          <a:xfrm>
            <a:off x="2641680" y="3495600"/>
            <a:ext cx="54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stęp, spis treści prezentacji (np. w formie nawigacji po głównych punktach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ole tekstowe 20"/>
          <p:cNvSpPr/>
          <p:nvPr/>
        </p:nvSpPr>
        <p:spPr>
          <a:xfrm>
            <a:off x="2682720" y="4618080"/>
            <a:ext cx="506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Właściwa treść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ole tekstowe 20"/>
          <p:cNvSpPr/>
          <p:nvPr/>
        </p:nvSpPr>
        <p:spPr>
          <a:xfrm>
            <a:off x="2617920" y="5457960"/>
            <a:ext cx="54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Arial"/>
              </a:rPr>
              <a:t>Podsumowanie, dane o autorze, dane kontaktowe, podziękowania itp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3" name="Grafika 57" descr="Grupa"/>
          <p:cNvPicPr/>
          <p:nvPr/>
        </p:nvPicPr>
        <p:blipFill>
          <a:blip r:embed="rId7"/>
          <a:stretch/>
        </p:blipFill>
        <p:spPr>
          <a:xfrm>
            <a:off x="5388120" y="1254240"/>
            <a:ext cx="965160" cy="965160"/>
          </a:xfrm>
          <a:prstGeom prst="rect">
            <a:avLst/>
          </a:prstGeom>
          <a:ln w="0">
            <a:noFill/>
          </a:ln>
        </p:spPr>
      </p:pic>
      <p:pic>
        <p:nvPicPr>
          <p:cNvPr id="504" name="Grafika 58" descr="Dokument"/>
          <p:cNvPicPr/>
          <p:nvPr/>
        </p:nvPicPr>
        <p:blipFill>
          <a:blip r:embed="rId8"/>
          <a:stretch/>
        </p:blipFill>
        <p:spPr>
          <a:xfrm>
            <a:off x="6357960" y="1476360"/>
            <a:ext cx="704880" cy="703440"/>
          </a:xfrm>
          <a:prstGeom prst="rect">
            <a:avLst/>
          </a:prstGeom>
          <a:ln w="0">
            <a:noFill/>
          </a:ln>
        </p:spPr>
      </p:pic>
      <p:sp>
        <p:nvSpPr>
          <p:cNvPr id="505" name="Strzałka: pięciokąt 59"/>
          <p:cNvSpPr/>
          <p:nvPr/>
        </p:nvSpPr>
        <p:spPr>
          <a:xfrm>
            <a:off x="592200" y="1476360"/>
            <a:ext cx="4124160" cy="647640"/>
          </a:xfrm>
          <a:custGeom>
            <a:avLst/>
            <a:gdLst>
              <a:gd name="textAreaLeft" fmla="*/ 0 w 4124160"/>
              <a:gd name="textAreaRight" fmla="*/ 4124520 w 412416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04" y="0"/>
                </a:lnTo>
                <a:lnTo>
                  <a:pt x="21600" y="10800"/>
                </a:lnTo>
                <a:lnTo>
                  <a:pt x="1990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stosuj prezentację do odbiorców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i zaplanuj zawartość merytoryczną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Strzałka: pagon 60"/>
          <p:cNvSpPr/>
          <p:nvPr/>
        </p:nvSpPr>
        <p:spPr>
          <a:xfrm>
            <a:off x="4545000" y="1476360"/>
            <a:ext cx="646200" cy="631800"/>
          </a:xfrm>
          <a:custGeom>
            <a:avLst/>
            <a:gdLst>
              <a:gd name="textAreaLeft" fmla="*/ 0 w 646200"/>
              <a:gd name="textAreaRight" fmla="*/ 646560 w 646200"/>
              <a:gd name="textAreaTop" fmla="*/ 0 h 631800"/>
              <a:gd name="textAreaBottom" fmla="*/ 63216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039" y="0"/>
                </a:lnTo>
                <a:lnTo>
                  <a:pt x="21600" y="10800"/>
                </a:lnTo>
                <a:lnTo>
                  <a:pt x="11039" y="21600"/>
                </a:lnTo>
                <a:lnTo>
                  <a:pt x="0" y="21600"/>
                </a:lnTo>
                <a:lnTo>
                  <a:pt x="10561" y="10800"/>
                </a:lnTo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Owal 61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8" name="Grafika 62" descr="Lista kontrolna"/>
          <p:cNvPicPr/>
          <p:nvPr/>
        </p:nvPicPr>
        <p:blipFill>
          <a:blip r:embed="rId9"/>
          <a:stretch/>
        </p:blipFill>
        <p:spPr>
          <a:xfrm>
            <a:off x="8185320" y="376200"/>
            <a:ext cx="5745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2. TWORZENIE PREZENTACJI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Owal 35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1" name="Grafika 36" descr="Ekran projekcyjny"/>
          <p:cNvPicPr/>
          <p:nvPr/>
        </p:nvPicPr>
        <p:blipFill>
          <a:blip r:embed="rId1"/>
          <a:stretch/>
        </p:blipFill>
        <p:spPr>
          <a:xfrm>
            <a:off x="8193240" y="390600"/>
            <a:ext cx="574560" cy="576360"/>
          </a:xfrm>
          <a:prstGeom prst="rect">
            <a:avLst/>
          </a:prstGeom>
          <a:ln w="0">
            <a:noFill/>
          </a:ln>
        </p:spPr>
      </p:pic>
      <p:pic>
        <p:nvPicPr>
          <p:cNvPr id="512" name="Diagram 4" descr=""/>
          <p:cNvPicPr/>
          <p:nvPr/>
        </p:nvPicPr>
        <p:blipFill>
          <a:blip r:embed="rId2"/>
          <a:stretch/>
        </p:blipFill>
        <p:spPr>
          <a:xfrm>
            <a:off x="615960" y="1785960"/>
            <a:ext cx="3541680" cy="4200480"/>
          </a:xfrm>
          <a:prstGeom prst="rect">
            <a:avLst/>
          </a:prstGeom>
          <a:ln w="0">
            <a:noFill/>
          </a:ln>
        </p:spPr>
      </p:pic>
      <p:sp>
        <p:nvSpPr>
          <p:cNvPr id="513" name="Prostokąt 14"/>
          <p:cNvSpPr/>
          <p:nvPr/>
        </p:nvSpPr>
        <p:spPr>
          <a:xfrm>
            <a:off x="5364000" y="1832040"/>
            <a:ext cx="35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lik/Nowy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lub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rojektowanie/Motyw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14" name="Grupa 19"/>
          <p:cNvGrpSpPr/>
          <p:nvPr/>
        </p:nvGrpSpPr>
        <p:grpSpPr>
          <a:xfrm>
            <a:off x="3913200" y="2844720"/>
            <a:ext cx="1257120" cy="925560"/>
            <a:chOff x="3913200" y="2844720"/>
            <a:chExt cx="1257120" cy="925560"/>
          </a:xfrm>
        </p:grpSpPr>
        <p:sp>
          <p:nvSpPr>
            <p:cNvPr id="515" name="Prostokąt: zaokrąglone rogi 17"/>
            <p:cNvSpPr/>
            <p:nvPr/>
          </p:nvSpPr>
          <p:spPr>
            <a:xfrm>
              <a:off x="3913200" y="2844720"/>
              <a:ext cx="12571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16" name="Grupa 12"/>
            <p:cNvGrpSpPr/>
            <p:nvPr/>
          </p:nvGrpSpPr>
          <p:grpSpPr>
            <a:xfrm>
              <a:off x="3954600" y="2879280"/>
              <a:ext cx="1100160" cy="869400"/>
              <a:chOff x="3954600" y="2879280"/>
              <a:chExt cx="1100160" cy="869400"/>
            </a:xfrm>
          </p:grpSpPr>
          <p:pic>
            <p:nvPicPr>
              <p:cNvPr id="517" name="Grafika 38" descr="Dokument"/>
              <p:cNvPicPr/>
              <p:nvPr/>
            </p:nvPicPr>
            <p:blipFill>
              <a:blip r:embed="rId3"/>
              <a:stretch/>
            </p:blipFill>
            <p:spPr>
              <a:xfrm rot="21288600">
                <a:off x="3980160" y="2988720"/>
                <a:ext cx="593640" cy="59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8" name="Grupa 39"/>
              <p:cNvGrpSpPr/>
              <p:nvPr/>
            </p:nvGrpSpPr>
            <p:grpSpPr>
              <a:xfrm>
                <a:off x="4451040" y="2879280"/>
                <a:ext cx="603720" cy="869400"/>
                <a:chOff x="4451040" y="2879280"/>
                <a:chExt cx="603720" cy="869400"/>
              </a:xfrm>
            </p:grpSpPr>
            <p:pic>
              <p:nvPicPr>
                <p:cNvPr id="519" name="Grafika 40" descr="Paleta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492080" y="3145680"/>
                  <a:ext cx="562680" cy="603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0" name="Grafika 41" descr="Mały pędze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451040" y="2879280"/>
                  <a:ext cx="562680" cy="603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521" name="Grupa 23"/>
          <p:cNvGrpSpPr/>
          <p:nvPr/>
        </p:nvGrpSpPr>
        <p:grpSpPr>
          <a:xfrm>
            <a:off x="3886200" y="1700280"/>
            <a:ext cx="1258920" cy="925560"/>
            <a:chOff x="3886200" y="1700280"/>
            <a:chExt cx="1258920" cy="925560"/>
          </a:xfrm>
        </p:grpSpPr>
        <p:sp>
          <p:nvSpPr>
            <p:cNvPr id="522" name="Prostokąt: zaokrąglone rogi 45"/>
            <p:cNvSpPr/>
            <p:nvPr/>
          </p:nvSpPr>
          <p:spPr>
            <a:xfrm>
              <a:off x="3886200" y="170028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523" name="Grafika 18" descr="Rolka filmu"/>
            <p:cNvPicPr/>
            <p:nvPr/>
          </p:nvPicPr>
          <p:blipFill>
            <a:blip r:embed="rId6"/>
            <a:stretch/>
          </p:blipFill>
          <p:spPr>
            <a:xfrm>
              <a:off x="4170240" y="1839960"/>
              <a:ext cx="615960" cy="61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4" name="Grupa 21"/>
          <p:cNvGrpSpPr/>
          <p:nvPr/>
        </p:nvGrpSpPr>
        <p:grpSpPr>
          <a:xfrm>
            <a:off x="3886200" y="3979800"/>
            <a:ext cx="1258920" cy="925560"/>
            <a:chOff x="3886200" y="3979800"/>
            <a:chExt cx="1258920" cy="925560"/>
          </a:xfrm>
        </p:grpSpPr>
        <p:sp>
          <p:nvSpPr>
            <p:cNvPr id="525" name="Prostokąt: zaokrąglone rogi 46"/>
            <p:cNvSpPr/>
            <p:nvPr/>
          </p:nvSpPr>
          <p:spPr>
            <a:xfrm>
              <a:off x="3886200" y="397980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26" name="Grupa 42"/>
            <p:cNvGrpSpPr/>
            <p:nvPr/>
          </p:nvGrpSpPr>
          <p:grpSpPr>
            <a:xfrm>
              <a:off x="4029120" y="4033440"/>
              <a:ext cx="911160" cy="847080"/>
              <a:chOff x="4029120" y="4033440"/>
              <a:chExt cx="911160" cy="847080"/>
            </a:xfrm>
          </p:grpSpPr>
          <p:pic>
            <p:nvPicPr>
              <p:cNvPr id="527" name="Grafika 43" descr="Chodzenie"/>
              <p:cNvPicPr/>
              <p:nvPr/>
            </p:nvPicPr>
            <p:blipFill>
              <a:blip r:embed="rId7"/>
              <a:stretch/>
            </p:blipFill>
            <p:spPr>
              <a:xfrm>
                <a:off x="4029120" y="4033440"/>
                <a:ext cx="681120" cy="68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Grafika 44" descr="Bieg"/>
              <p:cNvPicPr/>
              <p:nvPr/>
            </p:nvPicPr>
            <p:blipFill>
              <a:blip r:embed="rId8"/>
              <a:stretch/>
            </p:blipFill>
            <p:spPr>
              <a:xfrm>
                <a:off x="4333680" y="4275000"/>
                <a:ext cx="606600" cy="605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29" name="Prostokąt 47"/>
          <p:cNvSpPr/>
          <p:nvPr/>
        </p:nvSpPr>
        <p:spPr>
          <a:xfrm>
            <a:off x="5364000" y="2919240"/>
            <a:ext cx="37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stawia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Kształt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Ikony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SmartAr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ykr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30" name="Grupa 25"/>
          <p:cNvGrpSpPr/>
          <p:nvPr/>
        </p:nvGrpSpPr>
        <p:grpSpPr>
          <a:xfrm>
            <a:off x="3886200" y="5076720"/>
            <a:ext cx="1258920" cy="925560"/>
            <a:chOff x="3886200" y="5076720"/>
            <a:chExt cx="1258920" cy="925560"/>
          </a:xfrm>
        </p:grpSpPr>
        <p:sp>
          <p:nvSpPr>
            <p:cNvPr id="531" name="Prostokąt: zaokrąglone rogi 50"/>
            <p:cNvSpPr/>
            <p:nvPr/>
          </p:nvSpPr>
          <p:spPr>
            <a:xfrm>
              <a:off x="3886200" y="5076720"/>
              <a:ext cx="1258920" cy="92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506e22"/>
                </a:gs>
                <a:gs pos="100000">
                  <a:srgbClr val="8ebe42"/>
                </a:gs>
              </a:gsLst>
              <a:lin ang="162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grpSp>
          <p:nvGrpSpPr>
            <p:cNvPr id="532" name="Grupa 24"/>
            <p:cNvGrpSpPr/>
            <p:nvPr/>
          </p:nvGrpSpPr>
          <p:grpSpPr>
            <a:xfrm>
              <a:off x="3983400" y="5197680"/>
              <a:ext cx="1061280" cy="741600"/>
              <a:chOff x="3983400" y="5197680"/>
              <a:chExt cx="1061280" cy="741600"/>
            </a:xfrm>
          </p:grpSpPr>
          <p:pic>
            <p:nvPicPr>
              <p:cNvPr id="533" name="Grafika 48" descr="Puzzle"/>
              <p:cNvPicPr/>
              <p:nvPr/>
            </p:nvPicPr>
            <p:blipFill>
              <a:blip r:embed="rId9"/>
              <a:stretch/>
            </p:blipFill>
            <p:spPr>
              <a:xfrm>
                <a:off x="3983400" y="5197680"/>
                <a:ext cx="620280" cy="61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Grafika 49" descr="Budzik"/>
              <p:cNvPicPr/>
              <p:nvPr/>
            </p:nvPicPr>
            <p:blipFill>
              <a:blip r:embed="rId10"/>
              <a:stretch/>
            </p:blipFill>
            <p:spPr>
              <a:xfrm>
                <a:off x="4424400" y="5319720"/>
                <a:ext cx="620280" cy="619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35" name="Prostokąt 51"/>
          <p:cNvSpPr/>
          <p:nvPr/>
        </p:nvSpPr>
        <p:spPr>
          <a:xfrm>
            <a:off x="5364000" y="4067280"/>
            <a:ext cx="39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Animacj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Okienko animacj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Chronometraż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6" name="Prostokąt 52"/>
          <p:cNvSpPr/>
          <p:nvPr/>
        </p:nvSpPr>
        <p:spPr>
          <a:xfrm>
            <a:off x="5364000" y="5202360"/>
            <a:ext cx="352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Shif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 +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Enter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Ctrl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 + strzałka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Linie siatki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Położe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Wyrówna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,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  <a:ea typeface="Calibri"/>
              </a:rPr>
              <a:t>Rozmieść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3. DODAWANIE DŹWIĘKÓW I FILMÓW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Uatrakcyjnij prezentację dodając multimedia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Owal 9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9" name="Grafika 10" descr="Głośność"/>
          <p:cNvPicPr/>
          <p:nvPr/>
        </p:nvPicPr>
        <p:blipFill>
          <a:blip r:embed="rId1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40" name="pole tekstowe 8"/>
          <p:cNvSpPr/>
          <p:nvPr/>
        </p:nvSpPr>
        <p:spPr>
          <a:xfrm>
            <a:off x="6159600" y="219564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j dźwięk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ole tekstowe 11"/>
          <p:cNvSpPr/>
          <p:nvPr/>
        </p:nvSpPr>
        <p:spPr>
          <a:xfrm>
            <a:off x="3200400" y="5040360"/>
            <a:ext cx="299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daj film, np. nagraną zawartość ekranu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42" name="Grupa 19"/>
          <p:cNvGrpSpPr/>
          <p:nvPr/>
        </p:nvGrpSpPr>
        <p:grpSpPr>
          <a:xfrm>
            <a:off x="2006640" y="2055960"/>
            <a:ext cx="3600360" cy="2225520"/>
            <a:chOff x="2006640" y="2055960"/>
            <a:chExt cx="3600360" cy="2225520"/>
          </a:xfrm>
        </p:grpSpPr>
        <p:sp>
          <p:nvSpPr>
            <p:cNvPr id="543" name="pole tekstowe 6"/>
            <p:cNvSpPr/>
            <p:nvPr/>
          </p:nvSpPr>
          <p:spPr>
            <a:xfrm>
              <a:off x="2006640" y="2055960"/>
              <a:ext cx="3600360" cy="2225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8cb6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pic>
          <p:nvPicPr>
            <p:cNvPr id="544" name="Obraz 6" descr=""/>
            <p:cNvPicPr/>
            <p:nvPr/>
          </p:nvPicPr>
          <p:blipFill>
            <a:blip r:embed="rId2"/>
            <a:stretch/>
          </p:blipFill>
          <p:spPr>
            <a:xfrm>
              <a:off x="2047320" y="2286360"/>
              <a:ext cx="1152000" cy="4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5" name="Obraz 7" descr=""/>
            <p:cNvPicPr/>
            <p:nvPr/>
          </p:nvPicPr>
          <p:blipFill>
            <a:blip r:embed="rId3"/>
            <a:stretch/>
          </p:blipFill>
          <p:spPr>
            <a:xfrm>
              <a:off x="2154960" y="2760480"/>
              <a:ext cx="2743560" cy="13352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46" name="Łącznik prosty ze strzałką 13"/>
          <p:cNvCxnSpPr/>
          <p:nvPr/>
        </p:nvCxnSpPr>
        <p:spPr>
          <a:xfrm flipV="1">
            <a:off x="3404880" y="2439720"/>
            <a:ext cx="2680200" cy="41184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cxnSp>
        <p:nvCxnSpPr>
          <p:cNvPr id="547" name="Łącznik prosty ze strzałką 15"/>
          <p:cNvCxnSpPr/>
          <p:nvPr/>
        </p:nvCxnSpPr>
        <p:spPr>
          <a:xfrm>
            <a:off x="4713120" y="3309480"/>
            <a:ext cx="2151720" cy="43596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cxnSp>
        <p:nvCxnSpPr>
          <p:cNvPr id="548" name="Łącznik prosty ze strzałką 17"/>
          <p:cNvCxnSpPr>
            <a:stCxn id="545" idx="1"/>
          </p:cNvCxnSpPr>
          <p:nvPr/>
        </p:nvCxnSpPr>
        <p:spPr>
          <a:xfrm flipH="1">
            <a:off x="1437840" y="3427200"/>
            <a:ext cx="717840" cy="1006920"/>
          </a:xfrm>
          <a:prstGeom prst="straightConnector1">
            <a:avLst/>
          </a:prstGeom>
          <a:ln cap="rnd" w="19080">
            <a:solidFill>
              <a:srgbClr val="8cb64a"/>
            </a:solidFill>
            <a:miter/>
            <a:headEnd len="med" type="oval" w="med"/>
            <a:tailEnd len="med" type="oval" w="med"/>
          </a:ln>
        </p:spPr>
      </p:cxnSp>
      <p:pic>
        <p:nvPicPr>
          <p:cNvPr id="549" name="Obraz 29" descr=""/>
          <p:cNvPicPr/>
          <p:nvPr/>
        </p:nvPicPr>
        <p:blipFill>
          <a:blip r:embed="rId4"/>
          <a:stretch/>
        </p:blipFill>
        <p:spPr>
          <a:xfrm>
            <a:off x="324000" y="4508640"/>
            <a:ext cx="2558880" cy="203508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pic>
        <p:nvPicPr>
          <p:cNvPr id="550" name="Obraz 31" descr=""/>
          <p:cNvPicPr/>
          <p:nvPr/>
        </p:nvPicPr>
        <p:blipFill>
          <a:blip r:embed="rId5"/>
          <a:stretch/>
        </p:blipFill>
        <p:spPr>
          <a:xfrm>
            <a:off x="6512040" y="3860640"/>
            <a:ext cx="2368440" cy="201960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pic>
        <p:nvPicPr>
          <p:cNvPr id="551" name="Obraz 33" descr=""/>
          <p:cNvPicPr/>
          <p:nvPr/>
        </p:nvPicPr>
        <p:blipFill>
          <a:blip r:embed="rId6"/>
          <a:stretch/>
        </p:blipFill>
        <p:spPr>
          <a:xfrm>
            <a:off x="7696080" y="211608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4. ZAPISYWANIE PREZENTACJI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Formaty i ich zastosowanie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rostokąt: zaokrąglone rogi 7"/>
          <p:cNvSpPr/>
          <p:nvPr/>
        </p:nvSpPr>
        <p:spPr>
          <a:xfrm>
            <a:off x="851040" y="2476440"/>
            <a:ext cx="33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ożliwość późniejszej edycji prezenta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zentowanie przez prelegenta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rostokąt: zaokrąglone rogi 6"/>
          <p:cNvSpPr/>
          <p:nvPr/>
        </p:nvSpPr>
        <p:spPr>
          <a:xfrm>
            <a:off x="468360" y="1623960"/>
            <a:ext cx="2808360" cy="119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ezentacja programu Microsoft PowerPo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rozszerzenie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tx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rostokąt: zaokrąglone rogi 12"/>
          <p:cNvSpPr/>
          <p:nvPr/>
        </p:nvSpPr>
        <p:spPr>
          <a:xfrm>
            <a:off x="5172120" y="2492280"/>
            <a:ext cx="3348000" cy="1728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Prezentacja samouruchamiająca się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Brak możliwości edycji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rostokąt: zaokrąglone rogi 13"/>
          <p:cNvSpPr/>
          <p:nvPr/>
        </p:nvSpPr>
        <p:spPr>
          <a:xfrm>
            <a:off x="4834080" y="1623960"/>
            <a:ext cx="2896920" cy="1190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kaz programu Microsoft PowerPoint (rozszerzenie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s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ppsx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rostokąt: zaokrąglone rogi 14"/>
          <p:cNvSpPr/>
          <p:nvPr/>
        </p:nvSpPr>
        <p:spPr>
          <a:xfrm>
            <a:off x="806400" y="4941720"/>
            <a:ext cx="3348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Eksport jednego lub wszystkich slajdów do plików graficznych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rostokąt: zaokrąglone rogi 15"/>
          <p:cNvSpPr/>
          <p:nvPr/>
        </p:nvSpPr>
        <p:spPr>
          <a:xfrm>
            <a:off x="468360" y="4346640"/>
            <a:ext cx="25192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maty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IF, JPG, BMP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rostokąt: zaokrąglone rogi 16"/>
          <p:cNvSpPr/>
          <p:nvPr/>
        </p:nvSpPr>
        <p:spPr>
          <a:xfrm>
            <a:off x="5172120" y="4941720"/>
            <a:ext cx="3348000" cy="1727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rnd" w="2844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0" bIns="46800" anchor="ctr">
            <a:noAutofit/>
          </a:bodyPr>
          <a:p>
            <a:pPr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możliwia obejrzenie slajdów (bez animacji) przy braku zainstalowanego programu MS Power Point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" name="Prostokąt: zaokrąglone rogi 17"/>
          <p:cNvSpPr/>
          <p:nvPr/>
        </p:nvSpPr>
        <p:spPr>
          <a:xfrm>
            <a:off x="4834080" y="4346640"/>
            <a:ext cx="2519280" cy="97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format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Owal 18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" name="Grafika 19" descr="Dyskietka"/>
          <p:cNvPicPr/>
          <p:nvPr/>
        </p:nvPicPr>
        <p:blipFill>
          <a:blip r:embed="rId1"/>
          <a:stretch/>
        </p:blipFill>
        <p:spPr>
          <a:xfrm>
            <a:off x="8194680" y="39528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Obraz 4" descr=""/>
          <p:cNvPicPr/>
          <p:nvPr/>
        </p:nvPicPr>
        <p:blipFill>
          <a:blip r:embed="rId1"/>
          <a:stretch/>
        </p:blipFill>
        <p:spPr>
          <a:xfrm>
            <a:off x="2452680" y="2276640"/>
            <a:ext cx="4067280" cy="4057560"/>
          </a:xfrm>
          <a:prstGeom prst="rect">
            <a:avLst/>
          </a:prstGeom>
          <a:ln w="9360">
            <a:solidFill>
              <a:srgbClr val="8cb64a"/>
            </a:solidFill>
            <a:miter/>
          </a:ln>
        </p:spPr>
      </p:pic>
      <p:sp>
        <p:nvSpPr>
          <p:cNvPr id="564" name="Prostokąt: zaokrąglone rogi 2"/>
          <p:cNvSpPr/>
          <p:nvPr/>
        </p:nvSpPr>
        <p:spPr>
          <a:xfrm>
            <a:off x="179280" y="2419200"/>
            <a:ext cx="2076480" cy="108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5. DRUKOWANIE MATERIAŁÓW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INFORMACYJNYCH I NOTATEK</a:t>
            </a:r>
            <a:endParaRPr b="0" lang="en-US" sz="24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6" name="Owal 6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Grafika 7" descr="Drukarka"/>
          <p:cNvPicPr/>
          <p:nvPr/>
        </p:nvPicPr>
        <p:blipFill>
          <a:blip r:embed="rId2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568" name="Prostokąt: zaokrąglone rogi 10"/>
          <p:cNvSpPr/>
          <p:nvPr/>
        </p:nvSpPr>
        <p:spPr>
          <a:xfrm>
            <a:off x="230040" y="5084640"/>
            <a:ext cx="3046680" cy="1616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Objaśnienie: linia bez obramowania 15"/>
          <p:cNvSpPr/>
          <p:nvPr/>
        </p:nvSpPr>
        <p:spPr>
          <a:xfrm flipH="1">
            <a:off x="250920" y="2276640"/>
            <a:ext cx="1860480" cy="13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204" y="13619"/>
                </a:moveTo>
                <a:lnTo>
                  <a:pt x="-2778" y="11171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lajdy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– jeden slajd na jednej stronie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Objaśnienie: linia bez obramowania 16"/>
          <p:cNvSpPr/>
          <p:nvPr/>
        </p:nvSpPr>
        <p:spPr>
          <a:xfrm flipH="1">
            <a:off x="250920" y="5229360"/>
            <a:ext cx="3168720" cy="1368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647" y="-12429"/>
                </a:moveTo>
                <a:lnTo>
                  <a:pt x="368" y="7049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Materiały informacyjne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pie slajdów.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 jednej stronie może być kilka slajdów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rostokąt: zaokrąglone rogi 11"/>
          <p:cNvSpPr/>
          <p:nvPr/>
        </p:nvSpPr>
        <p:spPr>
          <a:xfrm>
            <a:off x="6539040" y="1482840"/>
            <a:ext cx="2185920" cy="1174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rostokąt: zaokrąglone rogi 12"/>
          <p:cNvSpPr/>
          <p:nvPr/>
        </p:nvSpPr>
        <p:spPr>
          <a:xfrm>
            <a:off x="6875640" y="4200480"/>
            <a:ext cx="1849320" cy="1965240"/>
          </a:xfrm>
          <a:custGeom>
            <a:avLst/>
            <a:gdLst>
              <a:gd name="textAreaLeft" fmla="*/ 90000 w 1849320"/>
              <a:gd name="textAreaRight" fmla="*/ 1759320 w 1849320"/>
              <a:gd name="textAreaTop" fmla="*/ 90000 h 1965240"/>
              <a:gd name="textAreaBottom" fmla="*/ 1875240 h 1965240"/>
            </a:gdLst>
            <a:ahLst/>
            <a:rect l="textAreaLeft" t="textAreaTop" r="textAreaRight" b="textAreaBottom"/>
            <a:pathLst>
              <a:path w="21600" h="22954">
                <a:moveTo>
                  <a:pt x="3600" y="0"/>
                </a:moveTo>
                <a:arcTo wR="3600" hR="3600" stAng="16200000" swAng="-5400000"/>
                <a:lnTo>
                  <a:pt x="0" y="19354"/>
                </a:lnTo>
                <a:arcTo wR="3600" hR="3600" stAng="10800000" swAng="-5400000"/>
                <a:lnTo>
                  <a:pt x="18000" y="229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Objaśnienie: linia bez obramowania 17"/>
          <p:cNvSpPr/>
          <p:nvPr/>
        </p:nvSpPr>
        <p:spPr>
          <a:xfrm>
            <a:off x="6576840" y="1463760"/>
            <a:ext cx="2251080" cy="11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00" y="33293"/>
                </a:moveTo>
                <a:lnTo>
                  <a:pt x="-1909" y="11660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Strony notatek –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moc dla prelegent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4" name="Objaśnienie: linia bez obramowania 18"/>
          <p:cNvSpPr/>
          <p:nvPr/>
        </p:nvSpPr>
        <p:spPr>
          <a:xfrm>
            <a:off x="6948360" y="4281480"/>
            <a:ext cx="1944720" cy="166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863" y="-10320"/>
                </a:moveTo>
                <a:lnTo>
                  <a:pt x="-2328" y="-720"/>
                </a:lnTo>
              </a:path>
            </a:pathLst>
          </a:custGeom>
          <a:noFill/>
          <a:ln cap="rnd" w="22320">
            <a:solidFill>
              <a:srgbClr val="8cb64a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idok konspektu –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rukowanie konspektu prezentacji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68360" y="468000"/>
            <a:ext cx="7989840" cy="1082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  <a:ea typeface="Arial"/>
              </a:rPr>
              <a:t>6. USTALENIE PARAMETRÓW POKAZU I POKAZ</a:t>
            </a:r>
            <a:br>
              <a:rPr sz="24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  <a:ea typeface="Arial"/>
              </a:rPr>
              <a:t>O czym należy pamiętać wygłaszając prezentację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Owal 9"/>
          <p:cNvSpPr/>
          <p:nvPr/>
        </p:nvSpPr>
        <p:spPr>
          <a:xfrm>
            <a:off x="8059680" y="239760"/>
            <a:ext cx="846360" cy="847800"/>
          </a:xfrm>
          <a:prstGeom prst="ellipse">
            <a:avLst/>
          </a:prstGeom>
          <a:gradFill rotWithShape="0">
            <a:gsLst>
              <a:gs pos="0">
                <a:srgbClr val="506e22"/>
              </a:gs>
              <a:gs pos="100000">
                <a:srgbClr val="8ebe42"/>
              </a:gs>
            </a:gsLst>
            <a:lin ang="162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" name="Grafika 10" descr="Nauczyciel"/>
          <p:cNvPicPr/>
          <p:nvPr/>
        </p:nvPicPr>
        <p:blipFill>
          <a:blip r:embed="rId1"/>
          <a:stretch/>
        </p:blipFill>
        <p:spPr>
          <a:xfrm>
            <a:off x="8194680" y="3762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578" name="Obraz 4" descr=""/>
          <p:cNvPicPr/>
          <p:nvPr/>
        </p:nvPicPr>
        <p:blipFill>
          <a:blip r:embed="rId2"/>
          <a:stretch/>
        </p:blipFill>
        <p:spPr>
          <a:xfrm>
            <a:off x="1403280" y="2166840"/>
            <a:ext cx="1782720" cy="1338480"/>
          </a:xfrm>
          <a:prstGeom prst="rect">
            <a:avLst/>
          </a:prstGeom>
          <a:ln w="0">
            <a:noFill/>
          </a:ln>
        </p:spPr>
      </p:pic>
      <p:pic>
        <p:nvPicPr>
          <p:cNvPr id="579" name="Grafika 2" descr="Nauczyciel"/>
          <p:cNvPicPr/>
          <p:nvPr/>
        </p:nvPicPr>
        <p:blipFill>
          <a:blip r:embed="rId3"/>
          <a:stretch/>
        </p:blipFill>
        <p:spPr>
          <a:xfrm>
            <a:off x="598320" y="1397160"/>
            <a:ext cx="2876760" cy="2876400"/>
          </a:xfrm>
          <a:prstGeom prst="rect">
            <a:avLst/>
          </a:prstGeom>
          <a:ln w="0">
            <a:noFill/>
          </a:ln>
        </p:spPr>
      </p:pic>
      <p:sp>
        <p:nvSpPr>
          <p:cNvPr id="580" name="Dymek mowy: prostokąt z zaokrąglonymi rogami 8"/>
          <p:cNvSpPr/>
          <p:nvPr/>
        </p:nvSpPr>
        <p:spPr>
          <a:xfrm>
            <a:off x="3762360" y="2060640"/>
            <a:ext cx="5035680" cy="3701880"/>
          </a:xfrm>
          <a:prstGeom prst="wedgeRoundRectCallout">
            <a:avLst>
              <a:gd name="adj1" fmla="val -91833"/>
              <a:gd name="adj2" fmla="val -25731"/>
              <a:gd name="adj3" fmla="val 16667"/>
            </a:avLst>
          </a:prstGeom>
          <a:solidFill>
            <a:srgbClr val="ffffff"/>
          </a:solidFill>
          <a:ln cap="rnd" w="22320">
            <a:solidFill>
              <a:srgbClr val="8cb6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stal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arametry pokazu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sposób przełączania slajdów, narracja) w karc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kaz slajdów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Dobrze się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ygotuj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przed pokazem przejrzyj jeszcze notatk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Ważne jest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ierwsze wrażenie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– dopracuj wstęp prezentacj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Utrzymuj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kontak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z odbiorcami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zytaj tekst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tylko go komentuj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50920">
              <a:lnSpc>
                <a:spcPct val="100000"/>
              </a:lnSpc>
              <a:spcAft>
                <a:spcPts val="7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rób krótkie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dsumowanie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ole tekstowe 3"/>
          <p:cNvSpPr/>
          <p:nvPr/>
        </p:nvSpPr>
        <p:spPr>
          <a:xfrm>
            <a:off x="2087640" y="2205000"/>
            <a:ext cx="496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5400" spc="-1" strike="noStrike">
                <a:solidFill>
                  <a:srgbClr val="366658"/>
                </a:solidFill>
                <a:latin typeface="Calibri"/>
                <a:ea typeface="Calibri"/>
              </a:rPr>
              <a:t>Dziękuję za uwagę</a:t>
            </a:r>
            <a:endParaRPr b="0" lang="en-US" sz="5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8T13:27:44Z</dcterms:created>
  <dc:creator>MK</dc:creator>
  <dc:description/>
  <dc:language>en-US</dc:language>
  <cp:lastModifiedBy>msk</cp:lastModifiedBy>
  <dcterms:modified xsi:type="dcterms:W3CDTF">2019-11-02T13:20:40Z</dcterms:modified>
  <cp:revision>152</cp:revision>
  <dc:subject/>
  <dc:title>Jak stworzyć dobrą prezentację?</dc:title>
</cp:coreProperties>
</file>