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29DE-0D12-4C4E-847B-56EE9D3070E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5111-710E-4A76-8815-F8F8CA9D524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CDE9-C733-45EA-9A8E-CE165E61669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AAF8-E5B8-43FF-84A5-E0F8BCB34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6C3B-3FD4-4477-A418-0216387F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CB44-E2DC-4F17-AADE-82E12660B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AEE0-6EB5-4BA6-9684-C1F9AC3E9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035E-8460-43FD-B967-8041D5C1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6F04-2622-403C-B381-492035B6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E326-68F5-4006-B76B-F84B7B17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D0C6-205D-48CB-B428-B9902363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C53A-D51B-4CBB-B5FA-88BD5633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CC35-F9F6-4FB4-89AE-4004100D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6078-1480-4C09-AA68-05D351F8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93A8-89B7-4DB7-926F-357A700F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99D7-A8C8-4D77-9B53-2830C10076B6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66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979640" y="1197000"/>
            <a:ext cx="518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800" spc="-1" strike="noStrike">
                <a:solidFill>
                  <a:srgbClr val="006600"/>
                </a:solidFill>
                <a:latin typeface="Arial"/>
              </a:rPr>
              <a:t>ZAMKI </a:t>
            </a:r>
            <a:br>
              <a:rPr sz="8800"/>
            </a:br>
            <a:r>
              <a:rPr b="1" lang="pl-PL" sz="8800" spc="-1" strike="noStrike">
                <a:solidFill>
                  <a:srgbClr val="006600"/>
                </a:solidFill>
                <a:latin typeface="Arial"/>
              </a:rPr>
              <a:t>w POLSC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179280" y="69228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w Warsza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187280" y="4724280"/>
            <a:ext cx="7705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mek był rezydencją królewską, a także siedzibą sejmu i senatu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zamek królewski_W-Wa_akt"/>
          <p:cNvPicPr/>
          <p:nvPr/>
        </p:nvPicPr>
        <p:blipFill>
          <a:blip r:embed="rId1"/>
          <a:stretch/>
        </p:blipFill>
        <p:spPr>
          <a:xfrm>
            <a:off x="3276720" y="260280"/>
            <a:ext cx="5648040" cy="4237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2" name="Text Box 4"/>
          <p:cNvSpPr/>
          <p:nvPr/>
        </p:nvSpPr>
        <p:spPr>
          <a:xfrm>
            <a:off x="6100920" y="635148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zamek królewski_W-Wa"/>
          <p:cNvPicPr/>
          <p:nvPr/>
        </p:nvPicPr>
        <p:blipFill>
          <a:blip r:embed="rId1"/>
          <a:stretch/>
        </p:blipFill>
        <p:spPr>
          <a:xfrm>
            <a:off x="3059280" y="333360"/>
            <a:ext cx="5886360" cy="357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4" name="Text Box 7"/>
          <p:cNvSpPr/>
          <p:nvPr/>
        </p:nvSpPr>
        <p:spPr>
          <a:xfrm>
            <a:off x="324000" y="98100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na Wawelu w Krak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1042920" y="4581360"/>
            <a:ext cx="70581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mek był rezydencją królewską aż do początku XVII wieku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227640" y="634032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324000" y="98100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Zamek krzyżacki </a:t>
            </a:r>
            <a:br>
              <a:rPr sz="3600"/>
            </a:b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w Malbork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68360" y="4797360"/>
            <a:ext cx="82072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zdobyta twierdza wielkiego mistrza podczas oblężenia przez wojska polsko-litewskie pod wodzą króla Władysława Jagiełły po bitwie grunwaldzkiej w 1410 roku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zamek jest siedzibą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zamek MAKBORK"/>
          <p:cNvPicPr/>
          <p:nvPr/>
        </p:nvPicPr>
        <p:blipFill>
          <a:blip r:embed="rId1"/>
          <a:stretch/>
        </p:blipFill>
        <p:spPr>
          <a:xfrm>
            <a:off x="2843280" y="189000"/>
            <a:ext cx="6121440" cy="459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0" name="Text Box 4"/>
          <p:cNvSpPr/>
          <p:nvPr/>
        </p:nvSpPr>
        <p:spPr>
          <a:xfrm>
            <a:off x="6156360" y="645804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24000" y="981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Zamek </a:t>
            </a:r>
            <a:br>
              <a:rPr sz="3600"/>
            </a:b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Ksią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431640" y="4365720"/>
            <a:ext cx="8280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anowi jeden z elementów Szlaku Zamków Piastowskich. Jest to trzeci co do wielkości zamek w Polsce (po zamku   w Malborku i Zamku Królewskim na Wawelu)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część zespołu pałacowego jest udostępniona dla zwiedzając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zamek książ"/>
          <p:cNvPicPr/>
          <p:nvPr/>
        </p:nvPicPr>
        <p:blipFill>
          <a:blip r:embed="rId1"/>
          <a:stretch/>
        </p:blipFill>
        <p:spPr>
          <a:xfrm>
            <a:off x="3492360" y="189000"/>
            <a:ext cx="5435640" cy="4078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4" name="Text Box 4"/>
          <p:cNvSpPr/>
          <p:nvPr/>
        </p:nvSpPr>
        <p:spPr>
          <a:xfrm>
            <a:off x="6192720" y="643896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0" spc="-1" strike="noStrike">
                <a:solidFill>
                  <a:srgbClr val="006600"/>
                </a:solidFill>
                <a:latin typeface="Arial"/>
              </a:rPr>
              <a:t>KONIE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16:11:17Z</dcterms:created>
  <dc:creator>Administrator</dc:creator>
  <dc:description/>
  <dc:language>en-US</dc:language>
  <cp:lastModifiedBy>msk</cp:lastModifiedBy>
  <dcterms:modified xsi:type="dcterms:W3CDTF">2019-08-14T22:01:43Z</dcterms:modified>
  <cp:revision>16</cp:revision>
  <dc:subject/>
  <dc:title>Slajd 1</dc:title>
</cp:coreProperties>
</file>