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C0FB-F48B-4B62-A893-7CCECEEA1A2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6E68-739A-4BEB-91F9-FAFC1C0C748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DDD6-C85B-4F1B-8FA8-19578D04C9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387-6874-4122-964F-49991224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126-067F-4134-B6B2-C783ADAF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010-F77A-455C-BC2D-FF0DB5EB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1B0-86AE-4E5A-8BE8-26CE47F9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F23-2909-4078-A098-B72052D5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426-35C0-46FC-AA3D-758E512E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623-5AF4-4462-953E-5BDE73E5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E74-79F4-4712-8342-FCBBC88D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3A2-6224-45FE-8D5D-9A15646D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E4E-FD20-4EE5-868F-7013E14F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A25-07D4-43E7-8CB5-CCB9305C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5F1-08AA-4511-9FDD-AA694A13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957B-CE5A-410A-A8AF-BCCBEA56CA5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pl-PL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zamek królewski_W-Wa_akt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" name="Text Box 4"/>
          <p:cNvSpPr/>
          <p:nvPr/>
        </p:nvSpPr>
        <p:spPr>
          <a:xfrm>
            <a:off x="6100920" y="63514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zamek królewski_W-Wa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Text Box 7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227640" y="634032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zamek MAKBORK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6156360" y="64580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zamek książ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4" name="Text Box 4"/>
          <p:cNvSpPr/>
          <p:nvPr/>
        </p:nvSpPr>
        <p:spPr>
          <a:xfrm>
            <a:off x="6192720" y="64389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msk</cp:lastModifiedBy>
  <dcterms:modified xsi:type="dcterms:W3CDTF">2019-08-14T22:01:43Z</dcterms:modified>
  <cp:revision>16</cp:revision>
  <dc:subject/>
  <dc:title>Slajd 1</dc:title>
</cp:coreProperties>
</file>