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CF39-A619-4E5F-B73F-0F7D6172FD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BB0-13CE-49CA-9056-A8311FC932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B92-9F9D-43B3-8CCD-AC362BF0FD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03D-7BD3-414B-BCBA-895FC72C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67B-5C8A-493D-9F0F-DE8F4CA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BFF-6D00-4882-879B-ED7BA740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248-9687-4450-8F0D-61AD3497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CB2-0AEE-4673-A876-550CA1D3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3C5-083D-4682-9076-3AD228E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B2D-EF03-4AC0-A7A5-F4559AFF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F68-4083-4AD4-82E2-B0963D8C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E22-3486-4736-B4C8-71FE135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FF2-0D20-4280-B6C8-E421FBC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0398-9C76-4462-9A94-0009A3F6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BA3-F228-4E50-9ECF-B649EDDA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4060-83D6-4E28-88A7-1D8F5DEE140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pl-PL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zamek królewski_W-Wa_akt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100920" y="63514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zamek królewski_W-Wa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227640" y="634032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amek MAKBORK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6156360" y="64580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pl-PL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zamek książ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4" name="Text Box 4"/>
          <p:cNvSpPr/>
          <p:nvPr/>
        </p:nvSpPr>
        <p:spPr>
          <a:xfrm>
            <a:off x="6192720" y="64389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msk</cp:lastModifiedBy>
  <dcterms:modified xsi:type="dcterms:W3CDTF">2019-08-14T22:01:43Z</dcterms:modified>
  <cp:revision>16</cp:revision>
  <dc:subject/>
  <dc:title>Slajd 1</dc:title>
</cp:coreProperties>
</file>