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3924-8C77-4CDC-BB80-8127E7F9B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D137-E1A5-4C12-AEC8-0F97F3E0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AFCF-E193-476B-A36B-5F6A40910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B287-1870-4D16-94F7-CC3BAC393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91E69-026F-4350-9613-AD691C5D3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A8BDF-446E-4C0B-89CB-80DA976A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59421-E035-45B4-9B14-7C14DB96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E5143-8896-4F3F-BFC4-164D9BDF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DE4B0-CCE7-4E5E-A811-69726B05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6AB3E-A329-476C-A2DC-049AEEE8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133E5-B371-4469-9AD0-6FF9016D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B078-421E-40CE-8299-0E77418F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4B5BF-46A9-464C-9E93-C91353D1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D5768-D206-49CD-9735-198ED54F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B294E-39A0-4EE5-94A0-3A045B15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76275-1184-4B53-8A33-00C3004B3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6061C-5975-427C-B3CB-18C816986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83EE-E95F-4CFD-8E9D-6FCFE447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52CD-C9F9-480B-88E1-41729DC7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1691-D92B-4F56-81FF-A1D71478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2676-FB69-435D-AC4D-B68B4953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AA4F-BE55-4794-8D2A-E6A4F7FA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3BB3-A1BE-4F3A-9F6C-DFFE0CA6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366B-6780-4B42-A0D5-C3F1A8F3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89CB-393E-4F75-A2A3-EFE2BDAA1556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9FAE-323C-4E2B-A43A-D4C371AFD6F7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image" Target="../media/image2.jpeg"/><Relationship Id="rId4" Type="http://schemas.openxmlformats.org/officeDocument/2006/relationships/slide" Target="slide6.xml"/><Relationship Id="rId5" Type="http://schemas.openxmlformats.org/officeDocument/2006/relationships/image" Target="../media/image3.wmf"/><Relationship Id="rId6" Type="http://schemas.openxmlformats.org/officeDocument/2006/relationships/slide" Target="slide6.xml"/><Relationship Id="rId7" Type="http://schemas.openxmlformats.org/officeDocument/2006/relationships/image" Target="../media/image2.jpeg"/><Relationship Id="rId8" Type="http://schemas.openxmlformats.org/officeDocument/2006/relationships/slide" Target="slide7.xml"/><Relationship Id="rId9" Type="http://schemas.openxmlformats.org/officeDocument/2006/relationships/image" Target="../media/image3.wmf"/><Relationship Id="rId10" Type="http://schemas.openxmlformats.org/officeDocument/2006/relationships/slide" Target="slide6.xml"/><Relationship Id="rId11" Type="http://schemas.openxmlformats.org/officeDocument/2006/relationships/image" Target="../media/image2.jpeg"/><Relationship Id="rId12" Type="http://schemas.openxmlformats.org/officeDocument/2006/relationships/slide" Target="slide2.xml"/><Relationship Id="rId13" Type="http://schemas.openxmlformats.org/officeDocument/2006/relationships/image" Target="../media/image3.wmf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" Target="slide6.xml"/><Relationship Id="rId5" Type="http://schemas.openxmlformats.org/officeDocument/2006/relationships/image" Target="../media/image2.jpeg"/><Relationship Id="rId6" Type="http://schemas.openxmlformats.org/officeDocument/2006/relationships/slide" Target="slide3.xml"/><Relationship Id="rId7" Type="http://schemas.openxmlformats.org/officeDocument/2006/relationships/image" Target="../media/image3.wmf"/><Relationship Id="rId8" Type="http://schemas.openxmlformats.org/officeDocument/2006/relationships/slide" Target="slide6.xml"/><Relationship Id="rId9" Type="http://schemas.openxmlformats.org/officeDocument/2006/relationships/image" Target="../media/image2.jpeg"/><Relationship Id="rId10" Type="http://schemas.openxmlformats.org/officeDocument/2006/relationships/slide" Target="slide5.xml"/><Relationship Id="rId11" Type="http://schemas.openxmlformats.org/officeDocument/2006/relationships/image" Target="../media/image3.wmf"/><Relationship Id="rId12" Type="http://schemas.openxmlformats.org/officeDocument/2006/relationships/slide" Target="slide6.xml"/><Relationship Id="rId13" Type="http://schemas.openxmlformats.org/officeDocument/2006/relationships/image" Target="../media/image2.jpeg"/><Relationship Id="rId14" Type="http://schemas.openxmlformats.org/officeDocument/2006/relationships/slide" Target="slide4.xml"/><Relationship Id="rId15" Type="http://schemas.openxmlformats.org/officeDocument/2006/relationships/image" Target="../media/image3.wmf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" Target="slide2.xm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2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47640" y="3716280"/>
            <a:ext cx="6369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Perge – ruiny antycznego mia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4" name="Group 14"/>
          <p:cNvGrpSpPr/>
          <p:nvPr/>
        </p:nvGrpSpPr>
        <p:grpSpPr>
          <a:xfrm>
            <a:off x="7380360" y="3645000"/>
            <a:ext cx="360360" cy="287280"/>
            <a:chOff x="7380360" y="3645000"/>
            <a:chExt cx="360360" cy="287280"/>
          </a:xfrm>
        </p:grpSpPr>
        <p:sp>
          <p:nvSpPr>
            <p:cNvPr id="85" name="AutoShape 12">
              <a:hlinkClick r:id="rId2" action="ppaction://hlinksldjump"/>
            </p:cNvPr>
            <p:cNvSpPr/>
            <p:nvPr/>
          </p:nvSpPr>
          <p:spPr>
            <a:xfrm>
              <a:off x="7380360" y="36450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86" name="Picture 11" descr="BD06790_">
              <a:hlinkClick r:id="rId4" action="ppaction://hlinksldjump"/>
            </p:cNvPr>
            <p:cNvPicPr/>
            <p:nvPr/>
          </p:nvPicPr>
          <p:blipFill>
            <a:blip r:embed="rId5"/>
            <a:srcRect l="9237" t="33966" r="70759" b="47370"/>
            <a:stretch/>
          </p:blipFill>
          <p:spPr>
            <a:xfrm>
              <a:off x="7432200" y="369252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Group 15"/>
          <p:cNvGrpSpPr/>
          <p:nvPr/>
        </p:nvGrpSpPr>
        <p:grpSpPr>
          <a:xfrm>
            <a:off x="7596360" y="4437000"/>
            <a:ext cx="360360" cy="287280"/>
            <a:chOff x="7596360" y="4437000"/>
            <a:chExt cx="360360" cy="287280"/>
          </a:xfrm>
        </p:grpSpPr>
        <p:sp>
          <p:nvSpPr>
            <p:cNvPr id="88" name="AutoShape 16">
              <a:hlinkClick r:id="rId6" action="ppaction://hlinksldjump"/>
            </p:cNvPr>
            <p:cNvSpPr/>
            <p:nvPr/>
          </p:nvSpPr>
          <p:spPr>
            <a:xfrm>
              <a:off x="7596360" y="44370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89" name="Picture 17" descr="BD06790_">
              <a:hlinkClick r:id="rId8" action="ppaction://hlinksldjump"/>
            </p:cNvPr>
            <p:cNvPicPr/>
            <p:nvPr/>
          </p:nvPicPr>
          <p:blipFill>
            <a:blip r:embed="rId9"/>
            <a:srcRect l="9237" t="33966" r="70759" b="47370"/>
            <a:stretch/>
          </p:blipFill>
          <p:spPr>
            <a:xfrm>
              <a:off x="7648200" y="448452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" name="Group 18"/>
          <p:cNvGrpSpPr/>
          <p:nvPr/>
        </p:nvGrpSpPr>
        <p:grpSpPr>
          <a:xfrm>
            <a:off x="7164360" y="2781360"/>
            <a:ext cx="360360" cy="287280"/>
            <a:chOff x="7164360" y="2781360"/>
            <a:chExt cx="360360" cy="287280"/>
          </a:xfrm>
        </p:grpSpPr>
        <p:sp>
          <p:nvSpPr>
            <p:cNvPr id="91" name="AutoShape 19">
              <a:hlinkClick r:id="rId10" action="ppaction://hlinksldjump"/>
            </p:cNvPr>
            <p:cNvSpPr/>
            <p:nvPr/>
          </p:nvSpPr>
          <p:spPr>
            <a:xfrm>
              <a:off x="7164360" y="278136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92" name="Picture 20" descr="BD06790_">
              <a:hlinkClick r:id="rId12" action="ppaction://hlinksldjump"/>
            </p:cNvPr>
            <p:cNvPicPr/>
            <p:nvPr/>
          </p:nvPicPr>
          <p:blipFill>
            <a:blip r:embed="rId13"/>
            <a:srcRect l="9237" t="33966" r="70759" b="47370"/>
            <a:stretch/>
          </p:blipFill>
          <p:spPr>
            <a:xfrm>
              <a:off x="7216200" y="282888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Text Box 22"/>
          <p:cNvSpPr/>
          <p:nvPr/>
        </p:nvSpPr>
        <p:spPr>
          <a:xfrm>
            <a:off x="1403280" y="263700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Antalya – malownicze mias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23"/>
          <p:cNvSpPr/>
          <p:nvPr/>
        </p:nvSpPr>
        <p:spPr>
          <a:xfrm>
            <a:off x="1403280" y="350028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Aspendos – teatr z II wieku n.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WordArt 24"/>
          <p:cNvSpPr txBox="1"/>
          <p:nvPr/>
        </p:nvSpPr>
        <p:spPr>
          <a:xfrm>
            <a:off x="250920" y="1989000"/>
            <a:ext cx="8642160" cy="1841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4605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 Black"/>
              </a:rPr>
              <a:t>Wakacje na Riwierze Tureckiej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96" name="Text Box 25"/>
          <p:cNvSpPr/>
          <p:nvPr/>
        </p:nvSpPr>
        <p:spPr>
          <a:xfrm>
            <a:off x="5003640" y="6093000"/>
            <a:ext cx="414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27"/>
          <p:cNvSpPr/>
          <p:nvPr/>
        </p:nvSpPr>
        <p:spPr>
          <a:xfrm>
            <a:off x="4689360" y="5500800"/>
            <a:ext cx="413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Wykonała </a:t>
            </a:r>
            <a:r>
              <a:rPr b="0" i="1" lang="pl-PL" sz="1600" spc="-1" strike="noStrike">
                <a:solidFill>
                  <a:srgbClr val="ffffff"/>
                </a:solidFill>
                <a:latin typeface="Tahoma"/>
              </a:rPr>
              <a:t>Katarzyna Kob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25751E-006 C 0.01823 -0.00832 0.02136 -0.03098 0.03542 -0.04438 C 0.04219 -0.05086 0.05174 -0.04878 0.0599 -0.05039 C 0.06441 -0.05132 0.06875 -0.05248 0.07327 -0.0534 C 0.07848 -0.05456 0.08368 -0.05548 0.08889 -0.0564 C 0.11858 -0.05525 0.15677 -0.07536 0.17778 -0.04739 C 0.19271 -0.02751 0.17049 -0.04878 0.18889 -0.0326 C 0.18959 -0.02959 0.18993 -0.02659 0.19098 -0.02381 C 0.19358 -0.01757 0.2 -0.00601 0.2 -0.00601 C 0.2007 -0.00301 0.20105 -1.25750999999986E-006 0.20209 0.00277 C 0.2033 0.00601 0.20469 0.01433 0.2066 0.01179 C 0.2073 0.01086 0.20261 -0.00717 0.20209 -0.00902 C 0.20139 -0.0178 0.20226 -0.02728 0.2 -0.0356 C 0.19775 -0.04392 0.17205 -0.0467 0.16875 -0.04739 C 0.16302 -0.05271 0.1533 -0.06033 0.14653 -0.06218 C 0.1349 -0.06519 0.11112 -0.06819 0.11112 -0.06819 C 0.02362 -0.06473 0.05591 -0.07837 0.01771 -0.0534 C 0.01702 -0.04947 0.01632 -0.04554 0.01546 -0.04161 C 0.01407 -0.0356 0.0125 -0.02982 0.01112 -0.02381 C 0.01042 -0.02081 0.00955 -0.0178 0.00886 -0.0148 C 0.00591 -0.00301 0.00539 -0.000230000000000001 0.00886 -0.02081 C 0.01025 -0.02959 0.01059 -0.03722 0.01771 -0.04161 C 0.04358 -0.05802 0.07396 -0.06403 0.10209 -0.06819 C 0.12657 -0.07628 0.12362 -0.07652 0.16667 -0.06819 C 0.1698 -0.0675 0.17084 -0.06195 0.17327 -0.05918 C 0.18091 -0.05039 0.1823 -0.05016 0.19098 -0.04438 C 0.19966 -0.02751 0.20174 -0.0104 0.2066 0.00878 C 0.2073 0.01479 0.20886 0.03259 0.20886 0.02658 C 0.20886 -0.02266 0.17223 -0.03051 0.14219 -0.0356 C 0.129 -0.05271 0.12796 -0.05063 0.1066 -0.0534 C 0.08889 -0.05248 0.07101 -0.05201 0.0533 -0.05039 C 0.04809 -0.04993 0.04254 -0.05016 0.03768 -0.04739 C 0.03525 -0.046 0.03542 -0.04069 0.03334 -0.03861 C 0.03143 -0.03653 0.02882 -0.03653 0.02657 -0.0356 C 0.00747 -0.00994 0.01632 -0.02173 -3.88889E-006 -1.25751E-006 Z">
                                      <p:cBhvr>
                                        <p:cTn id="3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gor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43196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Było to centrum Perge, otoczone sklepami rzemieślniczymi, wychodzącymi na rynek i sąsiednie ulice. Kolumnowe arkady były zadaszone, dając kupcom i kupującym przyjemny cień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343"/>
          <p:cNvPicPr/>
          <p:nvPr/>
        </p:nvPicPr>
        <p:blipFill>
          <a:blip r:embed="rId2"/>
          <a:stretch/>
        </p:blipFill>
        <p:spPr>
          <a:xfrm>
            <a:off x="5076720" y="1252440"/>
            <a:ext cx="3148200" cy="2357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342"/>
          <p:cNvPicPr/>
          <p:nvPr/>
        </p:nvPicPr>
        <p:blipFill>
          <a:blip r:embed="rId3"/>
          <a:stretch/>
        </p:blipFill>
        <p:spPr>
          <a:xfrm>
            <a:off x="5076720" y="3860640"/>
            <a:ext cx="3148200" cy="235764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8"/>
          <p:cNvSpPr/>
          <p:nvPr/>
        </p:nvSpPr>
        <p:spPr>
          <a:xfrm>
            <a:off x="8172360" y="630864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Perg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4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3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roga do fontann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822560" y="2565360"/>
            <a:ext cx="4321080" cy="36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rozpoczynała wyznaczoną kolumnami 200 metrową drogę wiodącą do fontanny Boga Kestrosa. Jej środkiem biegł kanał z wodą, który odświeżał rozpalone powietrze. Wodę często perfumowano olejkiem różanym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4" descr="329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68360" y="2421000"/>
            <a:ext cx="4392720" cy="329076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11"/>
          <p:cNvSpPr/>
          <p:nvPr/>
        </p:nvSpPr>
        <p:spPr>
          <a:xfrm>
            <a:off x="250920" y="623736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Perg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9" descr="IMG_0310"/>
          <p:cNvPicPr/>
          <p:nvPr/>
        </p:nvPicPr>
        <p:blipFill>
          <a:blip r:embed="rId4"/>
          <a:stretch/>
        </p:blipFill>
        <p:spPr>
          <a:xfrm>
            <a:off x="468360" y="2421000"/>
            <a:ext cx="4392720" cy="3294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2"/>
          <p:cNvSpPr/>
          <p:nvPr/>
        </p:nvSpPr>
        <p:spPr>
          <a:xfrm>
            <a:off x="3708360" y="2133720"/>
            <a:ext cx="45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Brama Południow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00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1" descr="IMG_0263"/>
          <p:cNvPicPr/>
          <p:nvPr/>
        </p:nvPicPr>
        <p:blipFill>
          <a:blip r:embed="rId2"/>
          <a:stretch/>
        </p:blipFill>
        <p:spPr>
          <a:xfrm>
            <a:off x="395280" y="260280"/>
            <a:ext cx="8459640" cy="6345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ahoma"/>
              </a:rPr>
              <a:t>Antalya - zabytk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59280" y="4149360"/>
            <a:ext cx="39607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zymski p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AutoShape 11">
            <a:hlinkClick r:id="" action="ppaction://hlinkshowjump?jump=firstslide"/>
          </p:cNvPr>
          <p:cNvSpPr/>
          <p:nvPr/>
        </p:nvSpPr>
        <p:spPr>
          <a:xfrm>
            <a:off x="8532720" y="6165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2" name="Group 12"/>
          <p:cNvGrpSpPr/>
          <p:nvPr/>
        </p:nvGrpSpPr>
        <p:grpSpPr>
          <a:xfrm>
            <a:off x="4284720" y="3789360"/>
            <a:ext cx="360360" cy="287280"/>
            <a:chOff x="4284720" y="3789360"/>
            <a:chExt cx="360360" cy="287280"/>
          </a:xfrm>
        </p:grpSpPr>
        <p:sp>
          <p:nvSpPr>
            <p:cNvPr id="103" name="AutoShape 13">
              <a:hlinkClick r:id="rId4" action="ppaction://hlinksldjump"/>
            </p:cNvPr>
            <p:cNvSpPr/>
            <p:nvPr/>
          </p:nvSpPr>
          <p:spPr>
            <a:xfrm>
              <a:off x="4284720" y="378936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04" name="Picture 14" descr="BD06790_">
              <a:hlinkClick r:id="rId6" action="ppaction://hlinksldjump"/>
            </p:cNvPr>
            <p:cNvPicPr/>
            <p:nvPr/>
          </p:nvPicPr>
          <p:blipFill>
            <a:blip r:embed="rId7"/>
            <a:srcRect l="9237" t="33966" r="70759" b="47370"/>
            <a:stretch/>
          </p:blipFill>
          <p:spPr>
            <a:xfrm>
              <a:off x="4336560" y="383688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Group 15"/>
          <p:cNvGrpSpPr/>
          <p:nvPr/>
        </p:nvGrpSpPr>
        <p:grpSpPr>
          <a:xfrm>
            <a:off x="5364000" y="4797360"/>
            <a:ext cx="360360" cy="287280"/>
            <a:chOff x="5364000" y="4797360"/>
            <a:chExt cx="360360" cy="287280"/>
          </a:xfrm>
        </p:grpSpPr>
        <p:sp>
          <p:nvSpPr>
            <p:cNvPr id="106" name="AutoShape 16">
              <a:hlinkClick r:id="rId8" action="ppaction://hlinksldjump"/>
            </p:cNvPr>
            <p:cNvSpPr/>
            <p:nvPr/>
          </p:nvSpPr>
          <p:spPr>
            <a:xfrm>
              <a:off x="5364000" y="479736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07" name="Picture 17" descr="BD06790_">
              <a:hlinkClick r:id="rId10" action="ppaction://hlinksldjump"/>
            </p:cNvPr>
            <p:cNvPicPr/>
            <p:nvPr/>
          </p:nvPicPr>
          <p:blipFill>
            <a:blip r:embed="rId11"/>
            <a:srcRect l="9237" t="33966" r="70759" b="47370"/>
            <a:stretch/>
          </p:blipFill>
          <p:spPr>
            <a:xfrm>
              <a:off x="5415840" y="484488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Group 18"/>
          <p:cNvGrpSpPr/>
          <p:nvPr/>
        </p:nvGrpSpPr>
        <p:grpSpPr>
          <a:xfrm>
            <a:off x="4572000" y="4292640"/>
            <a:ext cx="360360" cy="287280"/>
            <a:chOff x="4572000" y="4292640"/>
            <a:chExt cx="360360" cy="287280"/>
          </a:xfrm>
        </p:grpSpPr>
        <p:sp>
          <p:nvSpPr>
            <p:cNvPr id="109" name="AutoShape 19">
              <a:hlinkClick r:id="rId12" action="ppaction://hlinksldjump"/>
            </p:cNvPr>
            <p:cNvSpPr/>
            <p:nvPr/>
          </p:nvSpPr>
          <p:spPr>
            <a:xfrm>
              <a:off x="4572000" y="4292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10" name="Picture 20" descr="BD06790_">
              <a:hlinkClick r:id="rId14" action="ppaction://hlinksldjump"/>
            </p:cNvPr>
            <p:cNvPicPr/>
            <p:nvPr/>
          </p:nvPicPr>
          <p:blipFill>
            <a:blip r:embed="rId15"/>
            <a:srcRect l="9237" t="33966" r="70759" b="47370"/>
            <a:stretch/>
          </p:blipFill>
          <p:spPr>
            <a:xfrm>
              <a:off x="4623840" y="434016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Text Box 23"/>
          <p:cNvSpPr/>
          <p:nvPr/>
        </p:nvSpPr>
        <p:spPr>
          <a:xfrm>
            <a:off x="1692360" y="3068640"/>
            <a:ext cx="316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24"/>
          <p:cNvSpPr/>
          <p:nvPr/>
        </p:nvSpPr>
        <p:spPr>
          <a:xfrm>
            <a:off x="1547640" y="3645000"/>
            <a:ext cx="27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ama Hadri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25"/>
          <p:cNvSpPr/>
          <p:nvPr/>
        </p:nvSpPr>
        <p:spPr>
          <a:xfrm>
            <a:off x="1476360" y="41497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Kesik Min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8921 0.046 -0.16644 0.113 -0.17176 C 0.177 -0.17842 0.237 -0.1185 0.241 -0.03196 C 0.246 0.04793 0.204 0.1225 0.144 0.12782 C 0.089 0.13182 0.037 0.08255 0.033 0.00799 C 0.029 -0.05992 0.064 -0.12383 0.115 -0.12915 C 0.162 -0.13315 0.206 -0.09187 0.209 -0.02929 C 0.212 0.02663 0.184 0.08122 0.142 0.08388 C 0.104 0.08788 0.068 0.05592 0.065 0.00533 C 0.063 -0.03994 0.084 -0.08388 0.117 -0.08655 C 0.146 -0.08921 0.175 -0.06524 0.177 -0.02663 C 0.179 0.00666 0.164 0.03861 0.14 0.04128 C 0.12 0.04394 0.099 0.02929 0.098 0.00266 C 0.096 -0.01864 0.104 -0.04128 0.119 -0.04394 C 0.131 -0.04394 0.143 -0.03861 0.145 -0.02397 C 0.146 -0.01465 0.144 -0.00533 0.138 -0.00133 C 0.135 0 0.133 0 0.13 -0.00133 E">
                                      <p:cBhvr>
                                        <p:cTn id="72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rama Hadrian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181080" y="1484280"/>
            <a:ext cx="4572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budowano ją ku czci cesarza Hadrian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 okazji jego wizyt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 tym mieście w 130 r. n.e. Wierzono, że człowiek, który przelał czyjąś krew, po przejściu pod łukiem triumfalnym zostani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 tego grzechu oczyszczon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AutoShape 6">
            <a:hlinkClick r:id="rId2" action="ppaction://hlinksldjump"/>
          </p:cNvPr>
          <p:cNvSpPr/>
          <p:nvPr/>
        </p:nvSpPr>
        <p:spPr>
          <a:xfrm>
            <a:off x="7740720" y="6237360"/>
            <a:ext cx="1152360" cy="360360"/>
          </a:xfrm>
          <a:custGeom>
            <a:avLst/>
            <a:gdLst>
              <a:gd name="textAreaLeft" fmla="*/ 23040 w 1152360"/>
              <a:gd name="textAreaRight" fmla="*/ 1129320 w 115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25" h="21600">
                <a:moveTo>
                  <a:pt x="0" y="0"/>
                </a:moveTo>
                <a:lnTo>
                  <a:pt x="69025" y="0"/>
                </a:lnTo>
                <a:lnTo>
                  <a:pt x="69025" y="21600"/>
                </a:lnTo>
                <a:lnTo>
                  <a:pt x="0" y="21600"/>
                </a:lnTo>
                <a:close/>
              </a:path>
              <a:path fill="lightenLess" w="69025" h="21600">
                <a:moveTo>
                  <a:pt x="0" y="0"/>
                </a:moveTo>
                <a:lnTo>
                  <a:pt x="69025" y="0"/>
                </a:lnTo>
                <a:lnTo>
                  <a:pt x="67625" y="1400"/>
                </a:lnTo>
                <a:lnTo>
                  <a:pt x="1400" y="1400"/>
                </a:lnTo>
                <a:close/>
              </a:path>
              <a:path fill="darken" w="69025" h="21600">
                <a:moveTo>
                  <a:pt x="69025" y="0"/>
                </a:moveTo>
                <a:lnTo>
                  <a:pt x="69025" y="21600"/>
                </a:lnTo>
                <a:lnTo>
                  <a:pt x="67625" y="20200"/>
                </a:lnTo>
                <a:lnTo>
                  <a:pt x="67625" y="1400"/>
                </a:lnTo>
                <a:close/>
              </a:path>
              <a:path fill="darkenLess" w="69025" h="21600">
                <a:moveTo>
                  <a:pt x="69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25" y="20200"/>
                </a:lnTo>
                <a:close/>
              </a:path>
              <a:path fill="lighten" w="69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Antalya - zabytki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9" descr="IMG_0253"/>
          <p:cNvPicPr/>
          <p:nvPr/>
        </p:nvPicPr>
        <p:blipFill>
          <a:blip r:embed="rId4"/>
          <a:stretch/>
        </p:blipFill>
        <p:spPr>
          <a:xfrm>
            <a:off x="4356000" y="1989000"/>
            <a:ext cx="4475160" cy="33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ahoma"/>
              </a:rPr>
              <a:t>Kesik Minare – ścięty minar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00720" y="1125360"/>
            <a:ext cx="40384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dowla ta powstała w II w. n.e. jako rzymska świątynia, a w VI w. została zmieniona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 kościół chrześcijański. W wyniku wielu najazdów, jej wygląd i cel, któremu służyła, zmieniano trzykrotnie, aż wreszcie przebudowano ją na meczet. Uległ on jednak zniszczeniu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 trakcie pożaru i teraz dawną świetność przypomina jedynie minaret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7" descr="IMG_0247"/>
          <p:cNvPicPr/>
          <p:nvPr/>
        </p:nvPicPr>
        <p:blipFill>
          <a:blip r:embed="rId2"/>
          <a:stretch/>
        </p:blipFill>
        <p:spPr>
          <a:xfrm>
            <a:off x="1116000" y="1557360"/>
            <a:ext cx="3240000" cy="431964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6">
            <a:hlinkClick r:id="rId3" action="ppaction://hlinksldjump"/>
          </p:cNvPr>
          <p:cNvSpPr/>
          <p:nvPr/>
        </p:nvSpPr>
        <p:spPr>
          <a:xfrm>
            <a:off x="250920" y="6237360"/>
            <a:ext cx="1152360" cy="360360"/>
          </a:xfrm>
          <a:custGeom>
            <a:avLst/>
            <a:gdLst>
              <a:gd name="textAreaLeft" fmla="*/ 23040 w 1152360"/>
              <a:gd name="textAreaRight" fmla="*/ 1129320 w 115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25" h="21600">
                <a:moveTo>
                  <a:pt x="0" y="0"/>
                </a:moveTo>
                <a:lnTo>
                  <a:pt x="69025" y="0"/>
                </a:lnTo>
                <a:lnTo>
                  <a:pt x="69025" y="21600"/>
                </a:lnTo>
                <a:lnTo>
                  <a:pt x="0" y="21600"/>
                </a:lnTo>
                <a:close/>
              </a:path>
              <a:path fill="lightenLess" w="69025" h="21600">
                <a:moveTo>
                  <a:pt x="0" y="0"/>
                </a:moveTo>
                <a:lnTo>
                  <a:pt x="69025" y="0"/>
                </a:lnTo>
                <a:lnTo>
                  <a:pt x="67625" y="1400"/>
                </a:lnTo>
                <a:lnTo>
                  <a:pt x="1400" y="1400"/>
                </a:lnTo>
                <a:close/>
              </a:path>
              <a:path fill="darken" w="69025" h="21600">
                <a:moveTo>
                  <a:pt x="69025" y="0"/>
                </a:moveTo>
                <a:lnTo>
                  <a:pt x="69025" y="21600"/>
                </a:lnTo>
                <a:lnTo>
                  <a:pt x="67625" y="20200"/>
                </a:lnTo>
                <a:lnTo>
                  <a:pt x="67625" y="1400"/>
                </a:lnTo>
                <a:close/>
              </a:path>
              <a:path fill="darkenLess" w="69025" h="21600">
                <a:moveTo>
                  <a:pt x="69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25" y="20200"/>
                </a:lnTo>
                <a:close/>
              </a:path>
              <a:path fill="lighten" w="69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Antalya - zabytki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107 0.41424 C -0.22048 0.40499 -0.225 0.40707 -0.20677 0.40545 C -0.19045 0.40406 -0.17413 0.40383 -0.15781 0.40245 C -0.14895 0.40175 -0.13993 0.40037 -0.13107 0.39944 C -0.12118 0.39505 -0.11753 0.38673 -0.11111 0.37586 C -0.10677 0.35529 -0.10399 0.33448 -0.1 0.31368 C -0.12899 0.28502 -0.18836 0.29426 -0.21788 0.29288 C -0.22083 0.29195 -0.22447 0.29264 -0.22673 0.2901 C -0.23125 0.28502 -0.23697 0.2686 -0.2401 0.26051 C -0.23888 0.25358 -0.23732 0.24202 -0.23333 0.2367 C -0.23177 0.23462 -0.22881 0.23485 -0.22673 0.2337 C -0.21857 0.22908 -0.21076 0.22584 -0.20225 0.22191 C -0.16579 0.23185 -0.21527 0.21613 -0.18229 0.2337 C -0.17812 0.23601 -0.17326 0.23532 -0.16892 0.2367 C -0.13368 0.24849 -0.17708 0.23786 -0.14218 0.24572 C -0.11163 0.26074 -0.08125 0.26329 -0.04895 0.26629 C -0.03923 0.26537 -0.02916 0.26768 -0.01996 0.26329 C -0.01718 0.2619 -0.01753 0.25543 -0.01788 0.2515 C -0.01909 0.23509 -0.02743 0.21405 -0.03107 0.19833 C -0.03246 0.19232 -0.03211 0.18469 -0.03559 0.18053 C -0.03975 0.17568 -0.06597 0.16736 -0.07118 0.16574 C -0.09791 0.15765 -0.12395 0.15349 -0.15121 0.15094 C -0.15642 0.15002 -0.16197 0.15071 -0.16666 0.14794 C -0.17656 0.14193 -0.17916 0.12367 -0.18229 0.11257 C -0.17777 0.09477 -0.17482 0.07628 -0.16892 0.05917 C -0.15659 0.02381 -0.12916 0.02889 -0.10451 0.02381 C -0.07951 0.0282 -0.05503 0.03097 -0.03107 0.04137 C -0.02013 0.05224 -0.01128 0.06634 -2.77778E-006 0.07697 C 0.025 0.10078 0.06372 0.10263 0.09323 0.10656 C 0.09514 0.10633 0.14046 0.10633 0.15105 0.09778 C 0.154 0.09546 0.154 0.08969 0.15556 0.08576 C 0.16094 0.04415 0.16094 0.00416 0.15782 -0.03838 C 0.1573 -0.04462 0.15625 -0.05132 0.1533 -0.05618 C 0.14132 -0.07559 0.13403 -0.07444 0.11771 -0.07975 C 0.1099 -0.11165 0.11823 -0.08692 0.09549 -0.12136 C 0.07622 -0.15049 0.05973 -0.1884 0.02882 -0.19533 C -0.00312 -0.21614 -0.06267 -0.20204 -0.08663 -0.20111 C -0.09427 -0.17153 -0.08177 -0.21429 -0.09565 -0.18632 C -0.09739 -0.18285 -0.09704 -0.17846 -0.09774 -0.17453 C -0.09444 -0.14633 -0.08628 -0.1387 -0.06666 -0.12136 C -0.03506 -0.09316 -0.00173 -0.0816 0.0356 -0.07698 C 0.0408 -0.0816 0.0507 -0.09362 0.04219 -0.10356 C 0.03091 -0.11697 0.0158 -0.11674 0.00226 -0.12136 C -0.00225 -0.12044 -0.00763 -0.12206 -0.01128 -0.11836 C -0.01302 -0.11628 -0.01041 -0.11189 -0.00885 -0.10934 C -0.00729 -0.10657 -0.00451 -0.10541 -0.00225 -0.10356 C 0.0073 -0.06473 -2.77778E-006 -0.09779 -2.77778E-006 9.52381E-007 E">
                                      <p:cBhvr>
                                        <p:cTn id="107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zymski por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10920" y="227664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Przez wiele wieków był najważniejszym obiektem komunikacyjnym Antalyi. Odrestaurowano go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w latach 80. XX wiek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6">
            <a:hlinkClick r:id="rId2" action="ppaction://hlinksldjump"/>
          </p:cNvPr>
          <p:cNvSpPr/>
          <p:nvPr/>
        </p:nvSpPr>
        <p:spPr>
          <a:xfrm>
            <a:off x="7740720" y="6237360"/>
            <a:ext cx="1152360" cy="360360"/>
          </a:xfrm>
          <a:custGeom>
            <a:avLst/>
            <a:gdLst>
              <a:gd name="textAreaLeft" fmla="*/ 23040 w 1152360"/>
              <a:gd name="textAreaRight" fmla="*/ 1129320 w 115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25" h="21600">
                <a:moveTo>
                  <a:pt x="0" y="0"/>
                </a:moveTo>
                <a:lnTo>
                  <a:pt x="69025" y="0"/>
                </a:lnTo>
                <a:lnTo>
                  <a:pt x="69025" y="21600"/>
                </a:lnTo>
                <a:lnTo>
                  <a:pt x="0" y="21600"/>
                </a:lnTo>
                <a:close/>
              </a:path>
              <a:path fill="lightenLess" w="69025" h="21600">
                <a:moveTo>
                  <a:pt x="0" y="0"/>
                </a:moveTo>
                <a:lnTo>
                  <a:pt x="69025" y="0"/>
                </a:lnTo>
                <a:lnTo>
                  <a:pt x="67625" y="1400"/>
                </a:lnTo>
                <a:lnTo>
                  <a:pt x="1400" y="1400"/>
                </a:lnTo>
                <a:close/>
              </a:path>
              <a:path fill="darken" w="69025" h="21600">
                <a:moveTo>
                  <a:pt x="69025" y="0"/>
                </a:moveTo>
                <a:lnTo>
                  <a:pt x="69025" y="21600"/>
                </a:lnTo>
                <a:lnTo>
                  <a:pt x="67625" y="20200"/>
                </a:lnTo>
                <a:lnTo>
                  <a:pt x="67625" y="1400"/>
                </a:lnTo>
                <a:close/>
              </a:path>
              <a:path fill="darkenLess" w="69025" h="21600">
                <a:moveTo>
                  <a:pt x="69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25" y="20200"/>
                </a:lnTo>
                <a:close/>
              </a:path>
              <a:path fill="lighten" w="69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Antalya - zabytki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7" descr="IMG_0267"/>
          <p:cNvPicPr/>
          <p:nvPr/>
        </p:nvPicPr>
        <p:blipFill>
          <a:blip r:embed="rId4"/>
          <a:stretch/>
        </p:blipFill>
        <p:spPr>
          <a:xfrm>
            <a:off x="2320920" y="234936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8" descr="190"/>
          <p:cNvPicPr/>
          <p:nvPr/>
        </p:nvPicPr>
        <p:blipFill>
          <a:blip r:embed="rId2"/>
          <a:stretch/>
        </p:blipFill>
        <p:spPr>
          <a:xfrm>
            <a:off x="971640" y="2205000"/>
            <a:ext cx="4319640" cy="32511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ahoma"/>
              </a:rPr>
              <a:t>Aspend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859280" y="1267920"/>
            <a:ext cx="4038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jwspanialszym zabytkiem tego miasta jest antyczny teatr. Zbudowano go w II w. n.e. Do tej pory odbywają się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 nim różne imprezy, ponieważ panuje tu  doskonała akustyka, zachowana dzięki nienaruszonej ścianie głównej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AutoShape 16">
            <a:hlinkClick r:id="" action="ppaction://hlinkshowjump?jump=firstslide"/>
          </p:cNvPr>
          <p:cNvSpPr/>
          <p:nvPr/>
        </p:nvSpPr>
        <p:spPr>
          <a:xfrm>
            <a:off x="85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23" descr="191"/>
          <p:cNvPicPr/>
          <p:nvPr/>
        </p:nvPicPr>
        <p:blipFill>
          <a:blip r:embed="rId4"/>
          <a:stretch/>
        </p:blipFill>
        <p:spPr>
          <a:xfrm>
            <a:off x="971640" y="2205000"/>
            <a:ext cx="4321080" cy="3228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189"/>
          <p:cNvPicPr/>
          <p:nvPr/>
        </p:nvPicPr>
        <p:blipFill>
          <a:blip r:embed="rId5"/>
          <a:stretch/>
        </p:blipFill>
        <p:spPr>
          <a:xfrm>
            <a:off x="971640" y="2205000"/>
            <a:ext cx="4321080" cy="3254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0" descr="185"/>
          <p:cNvPicPr/>
          <p:nvPr/>
        </p:nvPicPr>
        <p:blipFill>
          <a:blip r:embed="rId6"/>
          <a:stretch/>
        </p:blipFill>
        <p:spPr>
          <a:xfrm>
            <a:off x="971640" y="2205000"/>
            <a:ext cx="4321080" cy="3252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1" descr="187"/>
          <p:cNvPicPr/>
          <p:nvPr/>
        </p:nvPicPr>
        <p:blipFill>
          <a:blip r:embed="rId7"/>
          <a:stretch/>
        </p:blipFill>
        <p:spPr>
          <a:xfrm>
            <a:off x="971640" y="2205000"/>
            <a:ext cx="439236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ahoma"/>
              </a:rPr>
              <a:t>Perge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Miasto to ma bogatą przeszłość. Według legendy jego założycielami byli bohaterowie z Troi, a w VIII w. p.n.e. okupowali je Persowie. Przebywał tu też Aleksander Wielki.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W 188 roku p.n.e. Perge zdobyli Rzymianie i w tym okresie przeżywało swój rozkwit. Wtedy to powstały słynny teatr, stadion, agora oraz aleja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z kolumnam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perge"/>
          <p:cNvPicPr/>
          <p:nvPr/>
        </p:nvPicPr>
        <p:blipFill>
          <a:blip r:embed="rId2"/>
          <a:stretch/>
        </p:blipFill>
        <p:spPr>
          <a:xfrm>
            <a:off x="0" y="4378320"/>
            <a:ext cx="9144000" cy="247968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7">
            <a:hlinkClick r:id="" action="ppaction://hlinkshowjump?jump=firstslide"/>
          </p:cNvPr>
          <p:cNvSpPr/>
          <p:nvPr/>
        </p:nvSpPr>
        <p:spPr>
          <a:xfrm>
            <a:off x="8532720" y="3789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rama, fontanna, teatr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03280" y="4149360"/>
            <a:ext cx="3168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tr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z III wieku n.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-324000" y="1341360"/>
            <a:ext cx="5220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ama Rzymska - wejści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mias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508720" y="1628640"/>
            <a:ext cx="3205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Fontanna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Boga Kestrosa, patrona rzeki, przy której leżało Per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7956720" y="630864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Perg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7" descr="IMG_0323"/>
          <p:cNvPicPr/>
          <p:nvPr/>
        </p:nvPicPr>
        <p:blipFill>
          <a:blip r:embed="rId3"/>
          <a:srcRect l="13498" t="0" r="17443" b="1900"/>
          <a:stretch/>
        </p:blipFill>
        <p:spPr>
          <a:xfrm>
            <a:off x="5435640" y="2133720"/>
            <a:ext cx="3313080" cy="3528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347"/>
          <p:cNvPicPr/>
          <p:nvPr/>
        </p:nvPicPr>
        <p:blipFill>
          <a:blip r:embed="rId4"/>
          <a:stretch/>
        </p:blipFill>
        <p:spPr>
          <a:xfrm>
            <a:off x="1547640" y="1341360"/>
            <a:ext cx="3384720" cy="2533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IMG_0352"/>
          <p:cNvPicPr/>
          <p:nvPr/>
        </p:nvPicPr>
        <p:blipFill>
          <a:blip r:embed="rId5"/>
          <a:srcRect l="1452" t="17133" r="0" b="39063"/>
          <a:stretch/>
        </p:blipFill>
        <p:spPr>
          <a:xfrm>
            <a:off x="250920" y="4653000"/>
            <a:ext cx="49654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d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0563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eścił 12 000 osób. Wykorzystywano go do walk gladiatorów, a na zewnątrz znajdowało się ponad 30 pomieszczeń służących jako sklepy z przekąskami dla widzów (głównie wino i oliwki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4" descr="353"/>
          <p:cNvPicPr/>
          <p:nvPr/>
        </p:nvPicPr>
        <p:blipFill>
          <a:blip r:embed="rId2"/>
          <a:stretch/>
        </p:blipFill>
        <p:spPr>
          <a:xfrm>
            <a:off x="6227640" y="4292640"/>
            <a:ext cx="2644920" cy="1981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354"/>
          <p:cNvPicPr/>
          <p:nvPr/>
        </p:nvPicPr>
        <p:blipFill>
          <a:blip r:embed="rId3"/>
          <a:stretch/>
        </p:blipFill>
        <p:spPr>
          <a:xfrm>
            <a:off x="250920" y="4292640"/>
            <a:ext cx="2644560" cy="1981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356"/>
          <p:cNvPicPr/>
          <p:nvPr/>
        </p:nvPicPr>
        <p:blipFill>
          <a:blip r:embed="rId4"/>
          <a:stretch/>
        </p:blipFill>
        <p:spPr>
          <a:xfrm>
            <a:off x="3132000" y="4221000"/>
            <a:ext cx="2882880" cy="215928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9"/>
          <p:cNvSpPr/>
          <p:nvPr/>
        </p:nvSpPr>
        <p:spPr>
          <a:xfrm>
            <a:off x="8172360" y="638172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Perg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4T13:27:09Z</dcterms:created>
  <dc:creator>G. Koba</dc:creator>
  <dc:description/>
  <dc:language>en-US</dc:language>
  <cp:lastModifiedBy>Halina Kubicka</cp:lastModifiedBy>
  <dcterms:modified xsi:type="dcterms:W3CDTF">2012-03-18T21:35:29Z</dcterms:modified>
  <cp:revision>58</cp:revision>
  <dc:subject/>
  <dc:title>Wakacje na Riwierze Tureckiej</dc:title>
</cp:coreProperties>
</file>