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26A-FD38-4FF5-8152-1500FBD3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023-B73F-41E5-B3E8-C00E02D0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771-9AAF-46E9-94D2-EE8A94B7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B0B-FA62-48BF-8C7F-DE09133C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B5C-CC9D-4AF9-8D1B-94F369A2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7C6-1725-4246-BB35-2C0A7FE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7CC-710D-4786-8BFC-B408A001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086-D7BF-4EAF-99A7-78D39CA0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C7B-9117-47E5-A696-42108A9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16D-CEB3-430C-814E-8FF04569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CAC-CA49-4165-AAC5-2DDBDCFA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3A2-A65D-476C-A529-4D837DE7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5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8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6EE4-3846-401F-80B3-E280ACBCB9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ZAGADK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a firma produkuje komputery Ma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447920" y="3352680"/>
            <a:ext cx="2164320" cy="533520"/>
            <a:chOff x="1447920" y="3352680"/>
            <a:chExt cx="2164320" cy="533520"/>
          </a:xfrm>
        </p:grpSpPr>
        <p:sp>
          <p:nvSpPr>
            <p:cNvPr id="111" name="Rectangle 10"/>
            <p:cNvSpPr/>
            <p:nvPr/>
          </p:nvSpPr>
          <p:spPr>
            <a:xfrm>
              <a:off x="1447920" y="3352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058480" y="340344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4495680"/>
            <a:ext cx="2061360" cy="533520"/>
            <a:chOff x="1447920" y="4495680"/>
            <a:chExt cx="2061360" cy="533520"/>
          </a:xfrm>
        </p:grpSpPr>
        <p:sp>
          <p:nvSpPr>
            <p:cNvPr id="114" name="Rectangle 14"/>
            <p:cNvSpPr/>
            <p:nvPr/>
          </p:nvSpPr>
          <p:spPr>
            <a:xfrm>
              <a:off x="1447920" y="4495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059200" y="45464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Symb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4724280" y="3352680"/>
            <a:ext cx="1638360" cy="533520"/>
            <a:chOff x="4724280" y="3352680"/>
            <a:chExt cx="1638360" cy="533520"/>
          </a:xfrm>
        </p:grpSpPr>
        <p:sp>
          <p:nvSpPr>
            <p:cNvPr id="117" name="Rectangle 17"/>
            <p:cNvSpPr/>
            <p:nvPr/>
          </p:nvSpPr>
          <p:spPr>
            <a:xfrm>
              <a:off x="4724280" y="3352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5335920" y="3403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Ap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28"/>
          <p:cNvGrpSpPr/>
          <p:nvPr/>
        </p:nvGrpSpPr>
        <p:grpSpPr>
          <a:xfrm>
            <a:off x="4724280" y="4495680"/>
            <a:ext cx="3079080" cy="533520"/>
            <a:chOff x="4724280" y="4495680"/>
            <a:chExt cx="3079080" cy="533520"/>
          </a:xfrm>
        </p:grpSpPr>
        <p:sp>
          <p:nvSpPr>
            <p:cNvPr id="120" name="Rectangle 20"/>
            <p:cNvSpPr/>
            <p:nvPr/>
          </p:nvSpPr>
          <p:spPr>
            <a:xfrm>
              <a:off x="4724280" y="4495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5336640" y="4546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Mac Compu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6172200" y="6095880"/>
            <a:ext cx="1676520" cy="30492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Zobacz podpowied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917280" y="6095880"/>
            <a:ext cx="32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Kliknij literę obok prawidłowej odpowiedz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248520" y="533520"/>
            <a:ext cx="15238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934280" y="213372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estety, odpowiedź nie jest prawidło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" action="ppaction://hlinkshowjump?jump=firstslide"/>
          </p:cNvPr>
          <p:cNvSpPr/>
          <p:nvPr/>
        </p:nvSpPr>
        <p:spPr>
          <a:xfrm>
            <a:off x="3200400" y="3505320"/>
            <a:ext cx="289548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próbuj ponowni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ie udało się!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309400" y="21337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zwa firmy pochodzi od nazwy owo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" action="ppaction://hlinkshowjump?jump=firstslide"/>
          </p:cNvPr>
          <p:cNvSpPr/>
          <p:nvPr/>
        </p:nvSpPr>
        <p:spPr>
          <a:xfrm>
            <a:off x="3352680" y="3505320"/>
            <a:ext cx="289584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wró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dpowied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W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19520" y="1981080"/>
            <a:ext cx="3581280" cy="358164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3:17:08Z</dcterms:created>
  <dc:creator/>
  <dc:description/>
  <dc:language>en-US</dc:language>
  <cp:lastModifiedBy>Halina Kubicka</cp:lastModifiedBy>
  <dcterms:modified xsi:type="dcterms:W3CDTF">2012-03-18T21:36:13Z</dcterms:modified>
  <cp:revision>7</cp:revision>
  <dc:subject/>
  <dc:title>ZAGADKA</dc:title>
</cp:coreProperties>
</file>