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5.gif" ContentType="image/gif"/>
  <Override PartName="/ppt/media/image31.wmf" ContentType="image/x-wmf"/>
  <Override PartName="/ppt/media/image27.png" ContentType="image/png"/>
  <Override PartName="/ppt/media/image30.wmf" ContentType="image/x-wmf"/>
  <Override PartName="/ppt/media/image26.jpeg" ContentType="image/jpeg"/>
  <Override PartName="/ppt/media/image3.png" ContentType="image/png"/>
  <Override PartName="/ppt/media/image9.png" ContentType="image/png"/>
  <Override PartName="/ppt/media/image16.png" ContentType="image/png"/>
  <Override PartName="/ppt/media/chimes.wav" ContentType="audio/x-wav"/>
  <Override PartName="/ppt/media/image29.png" ContentType="image/png"/>
  <Override PartName="/ppt/media/image14.jpeg" ContentType="image/jpeg"/>
  <Override PartName="/ppt/media/image8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12.jpeg" ContentType="image/jpeg"/>
  <Override PartName="/ppt/media/image13.png" ContentType="image/png"/>
  <Override PartName="/ppt/media/image33.gif" ContentType="image/gif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34.wmf" ContentType="image/x-wmf"/>
  <Override PartName="/ppt/media/image4.wmf" ContentType="image/x-wmf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DD63-8B39-4EDE-A913-249558E5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6A74-BCDB-4397-8586-C9D8688D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BF31-C3C5-4A67-B7E9-20949254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980B-48FB-4759-91A8-635FEAAC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B526-B8BF-4772-914C-3CD1FAD6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08EF-214A-4EBE-A31A-CCFDAF4F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30AA-DA89-410D-9188-D81B83FA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7725-0477-47BD-8214-ED9A0A7F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AEAE-7FFE-49F9-BAC6-BB5869B8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5715-1428-406B-B80E-9AD507A2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05AD-D7D9-47FB-B176-04E245FA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DCEA-9F4C-4D62-8651-706DEAF0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2B49-6DDD-4DF5-98AC-724AD4DE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4651-539A-4CEE-8B90-5DEE0E8C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E2BE-5584-4551-B7EF-A8B6A430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B4C8-D0B5-4527-AC88-9972BFA1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03FE-96D4-4B17-A654-5873E7C5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DC94-8BAC-42CB-B320-907C8223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373F-DEB6-440F-83CD-47B986D3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EE9B-596E-4862-BDCC-0AE95478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C59F-BA44-43C5-B3B4-D4D387DD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7DFF-8AF7-42A4-8E17-67FA3C2C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780-AB64-4EA5-A906-3D2E2EFD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FD5-DAA9-4073-ADB2-7164D128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5DC6-7D55-4111-8363-2EF759DE2A5B}" type="slidenum">
              <a:rPr b="0" lang="pl-PL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079B-E463-48F6-B612-D6531DCFB26F}" type="slidenum">
              <a:rPr b="0" lang="pl-PL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30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image" Target="../media/image3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0.png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BS00559_"/>
          <p:cNvPicPr/>
          <p:nvPr/>
        </p:nvPicPr>
        <p:blipFill>
          <a:blip r:embed="rId1"/>
          <a:stretch/>
        </p:blipFill>
        <p:spPr>
          <a:xfrm>
            <a:off x="2895480" y="3505320"/>
            <a:ext cx="3124440" cy="1771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matma"/>
          <p:cNvPicPr/>
          <p:nvPr/>
        </p:nvPicPr>
        <p:blipFill>
          <a:blip r:embed="rId2"/>
          <a:stretch/>
        </p:blipFill>
        <p:spPr>
          <a:xfrm>
            <a:off x="1981080" y="1600200"/>
            <a:ext cx="4953240" cy="15238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Bryły obrotow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91856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1905120" y="4495680"/>
                <a:ext cx="13827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Rectangle 9"/>
          <p:cNvSpPr/>
          <p:nvPr/>
        </p:nvSpPr>
        <p:spPr>
          <a:xfrm>
            <a:off x="468360" y="1844640"/>
            <a:ext cx="79185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l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bryła obrotowa powstała przez obrót półkola dookoła prostej, w której zawarta jest średnica tego półkol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środek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romień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le powierzchni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objętoś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92" name="Group 13"/>
          <p:cNvGrpSpPr/>
          <p:nvPr/>
        </p:nvGrpSpPr>
        <p:grpSpPr>
          <a:xfrm>
            <a:off x="5364000" y="2997360"/>
            <a:ext cx="2524320" cy="2869920"/>
            <a:chOff x="5364000" y="2997360"/>
            <a:chExt cx="2524320" cy="2869920"/>
          </a:xfrm>
        </p:grpSpPr>
        <p:graphicFrame>
          <p:nvGraphicFramePr>
            <p:cNvPr id="193" name="Object 6"/>
            <p:cNvGraphicFramePr/>
            <p:nvPr/>
          </p:nvGraphicFramePr>
          <p:xfrm>
            <a:off x="5364000" y="2997360"/>
            <a:ext cx="2524320" cy="2869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64000" y="2997360"/>
                      <a:ext cx="2524320" cy="286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Text Box 11"/>
            <p:cNvSpPr/>
            <p:nvPr/>
          </p:nvSpPr>
          <p:spPr>
            <a:xfrm>
              <a:off x="5486400" y="4343400"/>
              <a:ext cx="18432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6019920" y="4267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264c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Kąt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572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odzaje kątów płaskich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pełny, półpełny, prosty, zero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wypukły, wklęsły, ostry, rozwart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y wierzchołkowe, przyległ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y naprzemianległe, jednostronne, odpowiadając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05160" y="1904760"/>
            <a:ext cx="3352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ąty w okręgu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środko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wpisan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dopisan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00" name="Picture 5" descr="BS01580_"/>
          <p:cNvPicPr/>
          <p:nvPr/>
        </p:nvPicPr>
        <p:blipFill>
          <a:blip r:embed="rId4"/>
          <a:stretch/>
        </p:blipFill>
        <p:spPr>
          <a:xfrm>
            <a:off x="5638680" y="3886200"/>
            <a:ext cx="2146320" cy="19828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5" name="chimes.wav"/>
      </p:stSnd>
    </p:sndAc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Działania matematycz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33520" y="1752480"/>
          <a:ext cx="7924680" cy="459288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35053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ziała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fea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Zapis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fea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efinicje i własności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feaef"/>
                    </a:solidFill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odawa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af2b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+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af2b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+ b = b + a – przemien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a + b) + c = a + (b + c) – łącz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 – element neutralny dodawani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af2b9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dejmowa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b = a + (–b) – odejmowanie jest działaniem odwrotnym do dodawania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Mnoże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1b0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1b0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b = b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przemien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a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b)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=a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b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) – łącz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 – element neutralny mnożeni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1b0e8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ziele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0c6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: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0c6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jeżeli b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, to a:b = c 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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a = b </a:t>
                      </a: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 </a:t>
                      </a:r>
                      <a:br>
                        <a:rPr sz="2000"/>
                      </a:b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– dzielenie jest działaniem  odwrotnym do mnożenia 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0c6e9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fade thruBlk="true"/>
    <p:sndAc>
      <p:stSnd>
        <p:snd r:embed="rId1" name="chimes.wav"/>
      </p:stSnd>
    </p:sndAc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Cechy podzielności licz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Liczba naturalna jest podzielna przez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jej ostatnią cyfrą jest 0, 2, 4, 6 albo 8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3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 gdy suma jej cyfr dzieli się przez 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4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liczba, wyrażona dwiema ostatnimi jej cyframi,     dzieli się przez 4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5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 gdy jej ostatnią cyfrą jest 0 albo 5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6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dzieli się przez 2 i przez 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9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suma jej cyfr dzieli się przez 9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10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ostatnią jej cyfrą jest 0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05" name="Picture 6" descr="PE01549_"/>
          <p:cNvPicPr/>
          <p:nvPr/>
        </p:nvPicPr>
        <p:blipFill>
          <a:blip r:embed="rId2"/>
          <a:stretch/>
        </p:blipFill>
        <p:spPr>
          <a:xfrm>
            <a:off x="6629400" y="4038480"/>
            <a:ext cx="1481040" cy="20210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3" name="chimes.wav"/>
      </p:stSnd>
    </p:sndAc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5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2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9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6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43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0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14">
            <a:hlinkClick r:id="" action="ppaction://hlinkshowjump?jump=firstslide"/>
          </p:cNvPr>
          <p:cNvSpPr/>
          <p:nvPr/>
        </p:nvSpPr>
        <p:spPr>
          <a:xfrm>
            <a:off x="395280" y="2997360"/>
            <a:ext cx="1916280" cy="865080"/>
          </a:xfrm>
          <a:prstGeom prst="bevel">
            <a:avLst>
              <a:gd name="adj" fmla="val 12500"/>
            </a:avLst>
          </a:prstGeom>
          <a:solidFill>
            <a:srgbClr val="c1b0e8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685800" y="19224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Dziękuję za obejrzenie prezentacji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6920" y="1828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Times New Roman"/>
              </a:rPr>
              <a:t>Magdalena Judek – LO Kościa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590920" y="3276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Times New Roman"/>
              </a:rPr>
              <a:t>Zobacz prezentację jeszcze raz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0" name="AutoShape 6">
            <a:hlinkClick r:id="" action="ppaction://hlinkshowjump?jump=endshow"/>
          </p:cNvPr>
          <p:cNvSpPr/>
          <p:nvPr/>
        </p:nvSpPr>
        <p:spPr>
          <a:xfrm>
            <a:off x="1143000" y="4724280"/>
            <a:ext cx="1916280" cy="865440"/>
          </a:xfrm>
          <a:prstGeom prst="bevel">
            <a:avLst>
              <a:gd name="adj" fmla="val 12500"/>
            </a:avLst>
          </a:prstGeom>
          <a:solidFill>
            <a:srgbClr val="f0c6e9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581280" y="4952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Times New Roman"/>
              </a:rPr>
              <a:t>Zakończ pokaz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12" name="Picture 12" descr="1806"/>
          <p:cNvPicPr/>
          <p:nvPr/>
        </p:nvPicPr>
        <p:blipFill>
          <a:blip r:embed="rId2"/>
          <a:stretch/>
        </p:blipFill>
        <p:spPr>
          <a:xfrm>
            <a:off x="1042920" y="3141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j0286034"/>
          <p:cNvPicPr/>
          <p:nvPr/>
        </p:nvPicPr>
        <p:blipFill>
          <a:blip r:embed="rId3"/>
          <a:stretch/>
        </p:blipFill>
        <p:spPr>
          <a:xfrm>
            <a:off x="1835280" y="4869000"/>
            <a:ext cx="576000" cy="555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3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9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1120"/>
                            </p:stCondLst>
                            <p:childTnLst>
                              <p:par>
                                <p:cTn id="5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212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3120"/>
                            </p:stCondLst>
                            <p:childTnLst>
                              <p:par>
                                <p:cTn id="523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3620"/>
                            </p:stCondLst>
                            <p:childTnLst>
                              <p:par>
                                <p:cTn id="52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4120"/>
                            </p:stCondLst>
                            <p:childTnLst>
                              <p:par>
                                <p:cTn id="5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Spis treści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33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264c"/>
                </a:solidFill>
                <a:latin typeface="Times New Roman"/>
              </a:rPr>
              <a:t>Algebr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Zbiory liczbow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Funkcj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ównani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952880" y="1828800"/>
            <a:ext cx="4191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264c"/>
                </a:solidFill>
                <a:latin typeface="Times New Roman"/>
              </a:rPr>
              <a:t>Geometri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oło, okrąg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Prostokąt, kwadra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Trójką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omb, równoległobok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ześcia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Prostopadłościa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Ostrosłu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7" name="Picture 5" descr="BS00554_"/>
          <p:cNvPicPr/>
          <p:nvPr/>
        </p:nvPicPr>
        <p:blipFill>
          <a:blip r:embed="rId3"/>
          <a:stretch/>
        </p:blipFill>
        <p:spPr>
          <a:xfrm>
            <a:off x="2666880" y="4114800"/>
            <a:ext cx="2216160" cy="19335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6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Pomocne wzory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905120"/>
          <a:ext cx="7772400" cy="4565520"/>
        </p:xfrm>
        <a:graphic>
          <a:graphicData uri="http://schemas.openxmlformats.org/drawingml/2006/table">
            <a:tbl>
              <a:tblPr/>
              <a:tblGrid>
                <a:gridCol w="1943280"/>
                <a:gridCol w="1790640"/>
                <a:gridCol w="2057400"/>
                <a:gridCol w="1981080"/>
              </a:tblGrid>
              <a:tr h="1094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Figura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zór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pol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– obwód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Figura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zór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pol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– obwód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promień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Koło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 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</a:t>
                      </a:r>
                      <a:r>
                        <a:rPr b="1" lang="pl-PL" sz="2000" spc="-1" strike="noStrike" baseline="30000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2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podstawa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h – wysokość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, b, c – boki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Trójką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1/2ah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a+b+c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bok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Kwadra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</a:t>
                      </a:r>
                      <a:r>
                        <a:rPr b="1" lang="pl-PL" sz="2000" spc="-1" strike="noStrike" baseline="30000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4a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podstawa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h – wysokość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</a:t>
                      </a:r>
                      <a:r>
                        <a:rPr b="1" lang="pl-PL" sz="16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d</a:t>
                      </a:r>
                      <a:r>
                        <a:rPr b="1" lang="pl-PL" sz="16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– przekątne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872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ównoległobok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h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1/2d</a:t>
                      </a:r>
                      <a:r>
                        <a:rPr b="1" lang="pl-PL" sz="20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</a:t>
                      </a:r>
                      <a:r>
                        <a:rPr b="1" lang="pl-PL" sz="20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n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φ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bsin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6401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, b – boki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ostoką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b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2a+2b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00" name="Group 113"/>
          <p:cNvGrpSpPr/>
          <p:nvPr/>
        </p:nvGrpSpPr>
        <p:grpSpPr>
          <a:xfrm>
            <a:off x="914400" y="3048120"/>
            <a:ext cx="914400" cy="838080"/>
            <a:chOff x="914400" y="3048120"/>
            <a:chExt cx="914400" cy="838080"/>
          </a:xfrm>
        </p:grpSpPr>
        <p:grpSp>
          <p:nvGrpSpPr>
            <p:cNvPr id="101" name="Group 89"/>
            <p:cNvGrpSpPr/>
            <p:nvPr/>
          </p:nvGrpSpPr>
          <p:grpSpPr>
            <a:xfrm>
              <a:off x="914400" y="3048120"/>
              <a:ext cx="838080" cy="838080"/>
              <a:chOff x="914400" y="3048120"/>
              <a:chExt cx="838080" cy="838080"/>
            </a:xfrm>
          </p:grpSpPr>
          <p:sp>
            <p:nvSpPr>
              <p:cNvPr id="102" name="Oval 67"/>
              <p:cNvSpPr/>
              <p:nvPr/>
            </p:nvSpPr>
            <p:spPr>
              <a:xfrm>
                <a:off x="914400" y="3048120"/>
                <a:ext cx="838080" cy="83808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03" name="Line 68"/>
              <p:cNvSpPr/>
              <p:nvPr/>
            </p:nvSpPr>
            <p:spPr>
              <a:xfrm>
                <a:off x="1312920" y="3467160"/>
                <a:ext cx="439560" cy="0"/>
              </a:xfrm>
              <a:prstGeom prst="line">
                <a:avLst/>
              </a:prstGeom>
              <a:ln w="1260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111"/>
            <p:cNvSpPr/>
            <p:nvPr/>
          </p:nvSpPr>
          <p:spPr>
            <a:xfrm>
              <a:off x="1371600" y="32767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05" name="Group 121"/>
          <p:cNvGrpSpPr/>
          <p:nvPr/>
        </p:nvGrpSpPr>
        <p:grpSpPr>
          <a:xfrm>
            <a:off x="838080" y="5410080"/>
            <a:ext cx="1752840" cy="733680"/>
            <a:chOff x="838080" y="5410080"/>
            <a:chExt cx="1752840" cy="733680"/>
          </a:xfrm>
        </p:grpSpPr>
        <p:sp>
          <p:nvSpPr>
            <p:cNvPr id="106" name="Rectangle 80"/>
            <p:cNvSpPr/>
            <p:nvPr/>
          </p:nvSpPr>
          <p:spPr>
            <a:xfrm>
              <a:off x="838080" y="5410080"/>
              <a:ext cx="1371600" cy="527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7" name="Text Box 117"/>
            <p:cNvSpPr/>
            <p:nvPr/>
          </p:nvSpPr>
          <p:spPr>
            <a:xfrm>
              <a:off x="2133720" y="55623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8" name="Text Box 118"/>
            <p:cNvSpPr/>
            <p:nvPr/>
          </p:nvSpPr>
          <p:spPr>
            <a:xfrm>
              <a:off x="1371600" y="586728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09" name="Group 120"/>
          <p:cNvGrpSpPr/>
          <p:nvPr/>
        </p:nvGrpSpPr>
        <p:grpSpPr>
          <a:xfrm>
            <a:off x="914400" y="4267080"/>
            <a:ext cx="1066680" cy="885960"/>
            <a:chOff x="914400" y="4267080"/>
            <a:chExt cx="1066680" cy="885960"/>
          </a:xfrm>
        </p:grpSpPr>
        <p:sp>
          <p:nvSpPr>
            <p:cNvPr id="110" name="Rectangle 72"/>
            <p:cNvSpPr/>
            <p:nvPr/>
          </p:nvSpPr>
          <p:spPr>
            <a:xfrm>
              <a:off x="914400" y="4267080"/>
              <a:ext cx="685800" cy="685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1" name="Text Box 115"/>
            <p:cNvSpPr/>
            <p:nvPr/>
          </p:nvSpPr>
          <p:spPr>
            <a:xfrm>
              <a:off x="1523880" y="44496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2" name="Text Box 119"/>
            <p:cNvSpPr/>
            <p:nvPr/>
          </p:nvSpPr>
          <p:spPr>
            <a:xfrm>
              <a:off x="1143000" y="48765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13" name="Group 124"/>
          <p:cNvGrpSpPr/>
          <p:nvPr/>
        </p:nvGrpSpPr>
        <p:grpSpPr>
          <a:xfrm>
            <a:off x="4572000" y="3048120"/>
            <a:ext cx="762120" cy="1027080"/>
            <a:chOff x="4572000" y="3048120"/>
            <a:chExt cx="762120" cy="1027080"/>
          </a:xfrm>
        </p:grpSpPr>
        <p:grpSp>
          <p:nvGrpSpPr>
            <p:cNvPr id="114" name="Group 94"/>
            <p:cNvGrpSpPr/>
            <p:nvPr/>
          </p:nvGrpSpPr>
          <p:grpSpPr>
            <a:xfrm>
              <a:off x="4572000" y="3048120"/>
              <a:ext cx="762120" cy="838080"/>
              <a:chOff x="4572000" y="3048120"/>
              <a:chExt cx="762120" cy="838080"/>
            </a:xfrm>
          </p:grpSpPr>
          <p:sp>
            <p:nvSpPr>
              <p:cNvPr id="115" name="AutoShape 90"/>
              <p:cNvSpPr/>
              <p:nvPr/>
            </p:nvSpPr>
            <p:spPr>
              <a:xfrm>
                <a:off x="4572000" y="3048120"/>
                <a:ext cx="762120" cy="838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16" name="Line 93"/>
              <p:cNvSpPr/>
              <p:nvPr/>
            </p:nvSpPr>
            <p:spPr>
              <a:xfrm>
                <a:off x="4953240" y="3068280"/>
                <a:ext cx="0" cy="817560"/>
              </a:xfrm>
              <a:prstGeom prst="line">
                <a:avLst/>
              </a:prstGeom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17" name="Text Box 122"/>
            <p:cNvSpPr/>
            <p:nvPr/>
          </p:nvSpPr>
          <p:spPr>
            <a:xfrm>
              <a:off x="4902120" y="34196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8" name="Text Box 123"/>
            <p:cNvSpPr/>
            <p:nvPr/>
          </p:nvSpPr>
          <p:spPr>
            <a:xfrm>
              <a:off x="4833000" y="3798720"/>
              <a:ext cx="24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19" name="Group 153"/>
          <p:cNvGrpSpPr/>
          <p:nvPr/>
        </p:nvGrpSpPr>
        <p:grpSpPr>
          <a:xfrm>
            <a:off x="4497840" y="4267080"/>
            <a:ext cx="1931040" cy="1297080"/>
            <a:chOff x="4497840" y="4267080"/>
            <a:chExt cx="1931040" cy="1297080"/>
          </a:xfrm>
        </p:grpSpPr>
        <p:grpSp>
          <p:nvGrpSpPr>
            <p:cNvPr id="120" name="Group 152"/>
            <p:cNvGrpSpPr/>
            <p:nvPr/>
          </p:nvGrpSpPr>
          <p:grpSpPr>
            <a:xfrm>
              <a:off x="4524120" y="4267080"/>
              <a:ext cx="1904760" cy="1297080"/>
              <a:chOff x="4524120" y="4267080"/>
              <a:chExt cx="1904760" cy="1297080"/>
            </a:xfrm>
          </p:grpSpPr>
          <p:grpSp>
            <p:nvGrpSpPr>
              <p:cNvPr id="121" name="Group 133"/>
              <p:cNvGrpSpPr/>
              <p:nvPr/>
            </p:nvGrpSpPr>
            <p:grpSpPr>
              <a:xfrm>
                <a:off x="4524120" y="4267080"/>
                <a:ext cx="1904760" cy="1066320"/>
                <a:chOff x="4524120" y="4267080"/>
                <a:chExt cx="1904760" cy="1066320"/>
              </a:xfrm>
            </p:grpSpPr>
            <p:sp>
              <p:nvSpPr>
                <p:cNvPr id="122" name="AutoShape 97"/>
                <p:cNvSpPr/>
                <p:nvPr/>
              </p:nvSpPr>
              <p:spPr>
                <a:xfrm>
                  <a:off x="4524120" y="4267080"/>
                  <a:ext cx="1904760" cy="1066320"/>
                </a:xfrm>
                <a:prstGeom prst="parallelogram">
                  <a:avLst>
                    <a:gd name="adj" fmla="val 44657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98"/>
                <p:cNvSpPr/>
                <p:nvPr/>
              </p:nvSpPr>
              <p:spPr>
                <a:xfrm flipV="1">
                  <a:off x="4524120" y="4267080"/>
                  <a:ext cx="1904760" cy="1051920"/>
                </a:xfrm>
                <a:prstGeom prst="line">
                  <a:avLst/>
                </a:prstGeom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99"/>
                <p:cNvSpPr/>
                <p:nvPr/>
              </p:nvSpPr>
              <p:spPr>
                <a:xfrm>
                  <a:off x="5013000" y="4267080"/>
                  <a:ext cx="926640" cy="1051920"/>
                </a:xfrm>
                <a:prstGeom prst="line">
                  <a:avLst/>
                </a:prstGeom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00"/>
                <p:cNvSpPr/>
                <p:nvPr/>
              </p:nvSpPr>
              <p:spPr>
                <a:xfrm>
                  <a:off x="5013000" y="4267080"/>
                  <a:ext cx="0" cy="1051920"/>
                </a:xfrm>
                <a:prstGeom prst="line">
                  <a:avLst/>
                </a:prstGeom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" name="Text Box 135"/>
              <p:cNvSpPr/>
              <p:nvPr/>
            </p:nvSpPr>
            <p:spPr>
              <a:xfrm>
                <a:off x="5190120" y="528768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264c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7" name="Text Box 136"/>
              <p:cNvSpPr/>
              <p:nvPr/>
            </p:nvSpPr>
            <p:spPr>
              <a:xfrm>
                <a:off x="5672160" y="4349520"/>
                <a:ext cx="301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264c"/>
                    </a:solidFill>
                    <a:latin typeface="Times New Roman"/>
                  </a:rPr>
                  <a:t>d</a:t>
                </a:r>
                <a:r>
                  <a:rPr b="0" lang="pl-PL" sz="1200" spc="-1" strike="noStrike" baseline="-25000">
                    <a:solidFill>
                      <a:srgbClr val="00264c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8" name="Text Box 138"/>
              <p:cNvSpPr/>
              <p:nvPr/>
            </p:nvSpPr>
            <p:spPr>
              <a:xfrm>
                <a:off x="6165720" y="46987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264c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9" name="Arc 140"/>
              <p:cNvSpPr/>
              <p:nvPr/>
            </p:nvSpPr>
            <p:spPr>
              <a:xfrm>
                <a:off x="4600440" y="5181480"/>
                <a:ext cx="152280" cy="152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30" name="Arc 144"/>
              <p:cNvSpPr/>
              <p:nvPr/>
            </p:nvSpPr>
            <p:spPr>
              <a:xfrm flipV="1">
                <a:off x="5610240" y="4701240"/>
                <a:ext cx="152280" cy="265320"/>
              </a:xfrm>
              <a:custGeom>
                <a:avLst/>
                <a:gdLst/>
                <a:ahLst/>
                <a:rect l="l" t="t" r="r" b="b"/>
                <a:pathLst>
                  <a:path fill="none" w="21600" h="42445">
                    <a:moveTo>
                      <a:pt x="3529" y="0"/>
                    </a:moveTo>
                    <a:cubicBezTo>
                      <a:pt x="13954" y="1727"/>
                      <a:pt x="21600" y="10742"/>
                      <a:pt x="21600" y="21310"/>
                    </a:cubicBezTo>
                    <a:cubicBezTo>
                      <a:pt x="21600" y="31521"/>
                      <a:pt x="14448" y="-25198"/>
                      <a:pt x="4456" y="-23091"/>
                    </a:cubicBezTo>
                  </a:path>
                  <a:path stroke="0" w="21600" h="42445">
                    <a:moveTo>
                      <a:pt x="3529" y="0"/>
                    </a:moveTo>
                    <a:cubicBezTo>
                      <a:pt x="13954" y="1727"/>
                      <a:pt x="21600" y="10742"/>
                      <a:pt x="21600" y="21310"/>
                    </a:cubicBezTo>
                    <a:cubicBezTo>
                      <a:pt x="21600" y="31521"/>
                      <a:pt x="14448" y="-25198"/>
                      <a:pt x="4456" y="-23091"/>
                    </a:cubicBezTo>
                    <a:lnTo>
                      <a:pt x="0" y="21310"/>
                    </a:lnTo>
                    <a:lnTo>
                      <a:pt x="3529" y="0"/>
                    </a:lnTo>
                    <a:close/>
                  </a:path>
                </a:pathLst>
              </a:cu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31" name="Text Box 150"/>
            <p:cNvSpPr/>
            <p:nvPr/>
          </p:nvSpPr>
          <p:spPr>
            <a:xfrm>
              <a:off x="4497840" y="5089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α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2" name="Text Box 151"/>
            <p:cNvSpPr/>
            <p:nvPr/>
          </p:nvSpPr>
          <p:spPr>
            <a:xfrm>
              <a:off x="5497200" y="46418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φ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3" name="Text Box 134"/>
            <p:cNvSpPr/>
            <p:nvPr/>
          </p:nvSpPr>
          <p:spPr>
            <a:xfrm>
              <a:off x="4962240" y="46339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4" name="Text Box 137"/>
            <p:cNvSpPr/>
            <p:nvPr/>
          </p:nvSpPr>
          <p:spPr>
            <a:xfrm>
              <a:off x="5656320" y="4862520"/>
              <a:ext cx="301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d</a:t>
              </a:r>
              <a:r>
                <a:rPr b="0" lang="pl-PL" sz="1200" spc="-1" strike="noStrike" baseline="-25000">
                  <a:solidFill>
                    <a:srgbClr val="00264c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p:transition spd="med" advTm="20000">
    <p:fade thruBlk="true"/>
    <p:sndAc>
      <p:stSnd>
        <p:snd r:embed="rId6" name="chimes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36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Wzory skróconego mnożeni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wadrat sum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wadrat różnic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óżnica kwadrató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ześcian sum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ześcian różnic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uma sześcianó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óżnica sześcianó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419360" y="1904760"/>
            <a:ext cx="472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+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2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–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 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2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(a – b)(a + b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+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3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b + 3a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–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3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b+3a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(a + b)(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(a – b)(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9" name="chimes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Wielościany forem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16000" y="1052640"/>
          <a:ext cx="7561440" cy="5761080"/>
        </p:xfrm>
        <a:graphic>
          <a:graphicData uri="http://schemas.openxmlformats.org/drawingml/2006/table">
            <a:tbl>
              <a:tblPr/>
              <a:tblGrid>
                <a:gridCol w="1890720"/>
                <a:gridCol w="2000160"/>
                <a:gridCol w="1779840"/>
                <a:gridCol w="1890720"/>
              </a:tblGrid>
              <a:tr h="122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ielościan foremny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krawędzi a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atka wielościanu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 promień kuli o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 promień kuli w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–  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omień kuli stycznej do krawędzi wielościanu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 pole powierzchni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 –  objętość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46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zworościan (tetr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 trójkąty równoboczn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15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ześcian (heks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 kwadraty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śmiościan (okto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trójkąty równoboczn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Object 68"/>
          <p:cNvGraphicFramePr/>
          <p:nvPr/>
        </p:nvGraphicFramePr>
        <p:xfrm>
          <a:off x="1619280" y="5300640"/>
          <a:ext cx="1082520" cy="96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6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5300640"/>
                    <a:ext cx="10825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73"/>
          <p:cNvGraphicFramePr/>
          <p:nvPr/>
        </p:nvGraphicFramePr>
        <p:xfrm>
          <a:off x="3276720" y="5229360"/>
          <a:ext cx="1368360" cy="90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" name="Object 7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5229360"/>
                    <a:ext cx="13683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4" name="Object 104"/>
              <p:cNvSpPr txBox="1"/>
              <p:nvPr/>
            </p:nvSpPr>
            <p:spPr>
              <a:xfrm>
                <a:off x="5580000" y="5300640"/>
                <a:ext cx="78264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5" name="Object 56"/>
          <p:cNvGraphicFramePr/>
          <p:nvPr/>
        </p:nvGraphicFramePr>
        <p:xfrm>
          <a:off x="1547640" y="2421000"/>
          <a:ext cx="1224000" cy="938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6" name="Object 5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2421000"/>
                    <a:ext cx="122400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71"/>
          <p:cNvGraphicFramePr/>
          <p:nvPr/>
        </p:nvGraphicFramePr>
        <p:xfrm>
          <a:off x="3276720" y="2349360"/>
          <a:ext cx="1242720" cy="9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8" name="Object 7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76720" y="2349360"/>
                    <a:ext cx="124272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9" name="Object 102"/>
              <p:cNvSpPr txBox="1"/>
              <p:nvPr/>
            </p:nvSpPr>
            <p:spPr>
              <a:xfrm>
                <a:off x="5435640" y="2349360"/>
                <a:ext cx="87948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05"/>
              <p:cNvSpPr txBox="1"/>
              <p:nvPr/>
            </p:nvSpPr>
            <p:spPr>
              <a:xfrm>
                <a:off x="7308720" y="2492280"/>
                <a:ext cx="9050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51" name="Object 62"/>
          <p:cNvGraphicFramePr/>
          <p:nvPr/>
        </p:nvGraphicFramePr>
        <p:xfrm>
          <a:off x="1692360" y="3933720"/>
          <a:ext cx="718920" cy="719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2" name="Object 6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92360" y="3933720"/>
                    <a:ext cx="718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72"/>
          <p:cNvGraphicFramePr/>
          <p:nvPr/>
        </p:nvGraphicFramePr>
        <p:xfrm>
          <a:off x="3348000" y="3860640"/>
          <a:ext cx="1224000" cy="811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4" name="Object 7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348000" y="3860640"/>
                    <a:ext cx="12240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5" name="Object 103"/>
              <p:cNvSpPr txBox="1"/>
              <p:nvPr/>
            </p:nvSpPr>
            <p:spPr>
              <a:xfrm>
                <a:off x="5508720" y="3789360"/>
                <a:ext cx="7347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06"/>
              <p:cNvSpPr txBox="1"/>
              <p:nvPr/>
            </p:nvSpPr>
            <p:spPr>
              <a:xfrm>
                <a:off x="7308720" y="4005360"/>
                <a:ext cx="7956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07"/>
              <p:cNvSpPr txBox="1"/>
              <p:nvPr/>
            </p:nvSpPr>
            <p:spPr>
              <a:xfrm>
                <a:off x="7164360" y="5516640"/>
                <a:ext cx="10288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 advTm="20000">
    <p:fade thruBlk="true"/>
    <p:sndAc>
      <p:stSnd>
        <p:snd r:embed="rId14" name="chimes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Wielościany forem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905120"/>
          <a:ext cx="7989840" cy="4574880"/>
        </p:xfrm>
        <a:graphic>
          <a:graphicData uri="http://schemas.openxmlformats.org/drawingml/2006/table">
            <a:tbl>
              <a:tblPr/>
              <a:tblGrid>
                <a:gridCol w="1996920"/>
                <a:gridCol w="2146320"/>
                <a:gridCol w="1849680"/>
                <a:gridCol w="1996920"/>
              </a:tblGrid>
              <a:tr h="12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ielościan foremny o krawędzi a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atka wielościanu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promień kuli o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promień kuli w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omień kuli stycznej do krawędzi wielościanu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pole powierzchni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 – objętość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439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wunastościan (dodek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 pięciokąty foremne</a:t>
                      </a:r>
                      <a:endParaRPr b="0" lang="en-US" sz="13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8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wudziestościan (ikos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trójkąty równoboczn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Object 47"/>
          <p:cNvGraphicFramePr/>
          <p:nvPr/>
        </p:nvGraphicFramePr>
        <p:xfrm>
          <a:off x="1116000" y="3213000"/>
          <a:ext cx="1081080" cy="92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Object 4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3213000"/>
                    <a:ext cx="10810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49"/>
          <p:cNvGraphicFramePr/>
          <p:nvPr/>
        </p:nvGraphicFramePr>
        <p:xfrm>
          <a:off x="2771640" y="3357720"/>
          <a:ext cx="1818000" cy="97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3" name="Object 4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71640" y="3357720"/>
                    <a:ext cx="18180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Object 82"/>
              <p:cNvSpPr txBox="1"/>
              <p:nvPr/>
            </p:nvSpPr>
            <p:spPr>
              <a:xfrm>
                <a:off x="5003640" y="3244680"/>
                <a:ext cx="152424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e>
                        </m:ra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83"/>
              <p:cNvSpPr txBox="1"/>
              <p:nvPr/>
            </p:nvSpPr>
            <p:spPr>
              <a:xfrm>
                <a:off x="6732720" y="3357720"/>
                <a:ext cx="18795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66" name="Object 48"/>
          <p:cNvGraphicFramePr/>
          <p:nvPr/>
        </p:nvGraphicFramePr>
        <p:xfrm>
          <a:off x="900000" y="4797360"/>
          <a:ext cx="1332000" cy="114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7" name="Object 4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4797360"/>
                    <a:ext cx="133200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50"/>
          <p:cNvGraphicFramePr/>
          <p:nvPr/>
        </p:nvGraphicFramePr>
        <p:xfrm>
          <a:off x="2771640" y="4869000"/>
          <a:ext cx="1855800" cy="946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9" name="Object 5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71640" y="4869000"/>
                    <a:ext cx="18558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0" name="Object 85"/>
              <p:cNvSpPr txBox="1"/>
              <p:nvPr/>
            </p:nvSpPr>
            <p:spPr>
              <a:xfrm>
                <a:off x="5003640" y="4724280"/>
                <a:ext cx="150840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6"/>
              <p:cNvSpPr txBox="1"/>
              <p:nvPr/>
            </p:nvSpPr>
            <p:spPr>
              <a:xfrm>
                <a:off x="6804000" y="4869000"/>
                <a:ext cx="17287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 advTm="20000">
    <p:fade thruBlk="true"/>
    <p:sndAc>
      <p:stSnd>
        <p:snd r:embed="rId10" name="chimes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Graniastosłup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Graniastosłup prosty to graniastosłup, w którym krawędzie boczne są prostopadłe do podstaw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Graniastosłup prawidłowy to graniastosłup prosty, którego podstawy są wielokątami foremny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Graniastosłup pochyły to graniastosłup, w którym krawędzie boczne nie są prostopadłe do podstaw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Prostopadłościan to graniastosłup, którego wszystkie ściany są prostokąta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Sześcian to prostopadłościan, którego wszystkie krawędzie mają jednakową długość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Równoległościan to graniastosłup, którego wszystkie ściany są równoległoboka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2" name="chimes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Bryły obrotow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172200" y="1905120"/>
            <a:ext cx="2362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352680" y="1905120"/>
            <a:ext cx="2590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77" name="Object 11"/>
          <p:cNvGraphicFramePr/>
          <p:nvPr/>
        </p:nvGraphicFramePr>
        <p:xfrm>
          <a:off x="5508720" y="3141720"/>
          <a:ext cx="1744560" cy="27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3141720"/>
                    <a:ext cx="174456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14"/>
          <p:cNvSpPr/>
          <p:nvPr/>
        </p:nvSpPr>
        <p:spPr>
          <a:xfrm>
            <a:off x="685800" y="1905120"/>
            <a:ext cx="7918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ale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bryła obrotowa powstała przez obrót prostokąta dookoła prostej zawierającej jeden z boków prostokąt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wysokość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romień podsta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le podsta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le powierzchni bocznej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objętoś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6"/>
              <p:cNvSpPr txBox="1"/>
              <p:nvPr/>
            </p:nvSpPr>
            <p:spPr>
              <a:xfrm>
                <a:off x="2463840" y="5181480"/>
                <a:ext cx="12542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rh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Text Box 17"/>
          <p:cNvSpPr/>
          <p:nvPr/>
        </p:nvSpPr>
        <p:spPr>
          <a:xfrm>
            <a:off x="4114800" y="55627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Bryły obrotow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91856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5651640" y="2781360"/>
          <a:ext cx="1930320" cy="30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781360"/>
                    <a:ext cx="193032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1763640" y="4437000"/>
                <a:ext cx="15112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πr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Rectangle 7"/>
          <p:cNvSpPr/>
          <p:nvPr/>
        </p:nvSpPr>
        <p:spPr>
          <a:xfrm>
            <a:off x="468360" y="1844640"/>
            <a:ext cx="79185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toże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bryła obrotowa powstała przez obrót trójkąta prostokątnego dookoła prostej zawierającej jedn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przyprostokątnych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 wysokoś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 tworząc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 promień podsta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7T18:15:46Z</dcterms:created>
  <dc:creator/>
  <dc:description/>
  <dc:language>en-US</dc:language>
  <cp:lastModifiedBy>MK</cp:lastModifiedBy>
  <dcterms:modified xsi:type="dcterms:W3CDTF">2012-03-18T16:39:35Z</dcterms:modified>
  <cp:revision>77</cp:revision>
  <dc:subject/>
  <dc:title>Matematyka</dc:title>
</cp:coreProperties>
</file>