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B70-614B-4DC5-861B-4AA1D673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BB7-1CE6-4108-80EC-125EEE8E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A2A-C901-4463-BD33-7BD07AEF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0AB-B06D-4F4A-8202-16FA8179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A40-E268-4FAF-B06A-4E265410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8F2-3456-4763-A699-B8A9AE05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889-D02E-42E9-852E-80577EEF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D3A-2A4B-46BA-88FB-7B9E4AB7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5D42-7653-45D7-B5D6-162DB632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CEF-DCE4-49C9-B2DA-0B69B2D2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D52-6B4C-4783-9184-161CE6BA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759-ADD4-475E-B7D3-B585615C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5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38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7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1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DABD-367D-459E-98F0-A77656562C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ZAGADK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a firma produkuje komputery Ma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8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Group 25"/>
          <p:cNvGrpSpPr/>
          <p:nvPr/>
        </p:nvGrpSpPr>
        <p:grpSpPr>
          <a:xfrm>
            <a:off x="1447920" y="3352680"/>
            <a:ext cx="2164320" cy="533520"/>
            <a:chOff x="1447920" y="3352680"/>
            <a:chExt cx="2164320" cy="533520"/>
          </a:xfrm>
        </p:grpSpPr>
        <p:sp>
          <p:nvSpPr>
            <p:cNvPr id="111" name="Rectangle 10"/>
            <p:cNvSpPr/>
            <p:nvPr/>
          </p:nvSpPr>
          <p:spPr>
            <a:xfrm>
              <a:off x="1447920" y="3352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058480" y="3403440"/>
              <a:ext cx="15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1447920" y="4495680"/>
            <a:ext cx="2061360" cy="533520"/>
            <a:chOff x="1447920" y="4495680"/>
            <a:chExt cx="2061360" cy="533520"/>
          </a:xfrm>
        </p:grpSpPr>
        <p:sp>
          <p:nvSpPr>
            <p:cNvPr id="114" name="Rectangle 14"/>
            <p:cNvSpPr/>
            <p:nvPr/>
          </p:nvSpPr>
          <p:spPr>
            <a:xfrm>
              <a:off x="1447920" y="4495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2059200" y="454644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Symbi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27"/>
          <p:cNvGrpSpPr/>
          <p:nvPr/>
        </p:nvGrpSpPr>
        <p:grpSpPr>
          <a:xfrm>
            <a:off x="4724280" y="3352680"/>
            <a:ext cx="1638360" cy="533520"/>
            <a:chOff x="4724280" y="3352680"/>
            <a:chExt cx="1638360" cy="533520"/>
          </a:xfrm>
        </p:grpSpPr>
        <p:sp>
          <p:nvSpPr>
            <p:cNvPr id="117" name="Rectangle 17"/>
            <p:cNvSpPr/>
            <p:nvPr/>
          </p:nvSpPr>
          <p:spPr>
            <a:xfrm>
              <a:off x="4724280" y="3352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5335920" y="3403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App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28"/>
          <p:cNvGrpSpPr/>
          <p:nvPr/>
        </p:nvGrpSpPr>
        <p:grpSpPr>
          <a:xfrm>
            <a:off x="4724280" y="4495680"/>
            <a:ext cx="3079080" cy="533520"/>
            <a:chOff x="4724280" y="4495680"/>
            <a:chExt cx="3079080" cy="533520"/>
          </a:xfrm>
        </p:grpSpPr>
        <p:sp>
          <p:nvSpPr>
            <p:cNvPr id="120" name="Rectangle 20"/>
            <p:cNvSpPr/>
            <p:nvPr/>
          </p:nvSpPr>
          <p:spPr>
            <a:xfrm>
              <a:off x="4724280" y="4495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21"/>
            <p:cNvSpPr/>
            <p:nvPr/>
          </p:nvSpPr>
          <p:spPr>
            <a:xfrm>
              <a:off x="5336640" y="454644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Mac Compu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Rectangle 22"/>
          <p:cNvSpPr/>
          <p:nvPr/>
        </p:nvSpPr>
        <p:spPr>
          <a:xfrm>
            <a:off x="6172200" y="6095880"/>
            <a:ext cx="1676520" cy="30492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Zobacz podpowied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917280" y="6095880"/>
            <a:ext cx="32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Kliknij literę obok prawidłowej odpowiedz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9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6248520" y="533520"/>
            <a:ext cx="152388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934280" y="213372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estety, odpowiedź nie jest prawidłow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>
            <a:hlinkClick r:id="" action="ppaction://hlinkshowjump?jump=firstslide"/>
          </p:cNvPr>
          <p:cNvSpPr/>
          <p:nvPr/>
        </p:nvSpPr>
        <p:spPr>
          <a:xfrm>
            <a:off x="3200400" y="3505320"/>
            <a:ext cx="289548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Spróbuj ponowni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ie udało się! </a:t>
            </a:r>
            <a:r>
              <a:rPr b="0" lang="en-US" sz="4400" spc="-1" strike="noStrike">
                <a:solidFill>
                  <a:srgbClr val="ffcc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2309400" y="213372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zwa firmy pochodzi od nazwy owo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8">
            <a:hlinkClick r:id="" action="ppaction://hlinkshowjump?jump=firstslide"/>
          </p:cNvPr>
          <p:cNvSpPr/>
          <p:nvPr/>
        </p:nvSpPr>
        <p:spPr>
          <a:xfrm>
            <a:off x="3352680" y="3505320"/>
            <a:ext cx="289584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Powró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odpowied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RAWO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819520" y="1981080"/>
            <a:ext cx="3581280" cy="3581640"/>
          </a:xfrm>
          <a:prstGeom prst="smileyFace">
            <a:avLst>
              <a:gd name="adj" fmla="val 928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3:17:08Z</dcterms:created>
  <dc:creator/>
  <dc:description/>
  <dc:language>en-US</dc:language>
  <cp:lastModifiedBy>Halina Kubicka</cp:lastModifiedBy>
  <dcterms:modified xsi:type="dcterms:W3CDTF">2012-03-18T21:36:13Z</dcterms:modified>
  <cp:revision>7</cp:revision>
  <dc:subject/>
  <dc:title>ZAGADKA</dc:title>
</cp:coreProperties>
</file>