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1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3.png" ContentType="image/png"/>
  <Override PartName="/ppt/media/image9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F44-1AB2-48CE-B82C-29F1755B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956-00AD-4A66-866D-0C2039E7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BE2-AA63-4214-BFC5-1B600A66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9C6-8CC0-4A9A-9F0F-DB3B02BC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1BC1-0BC4-4213-AFAA-6EBE330D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3514-A884-4CC5-BDE9-7C2918FB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B7B8-A65C-4476-8907-D664DEFF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EEF0-B3AD-4791-9012-655691F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20C0-8FB6-4D8D-9377-7366E59A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A0AB-A9B6-4899-8FA5-5FFA3B4F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4FDA-DA91-40A7-8515-1C3499D3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799-5F67-48A1-AA94-E17A291C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A764-D41A-4847-AFB3-C4211A3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2A32-1316-406C-9977-AAE5469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4A63-06A1-45A5-A0EF-2ED417B9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3E3A-2494-4170-BAE3-319334D8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5E01-04C2-4698-ACFD-CA82B4F9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4DA-8018-4049-A177-2885D5D6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479-250F-4665-920C-5C37520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066-0A69-4E78-B960-6AF4CA7C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93D-5F4A-443C-BEA4-258D3BA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4FB-F71F-4A02-A839-2A71D1BF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873-2812-4B28-B50A-9B892A0B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8B9-4C88-4BB0-8FC7-C3DD4E5D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7C2B-FE65-4F43-AF88-293F738FCB85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1246-2F32-41A5-AF77-79AF3C1DC203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S00559_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atma"/>
          <p:cNvPicPr/>
          <p:nvPr/>
        </p:nvPicPr>
        <p:blipFill>
          <a:blip r:embed="rId2"/>
          <a:stretch/>
        </p:blipFill>
        <p:spPr>
          <a:xfrm>
            <a:off x="1981080" y="1600200"/>
            <a:ext cx="49532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1905120" y="4495680"/>
                <a:ext cx="1382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l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bryła obrotowa powstała przez obrót półkola dookoła prostej, w której zawarta jest średnica tego półk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środ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5364000" y="2997360"/>
            <a:ext cx="2524320" cy="2869920"/>
            <a:chOff x="5364000" y="2997360"/>
            <a:chExt cx="2524320" cy="2869920"/>
          </a:xfrm>
        </p:grpSpPr>
        <p:graphicFrame>
          <p:nvGraphicFramePr>
            <p:cNvPr id="193" name="Object 6"/>
            <p:cNvGraphicFramePr/>
            <p:nvPr/>
          </p:nvGraphicFramePr>
          <p:xfrm>
            <a:off x="5364000" y="2997360"/>
            <a:ext cx="2524320" cy="286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64000" y="2997360"/>
                      <a:ext cx="25243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11"/>
            <p:cNvSpPr/>
            <p:nvPr/>
          </p:nvSpPr>
          <p:spPr>
            <a:xfrm>
              <a:off x="5486400" y="4343400"/>
              <a:ext cx="18432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0199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Ką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dzaje kątów płaskich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pełny, półpełny, prosty, zer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ypukły, wklęsły, ostry, rozwar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wierzchołkowe, przyległ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naprzemianległe, jednostronne, odpowiadają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51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ąty w okręg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środk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do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Picture 5" descr="BS01580_"/>
          <p:cNvPicPr/>
          <p:nvPr/>
        </p:nvPicPr>
        <p:blipFill>
          <a:blip r:embed="rId4"/>
          <a:stretch/>
        </p:blipFill>
        <p:spPr>
          <a:xfrm>
            <a:off x="5638680" y="38862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5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ałania matematycz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752480"/>
          <a:ext cx="7924680" cy="4592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350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ał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apis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finicje i własności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da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b + 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+ b) + c = a + (b + 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 – element neutralny dodawa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dejmo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a + (–b) – odejmowanie jest działaniem odwrotnym do dodawani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noż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 = 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)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=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– element neutralny mnoże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el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: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jeżeli b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, to a:b = c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a = b </a:t>
                      </a: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dzielenie jest działaniem  odwrotnym do mnożeni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fade thruBlk="true"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Cechy podzielności licz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Liczba naturalna jest podzielna przez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jej ostatnią cyfrą jest 0, 2, 4, 6 albo 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suma jej cyfr dzieli się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liczba, wyrażona dwiema ostatnimi jej cyframi,     dzieli się przez 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jej ostatnią cyfrą jest 0 albo 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dzieli się przez 2 i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9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suma jej cyfr dzieli się przez 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10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ostatnią jej cyfrą jest 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5" name="Picture 6" descr="PE01549_"/>
          <p:cNvPicPr/>
          <p:nvPr/>
        </p:nvPicPr>
        <p:blipFill>
          <a:blip r:embed="rId2"/>
          <a:stretch/>
        </p:blipFill>
        <p:spPr>
          <a:xfrm>
            <a:off x="6629400" y="4038480"/>
            <a:ext cx="1481040" cy="202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3" name="chimes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4">
            <a:hlinkClick r:id="" action="ppaction://hlinkshowjump?jump=firstslide"/>
          </p:cNvPr>
          <p:cNvSpPr/>
          <p:nvPr/>
        </p:nvSpPr>
        <p:spPr>
          <a:xfrm>
            <a:off x="395280" y="2997360"/>
            <a:ext cx="1916280" cy="865080"/>
          </a:xfrm>
          <a:prstGeom prst="bevel">
            <a:avLst>
              <a:gd name="adj" fmla="val 12500"/>
            </a:avLst>
          </a:prstGeom>
          <a:solidFill>
            <a:srgbClr val="c1b0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922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ękuję za obejrzenie prezentacj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Magdalena Judek – LO Kości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3276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obacz prezentację jeszcze r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endshow"/>
          </p:cNvPr>
          <p:cNvSpPr/>
          <p:nvPr/>
        </p:nvSpPr>
        <p:spPr>
          <a:xfrm>
            <a:off x="1143000" y="4724280"/>
            <a:ext cx="1916280" cy="865440"/>
          </a:xfrm>
          <a:prstGeom prst="bevel">
            <a:avLst>
              <a:gd name="adj" fmla="val 12500"/>
            </a:avLst>
          </a:prstGeom>
          <a:solidFill>
            <a:srgbClr val="f0c6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812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akończ pok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2" name="Picture 12" descr="1806"/>
          <p:cNvPicPr/>
          <p:nvPr/>
        </p:nvPicPr>
        <p:blipFill>
          <a:blip r:embed="rId2"/>
          <a:stretch/>
        </p:blipFill>
        <p:spPr>
          <a:xfrm>
            <a:off x="1042920" y="31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0286034"/>
          <p:cNvPicPr/>
          <p:nvPr/>
        </p:nvPicPr>
        <p:blipFill>
          <a:blip r:embed="rId3"/>
          <a:stretch/>
        </p:blipFill>
        <p:spPr>
          <a:xfrm>
            <a:off x="1835280" y="4869000"/>
            <a:ext cx="576000" cy="555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212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3120"/>
                            </p:stCondLst>
                            <p:childTnLst>
                              <p:par>
                                <p:cTn id="52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3620"/>
                            </p:stCondLst>
                            <p:childTnLst>
                              <p:par>
                                <p:cTn id="5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Spis treśc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Algebr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Zbiory liczb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Funkcj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wnan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Geomet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oło, okrą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kąt, kwadr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Trójką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mb, równoległobo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padło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Ostrosł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Picture 5" descr="BS00554_"/>
          <p:cNvPicPr/>
          <p:nvPr/>
        </p:nvPicPr>
        <p:blipFill>
          <a:blip r:embed="rId3"/>
          <a:stretch/>
        </p:blipFill>
        <p:spPr>
          <a:xfrm>
            <a:off x="2666880" y="4114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Pomocne wzory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772400" cy="4565520"/>
        </p:xfrm>
        <a:graphic>
          <a:graphicData uri="http://schemas.openxmlformats.org/drawingml/2006/table">
            <a:tbl>
              <a:tblPr/>
              <a:tblGrid>
                <a:gridCol w="1943280"/>
                <a:gridCol w="1790640"/>
                <a:gridCol w="2057400"/>
                <a:gridCol w="1981080"/>
              </a:tblGrid>
              <a:tr h="109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oł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 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, c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ój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a+b+c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o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wadra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4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 przekątn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ównoległobok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6401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sto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a+2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0" name="Group 113"/>
          <p:cNvGrpSpPr/>
          <p:nvPr/>
        </p:nvGrpSpPr>
        <p:grpSpPr>
          <a:xfrm>
            <a:off x="914400" y="3048120"/>
            <a:ext cx="914400" cy="838080"/>
            <a:chOff x="914400" y="3048120"/>
            <a:chExt cx="914400" cy="838080"/>
          </a:xfrm>
        </p:grpSpPr>
        <p:grpSp>
          <p:nvGrpSpPr>
            <p:cNvPr id="101" name="Group 89"/>
            <p:cNvGrpSpPr/>
            <p:nvPr/>
          </p:nvGrpSpPr>
          <p:grpSpPr>
            <a:xfrm>
              <a:off x="914400" y="3048120"/>
              <a:ext cx="838080" cy="838080"/>
              <a:chOff x="914400" y="3048120"/>
              <a:chExt cx="838080" cy="838080"/>
            </a:xfrm>
          </p:grpSpPr>
          <p:sp>
            <p:nvSpPr>
              <p:cNvPr id="102" name="Oval 67"/>
              <p:cNvSpPr/>
              <p:nvPr/>
            </p:nvSpPr>
            <p:spPr>
              <a:xfrm>
                <a:off x="914400" y="3048120"/>
                <a:ext cx="838080" cy="83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1312920" y="3467160"/>
                <a:ext cx="439560" cy="0"/>
              </a:xfrm>
              <a:prstGeom prst="line">
                <a:avLst/>
              </a:prstGeom>
              <a:ln w="1260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1"/>
            <p:cNvSpPr/>
            <p:nvPr/>
          </p:nvSpPr>
          <p:spPr>
            <a:xfrm>
              <a:off x="1371600" y="3276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5" name="Group 121"/>
          <p:cNvGrpSpPr/>
          <p:nvPr/>
        </p:nvGrpSpPr>
        <p:grpSpPr>
          <a:xfrm>
            <a:off x="838080" y="5410080"/>
            <a:ext cx="1752840" cy="733680"/>
            <a:chOff x="838080" y="5410080"/>
            <a:chExt cx="1752840" cy="733680"/>
          </a:xfrm>
        </p:grpSpPr>
        <p:sp>
          <p:nvSpPr>
            <p:cNvPr id="106" name="Rectangle 80"/>
            <p:cNvSpPr/>
            <p:nvPr/>
          </p:nvSpPr>
          <p:spPr>
            <a:xfrm>
              <a:off x="838080" y="5410080"/>
              <a:ext cx="1371600" cy="527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Text Box 117"/>
            <p:cNvSpPr/>
            <p:nvPr/>
          </p:nvSpPr>
          <p:spPr>
            <a:xfrm>
              <a:off x="2133720" y="5562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Text Box 118"/>
            <p:cNvSpPr/>
            <p:nvPr/>
          </p:nvSpPr>
          <p:spPr>
            <a:xfrm>
              <a:off x="1371600" y="5867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9" name="Group 120"/>
          <p:cNvGrpSpPr/>
          <p:nvPr/>
        </p:nvGrpSpPr>
        <p:grpSpPr>
          <a:xfrm>
            <a:off x="914400" y="4267080"/>
            <a:ext cx="1066680" cy="885960"/>
            <a:chOff x="914400" y="4267080"/>
            <a:chExt cx="1066680" cy="885960"/>
          </a:xfrm>
        </p:grpSpPr>
        <p:sp>
          <p:nvSpPr>
            <p:cNvPr id="110" name="Rectangle 72"/>
            <p:cNvSpPr/>
            <p:nvPr/>
          </p:nvSpPr>
          <p:spPr>
            <a:xfrm>
              <a:off x="914400" y="4267080"/>
              <a:ext cx="685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Text Box 115"/>
            <p:cNvSpPr/>
            <p:nvPr/>
          </p:nvSpPr>
          <p:spPr>
            <a:xfrm>
              <a:off x="1523880" y="4449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Text Box 119"/>
            <p:cNvSpPr/>
            <p:nvPr/>
          </p:nvSpPr>
          <p:spPr>
            <a:xfrm>
              <a:off x="1143000" y="4876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3" name="Group 124"/>
          <p:cNvGrpSpPr/>
          <p:nvPr/>
        </p:nvGrpSpPr>
        <p:grpSpPr>
          <a:xfrm>
            <a:off x="4572000" y="3048120"/>
            <a:ext cx="762120" cy="1027080"/>
            <a:chOff x="4572000" y="3048120"/>
            <a:chExt cx="762120" cy="1027080"/>
          </a:xfrm>
        </p:grpSpPr>
        <p:grpSp>
          <p:nvGrpSpPr>
            <p:cNvPr id="114" name="Group 94"/>
            <p:cNvGrpSpPr/>
            <p:nvPr/>
          </p:nvGrpSpPr>
          <p:grpSpPr>
            <a:xfrm>
              <a:off x="4572000" y="3048120"/>
              <a:ext cx="762120" cy="838080"/>
              <a:chOff x="4572000" y="3048120"/>
              <a:chExt cx="762120" cy="838080"/>
            </a:xfrm>
          </p:grpSpPr>
          <p:sp>
            <p:nvSpPr>
              <p:cNvPr id="115" name="AutoShape 90"/>
              <p:cNvSpPr/>
              <p:nvPr/>
            </p:nvSpPr>
            <p:spPr>
              <a:xfrm>
                <a:off x="4572000" y="3048120"/>
                <a:ext cx="762120" cy="838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6" name="Line 93"/>
              <p:cNvSpPr/>
              <p:nvPr/>
            </p:nvSpPr>
            <p:spPr>
              <a:xfrm>
                <a:off x="4953240" y="3068280"/>
                <a:ext cx="0" cy="81756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122"/>
            <p:cNvSpPr/>
            <p:nvPr/>
          </p:nvSpPr>
          <p:spPr>
            <a:xfrm>
              <a:off x="4902120" y="3419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Text Box 123"/>
            <p:cNvSpPr/>
            <p:nvPr/>
          </p:nvSpPr>
          <p:spPr>
            <a:xfrm>
              <a:off x="4833000" y="379872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9" name="Group 153"/>
          <p:cNvGrpSpPr/>
          <p:nvPr/>
        </p:nvGrpSpPr>
        <p:grpSpPr>
          <a:xfrm>
            <a:off x="4497840" y="4267080"/>
            <a:ext cx="1931040" cy="1297080"/>
            <a:chOff x="4497840" y="4267080"/>
            <a:chExt cx="1931040" cy="1297080"/>
          </a:xfrm>
        </p:grpSpPr>
        <p:grpSp>
          <p:nvGrpSpPr>
            <p:cNvPr id="120" name="Group 152"/>
            <p:cNvGrpSpPr/>
            <p:nvPr/>
          </p:nvGrpSpPr>
          <p:grpSpPr>
            <a:xfrm>
              <a:off x="4524120" y="4267080"/>
              <a:ext cx="1904760" cy="1297080"/>
              <a:chOff x="4524120" y="4267080"/>
              <a:chExt cx="1904760" cy="1297080"/>
            </a:xfrm>
          </p:grpSpPr>
          <p:grpSp>
            <p:nvGrpSpPr>
              <p:cNvPr id="121" name="Group 133"/>
              <p:cNvGrpSpPr/>
              <p:nvPr/>
            </p:nvGrpSpPr>
            <p:grpSpPr>
              <a:xfrm>
                <a:off x="4524120" y="4267080"/>
                <a:ext cx="1904760" cy="1066320"/>
                <a:chOff x="4524120" y="4267080"/>
                <a:chExt cx="1904760" cy="1066320"/>
              </a:xfrm>
            </p:grpSpPr>
            <p:sp>
              <p:nvSpPr>
                <p:cNvPr id="122" name="AutoShape 97"/>
                <p:cNvSpPr/>
                <p:nvPr/>
              </p:nvSpPr>
              <p:spPr>
                <a:xfrm>
                  <a:off x="4524120" y="4267080"/>
                  <a:ext cx="1904760" cy="1066320"/>
                </a:xfrm>
                <a:prstGeom prst="parallelogram">
                  <a:avLst>
                    <a:gd name="adj" fmla="val 44657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98"/>
                <p:cNvSpPr/>
                <p:nvPr/>
              </p:nvSpPr>
              <p:spPr>
                <a:xfrm flipV="1">
                  <a:off x="4524120" y="4267080"/>
                  <a:ext cx="190476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99"/>
                <p:cNvSpPr/>
                <p:nvPr/>
              </p:nvSpPr>
              <p:spPr>
                <a:xfrm>
                  <a:off x="5013000" y="4267080"/>
                  <a:ext cx="92664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00"/>
                <p:cNvSpPr/>
                <p:nvPr/>
              </p:nvSpPr>
              <p:spPr>
                <a:xfrm>
                  <a:off x="5013000" y="4267080"/>
                  <a:ext cx="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Text Box 135"/>
              <p:cNvSpPr/>
              <p:nvPr/>
            </p:nvSpPr>
            <p:spPr>
              <a:xfrm>
                <a:off x="5190120" y="52876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7" name="Text Box 136"/>
              <p:cNvSpPr/>
              <p:nvPr/>
            </p:nvSpPr>
            <p:spPr>
              <a:xfrm>
                <a:off x="5672160" y="4349520"/>
                <a:ext cx="3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d</a:t>
                </a:r>
                <a:r>
                  <a:rPr b="0" lang="pl-PL" sz="12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8" name="Text Box 138"/>
              <p:cNvSpPr/>
              <p:nvPr/>
            </p:nvSpPr>
            <p:spPr>
              <a:xfrm>
                <a:off x="6165720" y="46987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9" name="Arc 140"/>
              <p:cNvSpPr/>
              <p:nvPr/>
            </p:nvSpPr>
            <p:spPr>
              <a:xfrm>
                <a:off x="4600440" y="51814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30" name="Arc 144"/>
              <p:cNvSpPr/>
              <p:nvPr/>
            </p:nvSpPr>
            <p:spPr>
              <a:xfrm flipV="1">
                <a:off x="5610240" y="4701240"/>
                <a:ext cx="152280" cy="265320"/>
              </a:xfrm>
              <a:custGeom>
                <a:avLst/>
                <a:gdLst/>
                <a:ahLst/>
                <a:rect l="l" t="t" r="r" b="b"/>
                <a:pathLst>
                  <a:path fill="none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</a:path>
                  <a:path stroke="0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  <a:lnTo>
                      <a:pt x="0" y="21310"/>
                    </a:lnTo>
                    <a:lnTo>
                      <a:pt x="35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150"/>
            <p:cNvSpPr/>
            <p:nvPr/>
          </p:nvSpPr>
          <p:spPr>
            <a:xfrm>
              <a:off x="4497840" y="508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α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51"/>
            <p:cNvSpPr/>
            <p:nvPr/>
          </p:nvSpPr>
          <p:spPr>
            <a:xfrm>
              <a:off x="5497200" y="46418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φ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Text Box 134"/>
            <p:cNvSpPr/>
            <p:nvPr/>
          </p:nvSpPr>
          <p:spPr>
            <a:xfrm>
              <a:off x="4962240" y="4633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Text Box 137"/>
            <p:cNvSpPr/>
            <p:nvPr/>
          </p:nvSpPr>
          <p:spPr>
            <a:xfrm>
              <a:off x="5656320" y="486252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r>
                <a:rPr b="0" lang="pl-PL" sz="12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6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zory skróconego mnożen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kwadrat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um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193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 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 + b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 + 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+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+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1052640"/>
          <a:ext cx="7561440" cy="5761080"/>
        </p:xfrm>
        <a:graphic>
          <a:graphicData uri="http://schemas.openxmlformats.org/drawingml/2006/table">
            <a:tbl>
              <a:tblPr/>
              <a:tblGrid>
                <a:gridCol w="1890720"/>
                <a:gridCol w="2000160"/>
                <a:gridCol w="1779840"/>
                <a:gridCol w="189072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zworościan (tetr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ześcian (hek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kwadra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śmiościan (okto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Object 68"/>
          <p:cNvGraphicFramePr/>
          <p:nvPr/>
        </p:nvGraphicFramePr>
        <p:xfrm>
          <a:off x="1619280" y="5300640"/>
          <a:ext cx="10825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5300640"/>
                    <a:ext cx="1082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3"/>
          <p:cNvGraphicFramePr/>
          <p:nvPr/>
        </p:nvGraphicFramePr>
        <p:xfrm>
          <a:off x="3276720" y="5229360"/>
          <a:ext cx="13683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229360"/>
                    <a:ext cx="1368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104"/>
              <p:cNvSpPr txBox="1"/>
              <p:nvPr/>
            </p:nvSpPr>
            <p:spPr>
              <a:xfrm>
                <a:off x="5580000" y="5300640"/>
                <a:ext cx="7826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56"/>
          <p:cNvGraphicFramePr/>
          <p:nvPr/>
        </p:nvGraphicFramePr>
        <p:xfrm>
          <a:off x="1547640" y="2421000"/>
          <a:ext cx="1224000" cy="9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Object 5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421000"/>
                    <a:ext cx="122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1"/>
          <p:cNvGraphicFramePr/>
          <p:nvPr/>
        </p:nvGraphicFramePr>
        <p:xfrm>
          <a:off x="3276720" y="2349360"/>
          <a:ext cx="12427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Object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349360"/>
                    <a:ext cx="1242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102"/>
              <p:cNvSpPr txBox="1"/>
              <p:nvPr/>
            </p:nvSpPr>
            <p:spPr>
              <a:xfrm>
                <a:off x="5435640" y="2349360"/>
                <a:ext cx="8794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5"/>
              <p:cNvSpPr txBox="1"/>
              <p:nvPr/>
            </p:nvSpPr>
            <p:spPr>
              <a:xfrm>
                <a:off x="7308720" y="2492280"/>
                <a:ext cx="905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" name="Object 62"/>
          <p:cNvGraphicFramePr/>
          <p:nvPr/>
        </p:nvGraphicFramePr>
        <p:xfrm>
          <a:off x="1692360" y="3933720"/>
          <a:ext cx="7189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6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933720"/>
                    <a:ext cx="71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72"/>
          <p:cNvGraphicFramePr/>
          <p:nvPr/>
        </p:nvGraphicFramePr>
        <p:xfrm>
          <a:off x="3348000" y="3860640"/>
          <a:ext cx="122400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7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0640"/>
                    <a:ext cx="1224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103"/>
              <p:cNvSpPr txBox="1"/>
              <p:nvPr/>
            </p:nvSpPr>
            <p:spPr>
              <a:xfrm>
                <a:off x="5508720" y="3789360"/>
                <a:ext cx="73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6"/>
              <p:cNvSpPr txBox="1"/>
              <p:nvPr/>
            </p:nvSpPr>
            <p:spPr>
              <a:xfrm>
                <a:off x="7308720" y="4005360"/>
                <a:ext cx="795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7"/>
              <p:cNvSpPr txBox="1"/>
              <p:nvPr/>
            </p:nvSpPr>
            <p:spPr>
              <a:xfrm>
                <a:off x="7164360" y="5516640"/>
                <a:ext cx="102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05120"/>
          <a:ext cx="7989840" cy="4574880"/>
        </p:xfrm>
        <a:graphic>
          <a:graphicData uri="http://schemas.openxmlformats.org/drawingml/2006/table">
            <a:tbl>
              <a:tblPr/>
              <a:tblGrid>
                <a:gridCol w="1996920"/>
                <a:gridCol w="2146320"/>
                <a:gridCol w="1849680"/>
                <a:gridCol w="199692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nastościan (dodek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pięciokąty foremne</a:t>
                      </a:r>
                      <a:endParaRPr b="0" lang="en-US" sz="13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dziestościan (iko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47"/>
          <p:cNvGraphicFramePr/>
          <p:nvPr/>
        </p:nvGraphicFramePr>
        <p:xfrm>
          <a:off x="1116000" y="3213000"/>
          <a:ext cx="1081080" cy="9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13000"/>
                    <a:ext cx="1081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9"/>
          <p:cNvGraphicFramePr/>
          <p:nvPr/>
        </p:nvGraphicFramePr>
        <p:xfrm>
          <a:off x="2771640" y="3357720"/>
          <a:ext cx="181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3357720"/>
                    <a:ext cx="181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82"/>
              <p:cNvSpPr txBox="1"/>
              <p:nvPr/>
            </p:nvSpPr>
            <p:spPr>
              <a:xfrm>
                <a:off x="5003640" y="32446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3"/>
              <p:cNvSpPr txBox="1"/>
              <p:nvPr/>
            </p:nvSpPr>
            <p:spPr>
              <a:xfrm>
                <a:off x="6732720" y="335772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Object 48"/>
          <p:cNvGraphicFramePr/>
          <p:nvPr/>
        </p:nvGraphicFramePr>
        <p:xfrm>
          <a:off x="900000" y="4797360"/>
          <a:ext cx="133200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797360"/>
                    <a:ext cx="133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2771640" y="4869000"/>
          <a:ext cx="185580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4869000"/>
                    <a:ext cx="185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5003640" y="4724280"/>
                <a:ext cx="15084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6"/>
              <p:cNvSpPr txBox="1"/>
              <p:nvPr/>
            </p:nvSpPr>
            <p:spPr>
              <a:xfrm>
                <a:off x="6804000" y="4869000"/>
                <a:ext cx="17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0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Graniastosłup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osty to graniastosłup, w którym krawędzie boczn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awidłowy to graniastosłup prosty, którego podstawy są wielokątami foremny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ochyły to graniastosłup, w którym krawędzie boczne ni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Prostopadłościan to graniastosłup, którego wszystkie ściany są prostokąt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Sześcian to prostopadłościan, którego wszystkie krawędzie mają jednakową dług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Równoległościan to graniastosłup, którego wszystkie ściany są równoległobok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172200" y="1905120"/>
            <a:ext cx="2362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352680" y="1905120"/>
            <a:ext cx="2590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7" name="Object 11"/>
          <p:cNvGraphicFramePr/>
          <p:nvPr/>
        </p:nvGraphicFramePr>
        <p:xfrm>
          <a:off x="5508720" y="3141720"/>
          <a:ext cx="17445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141720"/>
                    <a:ext cx="17445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4"/>
          <p:cNvSpPr/>
          <p:nvPr/>
        </p:nvSpPr>
        <p:spPr>
          <a:xfrm>
            <a:off x="685800" y="190512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le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prostokąta dookoła prostej zawierającej jeden z boków prostoką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wysokość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 bocznej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2463840" y="5181480"/>
                <a:ext cx="12542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17"/>
          <p:cNvSpPr/>
          <p:nvPr/>
        </p:nvSpPr>
        <p:spPr>
          <a:xfrm>
            <a:off x="4114800" y="5562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651640" y="2781360"/>
          <a:ext cx="193032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19303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63640" y="4437000"/>
                <a:ext cx="15112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r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7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trójkąta prostokątnego dookoła prostej zawierającej jedn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przyprostokątny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wysok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 tworzą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8:15:46Z</dcterms:created>
  <dc:creator/>
  <dc:description/>
  <dc:language>en-US</dc:language>
  <cp:lastModifiedBy>MK</cp:lastModifiedBy>
  <dcterms:modified xsi:type="dcterms:W3CDTF">2012-03-18T16:39:35Z</dcterms:modified>
  <cp:revision>77</cp:revision>
  <dc:subject/>
  <dc:title>Matematyka</dc:title>
</cp:coreProperties>
</file>