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9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B54-6016-4DEF-AB0C-EA669367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AC2-362F-4749-BC70-30E7782B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087-1562-43FF-BB0C-27798708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974-3527-409F-9F8F-259881E2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43A5-C420-4DB0-830D-9CCAD30C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EEC9-FA16-4A96-98FC-1BA91F7D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F98E-A932-43FE-B30C-AB35D370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36D9-B341-4E6D-BB3F-1FD3F362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4AA6-1A5D-43A7-94CA-F457FE49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10A5-1E84-43DC-BABD-560770A3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CB97-E266-4897-AB1D-3B3AB328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417-6D8C-4E08-9A29-C385B7CE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D0F9-DF24-4DD5-BA85-0AFEF5F5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38B8-EA94-4982-BD6D-FA297C58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A137-A0DC-4D92-BF79-C8374E36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DB87-DF33-4D80-BD17-9316AA8C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BCF5-F56A-4926-9308-5F793A60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33F6D-5003-457D-909B-87EB3B66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44EA1-37E9-4608-9BFA-83BBDBF2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CCB58-2C46-4878-BE31-1C8BC25C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B1BD8-7085-460B-BC43-5622CEF8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EB936-7622-4D0F-88F6-12D65FA5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4EA-6089-48AF-AFEF-69823739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A181C-8E47-4556-93C8-A6B5C885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41F78-529A-4E80-93D5-1A162C39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FF44F-5081-48DE-A86C-F684D48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ED11-185B-4E82-9BA4-A8FA0D3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A2A40-386B-4953-B50B-300821E7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054A-17C6-486F-8E52-FCD4388A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79A5B-18CD-4340-A487-99BB48E2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C8F5E-EB67-46C0-B03C-F4BC6AC9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64F4A-593D-433D-9318-F2836FDB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E5AD1-849C-4F32-AD8C-E5CCC30B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948-BD8A-4A36-82BE-8826A1E1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CC9A5-296F-4DB7-A7AA-D7C2DEE7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1BB1D-DA00-494E-9B22-62ED06AA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1773A-034D-40C8-AF56-E3A40948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05AE6-EBFC-40DF-8AF9-467A3AF1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09530-B2FC-4CE0-8E81-20161C42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B322-B764-464E-B385-771B3F7E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60F78-093B-4D2E-BE33-E05DD159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923A-39C3-43F3-8B6F-E9442E75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2EC89-1AB2-4AE7-BFCD-8E2CCCDE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AD6DE-4467-4525-944B-3127C28B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D1C-8AD7-4971-A66A-C2221E50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0E2A6-FD3F-4283-8BCC-880D0B9B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13E77-3CDB-4F28-ABEA-75C61C31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B7A54-20C6-4114-9B43-FE3A738E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F7878-285F-4EB3-A7B0-B5CDD21C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4FA60-B05C-4974-AD12-CFA863F4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10EF3-81F7-40A8-83A6-70F70B5C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80A01-8008-49D3-9DA8-F69E4DC5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226FD-2EA2-4540-BBD3-5BE84D86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3F6EB-A7A6-4BB4-9958-C827BDAA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EAEE8-37DD-491D-92B6-4C7BBC0B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A0F-1813-401C-B58B-7F7EF237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7612C-4BE1-469D-BD3B-7464949C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9B0-C051-401B-8C0D-8536D8BC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815-938E-47FC-B01B-27892E21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4AA-F024-42E2-BAE1-656C03ED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7F1A-A35E-4247-9D0B-1E2C3A77F8D7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ostokąt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Prostokąt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Łącznik prosty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E853-5BE2-4896-9BB0-CD3E7D17A5C0}" type="slidenum">
              <a:rPr b="0" lang="pl-PL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6927-03CC-41C7-A741-328715656813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FD68-A82C-428D-A527-2BF67BA4C27B}" type="slidenum">
              <a:rPr b="0" lang="pl-PL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2DA4-CA21-447D-88D8-73021E703EF2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ytuł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rebuchet MS"/>
              </a:rPr>
              <a:t>Skuteczne przekazywanie informacj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ytuł 1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7381800" cy="1238400"/>
          </a:xfrm>
          <a:prstGeom prst="rect">
            <a:avLst/>
          </a:prstGeom>
          <a:ln w="0">
            <a:noFill/>
          </a:ln>
        </p:spPr>
      </p:pic>
      <p:pic>
        <p:nvPicPr>
          <p:cNvPr id="223" name="Symbol zastępczy zawartości 3" descr=""/>
          <p:cNvPicPr/>
          <p:nvPr/>
        </p:nvPicPr>
        <p:blipFill>
          <a:blip r:embed="rId2"/>
          <a:stretch/>
        </p:blipFill>
        <p:spPr>
          <a:xfrm>
            <a:off x="2414520" y="835200"/>
            <a:ext cx="5510160" cy="5773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MK\Ustawienia lokalne\Temporary Internet Files\Content.IE5\RNQRUGPE\MP900430530[1].jpg"/>
          <p:cNvPicPr/>
          <p:nvPr/>
        </p:nvPicPr>
        <p:blipFill>
          <a:blip r:embed="rId3"/>
          <a:stretch/>
        </p:blipFill>
        <p:spPr>
          <a:xfrm>
            <a:off x="422280" y="2762280"/>
            <a:ext cx="1765440" cy="1177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C:\Documents and Settings\MK\Ustawienia lokalne\Temporary Internet Files\Content.IE5\I715L005\MP900439397[1].jpg"/>
          <p:cNvPicPr/>
          <p:nvPr/>
        </p:nvPicPr>
        <p:blipFill>
          <a:blip r:embed="rId4"/>
          <a:stretch/>
        </p:blipFill>
        <p:spPr>
          <a:xfrm>
            <a:off x="433440" y="909720"/>
            <a:ext cx="1762200" cy="1176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Documents and Settings\MK\Ustawienia lokalne\Temporary Internet Files\Content.IE5\RNQRUGPE\MP900386353[1].jpg"/>
          <p:cNvPicPr/>
          <p:nvPr/>
        </p:nvPicPr>
        <p:blipFill>
          <a:blip r:embed="rId5"/>
          <a:stretch/>
        </p:blipFill>
        <p:spPr>
          <a:xfrm>
            <a:off x="468360" y="4581360"/>
            <a:ext cx="1763640" cy="1170000"/>
          </a:xfrm>
          <a:prstGeom prst="rect">
            <a:avLst/>
          </a:prstGeom>
          <a:ln w="0">
            <a:noFill/>
          </a:ln>
        </p:spPr>
      </p:pic>
      <p:sp>
        <p:nvSpPr>
          <p:cNvPr id="227" name="Prostokąt 8"/>
          <p:cNvSpPr/>
          <p:nvPr/>
        </p:nvSpPr>
        <p:spPr>
          <a:xfrm>
            <a:off x="395280" y="5805360"/>
            <a:ext cx="22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Do dzieła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9"/>
          <p:cNvSpPr/>
          <p:nvPr/>
        </p:nvSpPr>
        <p:spPr>
          <a:xfrm>
            <a:off x="324000" y="2133720"/>
            <a:ext cx="230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Planuje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10"/>
          <p:cNvSpPr/>
          <p:nvPr/>
        </p:nvSpPr>
        <p:spPr>
          <a:xfrm>
            <a:off x="431280" y="3959280"/>
            <a:ext cx="190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000000"/>
                </a:solidFill>
                <a:latin typeface="Trebuchet MS"/>
              </a:rPr>
              <a:t>Jeden obraz to tysiąc słó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31" name="Grupa 24"/>
          <p:cNvGrpSpPr/>
          <p:nvPr/>
        </p:nvGrpSpPr>
        <p:grpSpPr>
          <a:xfrm>
            <a:off x="468360" y="1413000"/>
            <a:ext cx="3166920" cy="2160360"/>
            <a:chOff x="468360" y="1413000"/>
            <a:chExt cx="3166920" cy="2160360"/>
          </a:xfrm>
        </p:grpSpPr>
        <p:sp>
          <p:nvSpPr>
            <p:cNvPr id="232" name="pole tekstowe 5"/>
            <p:cNvSpPr/>
            <p:nvPr/>
          </p:nvSpPr>
          <p:spPr>
            <a:xfrm>
              <a:off x="468360" y="1413000"/>
              <a:ext cx="3166920" cy="216036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Cel prezent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3" descr="C:\Documents and Settings\MK\Ustawienia lokalne\Temporary Internet Files\Content.IE5\3JSHBOGL\MP900431735[1].jpg"/>
            <p:cNvPicPr/>
            <p:nvPr/>
          </p:nvPicPr>
          <p:blipFill>
            <a:blip r:embed="rId2"/>
            <a:stretch/>
          </p:blipFill>
          <p:spPr>
            <a:xfrm>
              <a:off x="2339640" y="2205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" descr="C:\Documents and Settings\MK\Ustawienia lokalne\Temporary Internet Files\Content.IE5\AUXUKJDN\MP900386406[1].jpg"/>
            <p:cNvPicPr/>
            <p:nvPr/>
          </p:nvPicPr>
          <p:blipFill>
            <a:blip r:embed="rId3"/>
            <a:stretch/>
          </p:blipFill>
          <p:spPr>
            <a:xfrm>
              <a:off x="1260000" y="1869120"/>
              <a:ext cx="1197360" cy="11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" descr="C:\Documents and Settings\MK\Ustawienia lokalne\Temporary Internet Files\Content.IE5\RNQRUGPE\MP900400225[1].jpg"/>
            <p:cNvPicPr/>
            <p:nvPr/>
          </p:nvPicPr>
          <p:blipFill>
            <a:blip r:embed="rId4"/>
            <a:stretch/>
          </p:blipFill>
          <p:spPr>
            <a:xfrm>
              <a:off x="540000" y="2277000"/>
              <a:ext cx="978480" cy="122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Grupa 25"/>
          <p:cNvGrpSpPr/>
          <p:nvPr/>
        </p:nvGrpSpPr>
        <p:grpSpPr>
          <a:xfrm>
            <a:off x="468360" y="3860640"/>
            <a:ext cx="3166920" cy="2160720"/>
            <a:chOff x="468360" y="3860640"/>
            <a:chExt cx="3166920" cy="2160720"/>
          </a:xfrm>
        </p:grpSpPr>
        <p:sp>
          <p:nvSpPr>
            <p:cNvPr id="237" name="pole tekstowe 6"/>
            <p:cNvSpPr/>
            <p:nvPr/>
          </p:nvSpPr>
          <p:spPr>
            <a:xfrm>
              <a:off x="468360" y="3860640"/>
              <a:ext cx="3166920" cy="2160720"/>
            </a:xfrm>
            <a:prstGeom prst="rect">
              <a:avLst/>
            </a:prstGeom>
            <a:solidFill>
              <a:srgbClr val="dec2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rebuchet MS"/>
                </a:rPr>
                <a:t>Odbior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1" descr="C:\Documents and Settings\MK\Ustawienia lokalne\Temporary Internet Files\Content.IE5\I715L005\MP900422581[1].jpg"/>
            <p:cNvPicPr/>
            <p:nvPr/>
          </p:nvPicPr>
          <p:blipFill>
            <a:blip r:embed="rId5"/>
            <a:stretch/>
          </p:blipFill>
          <p:spPr>
            <a:xfrm>
              <a:off x="2052000" y="4220640"/>
              <a:ext cx="1563840" cy="12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2" descr="C:\Documents and Settings\MK\Ustawienia lokalne\Temporary Internet Files\Content.IE5\3JSHBOGL\MP900409652[1].jpg"/>
            <p:cNvPicPr/>
            <p:nvPr/>
          </p:nvPicPr>
          <p:blipFill>
            <a:blip r:embed="rId6"/>
            <a:stretch/>
          </p:blipFill>
          <p:spPr>
            <a:xfrm>
              <a:off x="1260000" y="4797000"/>
              <a:ext cx="122364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9" descr="C:\Documents and Settings\MK\Ustawienia lokalne\Temporary Internet Files\Content.IE5\AUXUKJDN\MP900439399[1].jpg"/>
            <p:cNvPicPr/>
            <p:nvPr/>
          </p:nvPicPr>
          <p:blipFill>
            <a:blip r:embed="rId7"/>
            <a:stretch/>
          </p:blipFill>
          <p:spPr>
            <a:xfrm>
              <a:off x="540000" y="4220640"/>
              <a:ext cx="935640" cy="140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Strzałka w prawo 18"/>
          <p:cNvSpPr/>
          <p:nvPr/>
        </p:nvSpPr>
        <p:spPr>
          <a:xfrm>
            <a:off x="3780000" y="4437000"/>
            <a:ext cx="1079280" cy="863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19"/>
          <p:cNvSpPr/>
          <p:nvPr/>
        </p:nvSpPr>
        <p:spPr>
          <a:xfrm>
            <a:off x="5148360" y="21286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ilość tekstu na slajd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20"/>
          <p:cNvSpPr/>
          <p:nvPr/>
        </p:nvSpPr>
        <p:spPr>
          <a:xfrm>
            <a:off x="5148360" y="1700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liczbę slajd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ole tekstowe 21"/>
          <p:cNvSpPr/>
          <p:nvPr/>
        </p:nvSpPr>
        <p:spPr>
          <a:xfrm>
            <a:off x="5076720" y="42861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łownic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ole tekstowe 23"/>
          <p:cNvSpPr/>
          <p:nvPr/>
        </p:nvSpPr>
        <p:spPr>
          <a:xfrm>
            <a:off x="5076720" y="47912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kres trudn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załka w prawo 26"/>
          <p:cNvSpPr/>
          <p:nvPr/>
        </p:nvSpPr>
        <p:spPr>
          <a:xfrm>
            <a:off x="3851280" y="2205000"/>
            <a:ext cx="1081080" cy="86364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rebuchet MS"/>
              </a:rPr>
              <a:t>Dostos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27"/>
          <p:cNvSpPr/>
          <p:nvPr/>
        </p:nvSpPr>
        <p:spPr>
          <a:xfrm>
            <a:off x="5076720" y="5373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grafik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28"/>
          <p:cNvSpPr/>
          <p:nvPr/>
        </p:nvSpPr>
        <p:spPr>
          <a:xfrm>
            <a:off x="5183280" y="26128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rodzaj i szybkość anim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32" descr="Obraz3.jpg"/>
          <p:cNvPicPr/>
          <p:nvPr/>
        </p:nvPicPr>
        <p:blipFill>
          <a:blip r:embed="rId8"/>
          <a:stretch/>
        </p:blipFill>
        <p:spPr>
          <a:xfrm>
            <a:off x="8151840" y="68400"/>
            <a:ext cx="10112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pic>
        <p:nvPicPr>
          <p:cNvPr id="251" name="Obraz 3" descr="Obraz4.jpg"/>
          <p:cNvPicPr/>
          <p:nvPr/>
        </p:nvPicPr>
        <p:blipFill>
          <a:blip r:embed="rId2"/>
          <a:stretch/>
        </p:blipFill>
        <p:spPr>
          <a:xfrm>
            <a:off x="8153280" y="1440"/>
            <a:ext cx="1011240" cy="2059200"/>
          </a:xfrm>
          <a:prstGeom prst="rect">
            <a:avLst/>
          </a:prstGeom>
          <a:ln w="0">
            <a:noFill/>
          </a:ln>
        </p:spPr>
      </p:pic>
      <p:sp>
        <p:nvSpPr>
          <p:cNvPr id="252" name="pole tekstowe 4"/>
          <p:cNvSpPr/>
          <p:nvPr/>
        </p:nvSpPr>
        <p:spPr>
          <a:xfrm>
            <a:off x="179280" y="1484280"/>
            <a:ext cx="4032360" cy="2449440"/>
          </a:xfrm>
          <a:prstGeom prst="rect">
            <a:avLst/>
          </a:prstGeom>
          <a:noFill/>
          <a:ln w="28440">
            <a:solidFill>
              <a:srgbClr val="f9b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bierz rodzaj motywu oraz kolorystykę i stosuj je konsekwent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ole tekstowe 5"/>
          <p:cNvSpPr/>
          <p:nvPr/>
        </p:nvSpPr>
        <p:spPr>
          <a:xfrm>
            <a:off x="179280" y="4076640"/>
            <a:ext cx="4032360" cy="2376720"/>
          </a:xfrm>
          <a:prstGeom prst="rect">
            <a:avLst/>
          </a:prstGeom>
          <a:noFill/>
          <a:ln w="2844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anów się, w  jaki prosty sposób można zobrazować tre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ole tekstowe 6"/>
          <p:cNvSpPr/>
          <p:nvPr/>
        </p:nvSpPr>
        <p:spPr>
          <a:xfrm>
            <a:off x="4427640" y="1484280"/>
            <a:ext cx="3600360" cy="4969080"/>
          </a:xfrm>
          <a:prstGeom prst="rect">
            <a:avLst/>
          </a:prstGeom>
          <a:noFill/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astosuj pomoce graf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Smar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Cli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Wykre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Kształ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rebuchet MS"/>
              </a:rPr>
              <a:t>Zdję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27385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4"/>
          <a:stretch/>
        </p:blipFill>
        <p:spPr>
          <a:xfrm>
            <a:off x="3094200" y="2205000"/>
            <a:ext cx="985680" cy="1560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5"/>
          <a:stretch/>
        </p:blipFill>
        <p:spPr>
          <a:xfrm>
            <a:off x="4716360" y="4221000"/>
            <a:ext cx="1943280" cy="1330560"/>
          </a:xfrm>
          <a:prstGeom prst="rect">
            <a:avLst/>
          </a:prstGeom>
          <a:ln w="0">
            <a:noFill/>
          </a:ln>
        </p:spPr>
      </p:pic>
      <p:grpSp>
        <p:nvGrpSpPr>
          <p:cNvPr id="258" name="Grupa 19"/>
          <p:cNvGrpSpPr/>
          <p:nvPr/>
        </p:nvGrpSpPr>
        <p:grpSpPr>
          <a:xfrm>
            <a:off x="5651640" y="1951200"/>
            <a:ext cx="2286000" cy="2269800"/>
            <a:chOff x="5651640" y="1951200"/>
            <a:chExt cx="2286000" cy="2269800"/>
          </a:xfrm>
        </p:grpSpPr>
        <p:pic>
          <p:nvPicPr>
            <p:cNvPr id="259" name="Picture 4" descr=""/>
            <p:cNvPicPr/>
            <p:nvPr/>
          </p:nvPicPr>
          <p:blipFill>
            <a:blip r:embed="rId6"/>
            <a:stretch/>
          </p:blipFill>
          <p:spPr>
            <a:xfrm>
              <a:off x="5717160" y="1951200"/>
              <a:ext cx="2192760" cy="121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Diagram 12" descr=""/>
            <p:cNvPicPr/>
            <p:nvPr/>
          </p:nvPicPr>
          <p:blipFill>
            <a:blip r:embed="rId7"/>
            <a:stretch/>
          </p:blipFill>
          <p:spPr>
            <a:xfrm>
              <a:off x="6611040" y="3204000"/>
              <a:ext cx="132660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Diagram 13" descr=""/>
            <p:cNvPicPr/>
            <p:nvPr/>
          </p:nvPicPr>
          <p:blipFill>
            <a:blip r:embed="rId8"/>
            <a:stretch/>
          </p:blipFill>
          <p:spPr>
            <a:xfrm>
              <a:off x="5651640" y="3264480"/>
              <a:ext cx="1178640" cy="92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upa 21"/>
          <p:cNvGrpSpPr/>
          <p:nvPr/>
        </p:nvGrpSpPr>
        <p:grpSpPr>
          <a:xfrm>
            <a:off x="5842080" y="5694480"/>
            <a:ext cx="1944720" cy="696600"/>
            <a:chOff x="5842080" y="5694480"/>
            <a:chExt cx="1944720" cy="696600"/>
          </a:xfrm>
        </p:grpSpPr>
        <p:sp>
          <p:nvSpPr>
            <p:cNvPr id="263" name="Strzałka kolista 17"/>
            <p:cNvSpPr/>
            <p:nvPr/>
          </p:nvSpPr>
          <p:spPr>
            <a:xfrm rot="10800000">
              <a:off x="6562440" y="5814720"/>
              <a:ext cx="647640" cy="576360"/>
            </a:xfrm>
            <a:custGeom>
              <a:avLst/>
              <a:gdLst/>
              <a:ahLst/>
              <a:rect l="l" t="t" r="r" b="b"/>
              <a:pathLst>
                <a:path w="647543" h="576201">
                  <a:moveTo>
                    <a:pt x="36013" y="288101"/>
                  </a:moveTo>
                  <a:cubicBezTo>
                    <a:pt x="36013" y="161135"/>
                    <a:pt x="143800" y="53983"/>
                    <a:pt x="287581" y="38015"/>
                  </a:cubicBezTo>
                  <a:cubicBezTo>
                    <a:pt x="423451" y="22925"/>
                    <a:pt x="552635" y="93817"/>
                    <a:pt x="596426" y="207499"/>
                  </a:cubicBezTo>
                  <a:lnTo>
                    <a:pt x="629372" y="207498"/>
                  </a:lnTo>
                  <a:lnTo>
                    <a:pt x="575518" y="288100"/>
                  </a:lnTo>
                  <a:lnTo>
                    <a:pt x="485321" y="207498"/>
                  </a:lnTo>
                  <a:lnTo>
                    <a:pt x="516684" y="207498"/>
                  </a:lnTo>
                  <a:cubicBezTo>
                    <a:pt x="474282" y="136800"/>
                    <a:pt x="381587" y="97458"/>
                    <a:pt x="288162" y="110508"/>
                  </a:cubicBezTo>
                  <a:cubicBezTo>
                    <a:pt x="184203" y="125029"/>
                    <a:pt x="108037" y="200125"/>
                    <a:pt x="108037" y="288101"/>
                  </a:cubicBezTo>
                  <a:lnTo>
                    <a:pt x="36013" y="288101"/>
                  </a:lnTo>
                  <a:close/>
                </a:path>
              </a:pathLst>
            </a:custGeom>
            <a:solidFill>
              <a:srgbClr val="de6c36"/>
            </a:solidFill>
            <a:ln w="39960">
              <a:solidFill>
                <a:srgbClr val="b24d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upa 20"/>
            <p:cNvGrpSpPr/>
            <p:nvPr/>
          </p:nvGrpSpPr>
          <p:grpSpPr>
            <a:xfrm>
              <a:off x="5842080" y="5694480"/>
              <a:ext cx="1944720" cy="614520"/>
              <a:chOff x="5842080" y="5694480"/>
              <a:chExt cx="1944720" cy="614520"/>
            </a:xfrm>
          </p:grpSpPr>
          <p:sp>
            <p:nvSpPr>
              <p:cNvPr id="265" name="Pagon 15"/>
              <p:cNvSpPr/>
              <p:nvPr/>
            </p:nvSpPr>
            <p:spPr>
              <a:xfrm>
                <a:off x="5842080" y="5803920"/>
                <a:ext cx="647640" cy="50508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181" y="0"/>
                    </a:lnTo>
                    <a:lnTo>
                      <a:pt x="21600" y="10800"/>
                    </a:lnTo>
                    <a:lnTo>
                      <a:pt x="13181" y="21600"/>
                    </a:lnTo>
                    <a:lnTo>
                      <a:pt x="0" y="21600"/>
                    </a:lnTo>
                    <a:lnTo>
                      <a:pt x="8419" y="10800"/>
                    </a:lnTo>
                    <a:close/>
                  </a:path>
                </a:pathLst>
              </a:custGeom>
              <a:solidFill>
                <a:srgbClr val="f9b639"/>
              </a:solidFill>
              <a:ln w="39960">
                <a:solidFill>
                  <a:srgbClr val="df93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Strzałka kolista 16"/>
              <p:cNvSpPr/>
              <p:nvPr/>
            </p:nvSpPr>
            <p:spPr>
              <a:xfrm>
                <a:off x="6562800" y="5694480"/>
                <a:ext cx="647640" cy="576720"/>
              </a:xfrm>
              <a:custGeom>
                <a:avLst/>
                <a:gdLst/>
                <a:ahLst/>
                <a:rect l="l" t="t" r="r" b="b"/>
                <a:pathLst>
                  <a:path w="647543" h="576201">
                    <a:moveTo>
                      <a:pt x="36013" y="288101"/>
                    </a:moveTo>
                    <a:cubicBezTo>
                      <a:pt x="36013" y="161135"/>
                      <a:pt x="143800" y="53983"/>
                      <a:pt x="287581" y="38015"/>
                    </a:cubicBezTo>
                    <a:cubicBezTo>
                      <a:pt x="423451" y="22925"/>
                      <a:pt x="552635" y="93817"/>
                      <a:pt x="596426" y="207499"/>
                    </a:cubicBezTo>
                    <a:lnTo>
                      <a:pt x="629372" y="207498"/>
                    </a:lnTo>
                    <a:lnTo>
                      <a:pt x="575518" y="288100"/>
                    </a:lnTo>
                    <a:lnTo>
                      <a:pt x="485321" y="207498"/>
                    </a:lnTo>
                    <a:lnTo>
                      <a:pt x="516684" y="207498"/>
                    </a:lnTo>
                    <a:cubicBezTo>
                      <a:pt x="474282" y="136800"/>
                      <a:pt x="381587" y="97458"/>
                      <a:pt x="288162" y="110508"/>
                    </a:cubicBezTo>
                    <a:cubicBezTo>
                      <a:pt x="184203" y="125029"/>
                      <a:pt x="108037" y="200125"/>
                      <a:pt x="108037" y="288101"/>
                    </a:cubicBezTo>
                    <a:lnTo>
                      <a:pt x="36013" y="288101"/>
                    </a:lnTo>
                    <a:close/>
                  </a:path>
                </a:pathLst>
              </a:custGeom>
              <a:solidFill>
                <a:srgbClr val="de6c36"/>
              </a:solidFill>
              <a:ln w="39960">
                <a:solidFill>
                  <a:srgbClr val="b24d1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Zagięty narożnik 18"/>
              <p:cNvSpPr/>
              <p:nvPr/>
            </p:nvSpPr>
            <p:spPr>
              <a:xfrm>
                <a:off x="7355160" y="5803920"/>
                <a:ext cx="431640" cy="433440"/>
              </a:xfrm>
              <a:prstGeom prst="foldedCorner">
                <a:avLst>
                  <a:gd name="adj" fmla="val 16666"/>
                </a:avLst>
              </a:prstGeom>
              <a:solidFill>
                <a:srgbClr val="cda3d6"/>
              </a:solidFill>
              <a:ln w="39960">
                <a:solidFill>
                  <a:srgbClr val="ac66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rostokąt 23"/>
          <p:cNvSpPr/>
          <p:nvPr/>
        </p:nvSpPr>
        <p:spPr>
          <a:xfrm>
            <a:off x="250920" y="5013360"/>
            <a:ext cx="16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Wybierz rodzaj motywu oraz kolorystykę i bądź jej konsekwentny Zastosuj pomoce graficzn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Zastanów się jak w prosty sposób można zobrazować treść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Trebuchet MS"/>
              </a:rPr>
              <a:t>SmartArt, ClipArt, Wykresy Kształty Zdjęci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rójkąt równoramienny 24"/>
          <p:cNvSpPr/>
          <p:nvPr/>
        </p:nvSpPr>
        <p:spPr>
          <a:xfrm rot="5400000">
            <a:off x="1691280" y="5301000"/>
            <a:ext cx="863640" cy="144720"/>
          </a:xfrm>
          <a:prstGeom prst="triangle">
            <a:avLst>
              <a:gd name="adj" fmla="val 50000"/>
            </a:avLst>
          </a:prstGeom>
          <a:solidFill>
            <a:srgbClr val="eba786"/>
          </a:solidFill>
          <a:ln w="3996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Łącznik prosty 26"/>
          <p:cNvSpPr/>
          <p:nvPr/>
        </p:nvSpPr>
        <p:spPr>
          <a:xfrm>
            <a:off x="39528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Łącznik prosty 27"/>
          <p:cNvSpPr/>
          <p:nvPr/>
        </p:nvSpPr>
        <p:spPr>
          <a:xfrm flipH="1">
            <a:off x="394920" y="5084640"/>
            <a:ext cx="115236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Diagram 34" descr=""/>
          <p:cNvPicPr/>
          <p:nvPr/>
        </p:nvPicPr>
        <p:blipFill>
          <a:blip r:embed="rId9"/>
          <a:stretch/>
        </p:blipFill>
        <p:spPr>
          <a:xfrm>
            <a:off x="2468520" y="4797360"/>
            <a:ext cx="1481040" cy="1365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C:\Documents and Settings\MK\Ustawienia lokalne\Temporary Internet Files\Content.IE5\I715L005\MP900401828[1].jpg"/>
          <p:cNvPicPr/>
          <p:nvPr/>
        </p:nvPicPr>
        <p:blipFill>
          <a:blip r:embed="rId10"/>
          <a:stretch/>
        </p:blipFill>
        <p:spPr>
          <a:xfrm>
            <a:off x="6950160" y="4363920"/>
            <a:ext cx="7189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ytuł 1" descr=""/>
          <p:cNvPicPr/>
          <p:nvPr/>
        </p:nvPicPr>
        <p:blipFill>
          <a:blip r:embed="rId1"/>
          <a:stretch/>
        </p:blipFill>
        <p:spPr>
          <a:xfrm>
            <a:off x="334800" y="231840"/>
            <a:ext cx="7364520" cy="1231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1645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Zachowaj przejrzystość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Nie przesadzaj z ilością tekstu i animacji na slajdach, aby odbiorca nie czuł się przytłoczony nadmiarem inform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opracuj szczegóły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tosuj jednolite czcionki i wyrównaj obrazy – różne czcionki i nierówno ustawione rysunki przeszkadzają w odbiorze i podważają profesjonalizm prezentacj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Usuń bękar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Do przeniesienia spójników pozostających na końcu wiersza, stosuj ręczny podział wiersza (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Shift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Enter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baj o rozmiar prezentac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24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kompresuj prezentację, jeśli zawiera dużo grafiki.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76" name="Obraz 3" descr="Obraz5.jpg"/>
          <p:cNvPicPr/>
          <p:nvPr/>
        </p:nvPicPr>
        <p:blipFill>
          <a:blip r:embed="rId2"/>
          <a:stretch/>
        </p:blipFill>
        <p:spPr>
          <a:xfrm>
            <a:off x="8153280" y="-7920"/>
            <a:ext cx="1009800" cy="205884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9"/>
          <p:cNvSpPr/>
          <p:nvPr/>
        </p:nvSpPr>
        <p:spPr>
          <a:xfrm rot="1207800">
            <a:off x="6371640" y="19047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b13f9a"/>
                </a:solidFill>
                <a:latin typeface="Arial"/>
              </a:rPr>
              <a:t>Mniej znaczy więcej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 rot="1207800">
            <a:off x="6235560" y="4398480"/>
            <a:ext cx="150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Shift</a:t>
            </a:r>
            <a:r>
              <a:rPr b="0" lang="pl-PL" sz="1400" spc="-1" strike="noStrike">
                <a:solidFill>
                  <a:srgbClr val="b13f9a"/>
                </a:solidFill>
                <a:latin typeface="Arial"/>
              </a:rPr>
              <a:t>+</a:t>
            </a:r>
            <a:r>
              <a:rPr b="1" lang="pl-PL" sz="1400" spc="-1" strike="noStrike">
                <a:solidFill>
                  <a:srgbClr val="b13f9a"/>
                </a:solidFill>
                <a:latin typeface="Arial"/>
              </a:rPr>
              <a:t>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2:28:09Z</dcterms:created>
  <dc:creator>Twoja nazwa użytkownika</dc:creator>
  <dc:description/>
  <dc:language>en-US</dc:language>
  <cp:lastModifiedBy>MK</cp:lastModifiedBy>
  <dcterms:modified xsi:type="dcterms:W3CDTF">2013-04-23T19:34:22Z</dcterms:modified>
  <cp:revision>68</cp:revision>
  <dc:subject/>
  <dc:title>Tworzenie prezentacji</dc:title>
</cp:coreProperties>
</file>