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9.jpeg" ContentType="image/jpe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B3A-6DBC-4932-8A07-9FACF8F7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E38-3E49-460C-95E9-FF0114EE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096-ABBF-4EDC-91A5-76551F69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3D3-AD4D-422A-B3B1-8C64BA77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282C-A2F2-4B83-8769-5D95962C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EC1D-057D-4913-8D7A-5C72573B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ADEA-4016-4CD0-AD11-7AC22C6A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C15F-3CAD-4935-8F3A-1C23032E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43C1-7265-47A5-BD91-A4E74486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106F-09C5-4FC0-B147-C7CA70D6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90C1-8E61-4865-8972-165C791F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9C6-465D-4D19-973E-BCB6FE77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158F-5D5E-44DC-A7A2-04B84FD6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73EB-F4C6-4F40-B689-5F15EC59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B3A1-AB85-4952-8F21-F010E50B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EAAE-E257-469A-A67E-60D60502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B05D-9127-42BD-9D5A-1ED2111E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21D9D-3A00-4873-ACB1-838EA2B4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51E45-32A6-4026-8CFC-E8848C20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8672F-7730-42E3-BB2C-D0B5E735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18A64-CC98-46ED-A56F-7E23DC2C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B26CD-CDA0-4059-A2A6-4DE33CA3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9A41-DB8D-4433-8AB4-0D38BE04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5AB12-A327-4360-9C5D-BE15109B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6D31C-C2CE-4C6F-AC90-ABEF7E69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6D51B-C8D9-47DF-8991-6AE8CC4E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BD8BA-93D3-4883-9DB0-69F11A91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B4048-A6E7-46AB-B1A2-4FB17F3D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64C52-4FB3-433F-BC5B-7E3D9B54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B5198-C031-4F76-BF88-D69BE7FC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C7EA7-2200-428F-B230-F6236257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5069B-00D9-45E4-9136-395CD844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806E0-906D-4407-85B1-7527604C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0D63-4656-4C70-86D5-E53C2F51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BC398-D8B7-428A-A877-32CCAEC2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D4624-A7DD-484D-976D-36DEBC9C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37EA1-AFCF-49C8-97DB-DE5DC283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A9EBE-E479-4A52-A3F8-5B17EAA8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33A6A-C7D6-4EF0-8085-D8BC28FD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C83FE-007A-48BD-8559-BB93CA7A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87461-B106-4B26-8A8D-20B0CA35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CF2F0-6EC7-4C8E-9F21-492BC1E7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5173B-95FB-4560-9674-2AEAE366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27DF9-3D3D-4818-822A-FBC4BD56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3CE-10DD-4DB9-8568-FB16E5D7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EBCBF-2B74-4E85-9FCD-C22E3C18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C0046-5408-4861-A329-5CBEF0B8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2AAAF-9DA5-4AC6-8F79-533451F5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DFEF2-5D63-4FE1-A768-1B1E1FCD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2C2F4-E081-49CB-847A-15664F13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54D3F-3062-4EA4-8A82-4FE18EFE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4E89F-5699-472B-B47F-58AE1A95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12D3F-506C-4A26-B590-5A95F7F6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584B1-728D-4EAE-B74D-8827A8F7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6A486-74A3-478E-AF32-3AA3846B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2CE-E1A6-4562-8354-284C43E5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263A1-3118-4470-B02B-63BA5BF9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0AD-15BA-47D2-B5A9-C65CD012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874-2494-40E4-AF72-D48E95BE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CCBB-C333-43DA-A7FD-159FA0A0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34C1-180E-4458-8EBF-05D72F247E68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Prostokąt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Prostokąt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Łącznik prosty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1D67-03D4-437F-90EB-09C1ACA6576D}" type="slidenum">
              <a:rPr b="0" lang="pl-PL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FF0C-3C72-49EC-ACE0-B48E26CC8186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ostokąt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C29B-547A-416E-810F-A96F1A0C4F23}" type="slidenum">
              <a:rPr b="0" lang="pl-PL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A568-962B-400C-A9AE-39DFE59BDB57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ytuł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2276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Trebuchet MS"/>
              </a:rPr>
              <a:t>Skuteczne przekazywanie informacji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ytuł 1" descr=""/>
          <p:cNvPicPr/>
          <p:nvPr/>
        </p:nvPicPr>
        <p:blipFill>
          <a:blip r:embed="rId1"/>
          <a:stretch/>
        </p:blipFill>
        <p:spPr>
          <a:xfrm>
            <a:off x="317520" y="225360"/>
            <a:ext cx="7381800" cy="1238400"/>
          </a:xfrm>
          <a:prstGeom prst="rect">
            <a:avLst/>
          </a:prstGeom>
          <a:ln w="0">
            <a:noFill/>
          </a:ln>
        </p:spPr>
      </p:pic>
      <p:pic>
        <p:nvPicPr>
          <p:cNvPr id="223" name="Symbol zastępczy zawartości 3" descr=""/>
          <p:cNvPicPr/>
          <p:nvPr/>
        </p:nvPicPr>
        <p:blipFill>
          <a:blip r:embed="rId2"/>
          <a:stretch/>
        </p:blipFill>
        <p:spPr>
          <a:xfrm>
            <a:off x="2414520" y="835200"/>
            <a:ext cx="5510160" cy="5773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MK\Ustawienia lokalne\Temporary Internet Files\Content.IE5\RNQRUGPE\MP900430530[1].jpg"/>
          <p:cNvPicPr/>
          <p:nvPr/>
        </p:nvPicPr>
        <p:blipFill>
          <a:blip r:embed="rId3"/>
          <a:stretch/>
        </p:blipFill>
        <p:spPr>
          <a:xfrm>
            <a:off x="422280" y="2762280"/>
            <a:ext cx="1765440" cy="1177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Documents and Settings\MK\Ustawienia lokalne\Temporary Internet Files\Content.IE5\I715L005\MP900439397[1].jpg"/>
          <p:cNvPicPr/>
          <p:nvPr/>
        </p:nvPicPr>
        <p:blipFill>
          <a:blip r:embed="rId4"/>
          <a:stretch/>
        </p:blipFill>
        <p:spPr>
          <a:xfrm>
            <a:off x="433440" y="909720"/>
            <a:ext cx="1762200" cy="1176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C:\Documents and Settings\MK\Ustawienia lokalne\Temporary Internet Files\Content.IE5\RNQRUGPE\MP900386353[1].jpg"/>
          <p:cNvPicPr/>
          <p:nvPr/>
        </p:nvPicPr>
        <p:blipFill>
          <a:blip r:embed="rId5"/>
          <a:stretch/>
        </p:blipFill>
        <p:spPr>
          <a:xfrm>
            <a:off x="468360" y="4581360"/>
            <a:ext cx="1763640" cy="1170000"/>
          </a:xfrm>
          <a:prstGeom prst="rect">
            <a:avLst/>
          </a:prstGeom>
          <a:ln w="0">
            <a:noFill/>
          </a:ln>
        </p:spPr>
      </p:pic>
      <p:sp>
        <p:nvSpPr>
          <p:cNvPr id="227" name="Prostokąt 8"/>
          <p:cNvSpPr/>
          <p:nvPr/>
        </p:nvSpPr>
        <p:spPr>
          <a:xfrm>
            <a:off x="395280" y="5805360"/>
            <a:ext cx="22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Do dzieła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rostokąt 9"/>
          <p:cNvSpPr/>
          <p:nvPr/>
        </p:nvSpPr>
        <p:spPr>
          <a:xfrm>
            <a:off x="324000" y="2133720"/>
            <a:ext cx="230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Planuje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rostokąt 10"/>
          <p:cNvSpPr/>
          <p:nvPr/>
        </p:nvSpPr>
        <p:spPr>
          <a:xfrm>
            <a:off x="431280" y="3959280"/>
            <a:ext cx="190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Jeden obraz to tysiąc słó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grpSp>
        <p:nvGrpSpPr>
          <p:cNvPr id="231" name="Grupa 24"/>
          <p:cNvGrpSpPr/>
          <p:nvPr/>
        </p:nvGrpSpPr>
        <p:grpSpPr>
          <a:xfrm>
            <a:off x="468360" y="1413000"/>
            <a:ext cx="3166920" cy="2160360"/>
            <a:chOff x="468360" y="1413000"/>
            <a:chExt cx="3166920" cy="2160360"/>
          </a:xfrm>
        </p:grpSpPr>
        <p:sp>
          <p:nvSpPr>
            <p:cNvPr id="232" name="pole tekstowe 5"/>
            <p:cNvSpPr/>
            <p:nvPr/>
          </p:nvSpPr>
          <p:spPr>
            <a:xfrm>
              <a:off x="468360" y="1413000"/>
              <a:ext cx="3166920" cy="2160360"/>
            </a:xfrm>
            <a:prstGeom prst="rect">
              <a:avLst/>
            </a:prstGeom>
            <a:solidFill>
              <a:srgbClr val="dec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Cel prezentacj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3" descr="C:\Documents and Settings\MK\Ustawienia lokalne\Temporary Internet Files\Content.IE5\3JSHBOGL\MP900431735[1].jpg"/>
            <p:cNvPicPr/>
            <p:nvPr/>
          </p:nvPicPr>
          <p:blipFill>
            <a:blip r:embed="rId2"/>
            <a:stretch/>
          </p:blipFill>
          <p:spPr>
            <a:xfrm>
              <a:off x="2339640" y="2205000"/>
              <a:ext cx="122364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" descr="C:\Documents and Settings\MK\Ustawienia lokalne\Temporary Internet Files\Content.IE5\AUXUKJDN\MP900386406[1].jpg"/>
            <p:cNvPicPr/>
            <p:nvPr/>
          </p:nvPicPr>
          <p:blipFill>
            <a:blip r:embed="rId3"/>
            <a:stretch/>
          </p:blipFill>
          <p:spPr>
            <a:xfrm>
              <a:off x="1260000" y="1869120"/>
              <a:ext cx="119736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" descr="C:\Documents and Settings\MK\Ustawienia lokalne\Temporary Internet Files\Content.IE5\RNQRUGPE\MP900400225[1].jpg"/>
            <p:cNvPicPr/>
            <p:nvPr/>
          </p:nvPicPr>
          <p:blipFill>
            <a:blip r:embed="rId4"/>
            <a:stretch/>
          </p:blipFill>
          <p:spPr>
            <a:xfrm>
              <a:off x="540000" y="2277000"/>
              <a:ext cx="978480" cy="122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Grupa 25"/>
          <p:cNvGrpSpPr/>
          <p:nvPr/>
        </p:nvGrpSpPr>
        <p:grpSpPr>
          <a:xfrm>
            <a:off x="468360" y="3860640"/>
            <a:ext cx="3166920" cy="2160720"/>
            <a:chOff x="468360" y="3860640"/>
            <a:chExt cx="3166920" cy="2160720"/>
          </a:xfrm>
        </p:grpSpPr>
        <p:sp>
          <p:nvSpPr>
            <p:cNvPr id="237" name="pole tekstowe 6"/>
            <p:cNvSpPr/>
            <p:nvPr/>
          </p:nvSpPr>
          <p:spPr>
            <a:xfrm>
              <a:off x="468360" y="3860640"/>
              <a:ext cx="3166920" cy="2160720"/>
            </a:xfrm>
            <a:prstGeom prst="rect">
              <a:avLst/>
            </a:prstGeom>
            <a:solidFill>
              <a:srgbClr val="dec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Odbior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1" descr="C:\Documents and Settings\MK\Ustawienia lokalne\Temporary Internet Files\Content.IE5\I715L005\MP900422581[1].jpg"/>
            <p:cNvPicPr/>
            <p:nvPr/>
          </p:nvPicPr>
          <p:blipFill>
            <a:blip r:embed="rId5"/>
            <a:stretch/>
          </p:blipFill>
          <p:spPr>
            <a:xfrm>
              <a:off x="2052000" y="4220640"/>
              <a:ext cx="1563840" cy="12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2" descr="C:\Documents and Settings\MK\Ustawienia lokalne\Temporary Internet Files\Content.IE5\3JSHBOGL\MP900409652[1].jpg"/>
            <p:cNvPicPr/>
            <p:nvPr/>
          </p:nvPicPr>
          <p:blipFill>
            <a:blip r:embed="rId6"/>
            <a:stretch/>
          </p:blipFill>
          <p:spPr>
            <a:xfrm>
              <a:off x="1260000" y="4797000"/>
              <a:ext cx="122364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9" descr="C:\Documents and Settings\MK\Ustawienia lokalne\Temporary Internet Files\Content.IE5\AUXUKJDN\MP900439399[1].jpg"/>
            <p:cNvPicPr/>
            <p:nvPr/>
          </p:nvPicPr>
          <p:blipFill>
            <a:blip r:embed="rId7"/>
            <a:stretch/>
          </p:blipFill>
          <p:spPr>
            <a:xfrm>
              <a:off x="540000" y="4220640"/>
              <a:ext cx="935640" cy="140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Strzałka w prawo 18"/>
          <p:cNvSpPr/>
          <p:nvPr/>
        </p:nvSpPr>
        <p:spPr>
          <a:xfrm>
            <a:off x="3780000" y="4437000"/>
            <a:ext cx="1079280" cy="8636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ffffff"/>
                </a:solidFill>
                <a:latin typeface="Trebuchet MS"/>
              </a:rPr>
              <a:t>Dostos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ole tekstowe 19"/>
          <p:cNvSpPr/>
          <p:nvPr/>
        </p:nvSpPr>
        <p:spPr>
          <a:xfrm>
            <a:off x="5148360" y="21286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ilość tekstu na slajd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ole tekstowe 20"/>
          <p:cNvSpPr/>
          <p:nvPr/>
        </p:nvSpPr>
        <p:spPr>
          <a:xfrm>
            <a:off x="5148360" y="1700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liczbę slajd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ole tekstowe 21"/>
          <p:cNvSpPr/>
          <p:nvPr/>
        </p:nvSpPr>
        <p:spPr>
          <a:xfrm>
            <a:off x="5076720" y="42861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słownic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ole tekstowe 23"/>
          <p:cNvSpPr/>
          <p:nvPr/>
        </p:nvSpPr>
        <p:spPr>
          <a:xfrm>
            <a:off x="5076720" y="479124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kres trudn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załka w prawo 26"/>
          <p:cNvSpPr/>
          <p:nvPr/>
        </p:nvSpPr>
        <p:spPr>
          <a:xfrm>
            <a:off x="3851280" y="2205000"/>
            <a:ext cx="1081080" cy="86364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ffffff"/>
                </a:solidFill>
                <a:latin typeface="Trebuchet MS"/>
              </a:rPr>
              <a:t>Dostos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ole tekstowe 27"/>
          <p:cNvSpPr/>
          <p:nvPr/>
        </p:nvSpPr>
        <p:spPr>
          <a:xfrm>
            <a:off x="5076720" y="5373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grafik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ole tekstowe 28"/>
          <p:cNvSpPr/>
          <p:nvPr/>
        </p:nvSpPr>
        <p:spPr>
          <a:xfrm>
            <a:off x="5183280" y="26128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rodzaj i szybkość anim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32" descr="Obraz3.jpg"/>
          <p:cNvPicPr/>
          <p:nvPr/>
        </p:nvPicPr>
        <p:blipFill>
          <a:blip r:embed="rId8"/>
          <a:stretch/>
        </p:blipFill>
        <p:spPr>
          <a:xfrm>
            <a:off x="8151840" y="68400"/>
            <a:ext cx="10112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pic>
        <p:nvPicPr>
          <p:cNvPr id="251" name="Obraz 3" descr="Obraz4.jpg"/>
          <p:cNvPicPr/>
          <p:nvPr/>
        </p:nvPicPr>
        <p:blipFill>
          <a:blip r:embed="rId2"/>
          <a:stretch/>
        </p:blipFill>
        <p:spPr>
          <a:xfrm>
            <a:off x="8153280" y="1440"/>
            <a:ext cx="1011240" cy="2059200"/>
          </a:xfrm>
          <a:prstGeom prst="rect">
            <a:avLst/>
          </a:prstGeom>
          <a:ln w="0">
            <a:noFill/>
          </a:ln>
        </p:spPr>
      </p:pic>
      <p:sp>
        <p:nvSpPr>
          <p:cNvPr id="252" name="pole tekstowe 4"/>
          <p:cNvSpPr/>
          <p:nvPr/>
        </p:nvSpPr>
        <p:spPr>
          <a:xfrm>
            <a:off x="179280" y="1484280"/>
            <a:ext cx="4032360" cy="2449440"/>
          </a:xfrm>
          <a:prstGeom prst="rect">
            <a:avLst/>
          </a:prstGeom>
          <a:noFill/>
          <a:ln w="28440">
            <a:solidFill>
              <a:srgbClr val="f9b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ybierz rodzaj motywu oraz kolorystykę i stosuj je konsekwent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ole tekstowe 5"/>
          <p:cNvSpPr/>
          <p:nvPr/>
        </p:nvSpPr>
        <p:spPr>
          <a:xfrm>
            <a:off x="179280" y="4076640"/>
            <a:ext cx="4032360" cy="2376720"/>
          </a:xfrm>
          <a:prstGeom prst="rect">
            <a:avLst/>
          </a:prstGeom>
          <a:noFill/>
          <a:ln w="2844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stanów się, w  jaki prosty sposób można zobrazować tre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ole tekstowe 6"/>
          <p:cNvSpPr/>
          <p:nvPr/>
        </p:nvSpPr>
        <p:spPr>
          <a:xfrm>
            <a:off x="4427640" y="1484280"/>
            <a:ext cx="3600360" cy="4969080"/>
          </a:xfrm>
          <a:prstGeom prst="rect">
            <a:avLst/>
          </a:prstGeom>
          <a:noFill/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stosuj pomoce grafi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Smar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ykre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Kształ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dję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2738520" cy="936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4"/>
          <a:stretch/>
        </p:blipFill>
        <p:spPr>
          <a:xfrm>
            <a:off x="3094200" y="2205000"/>
            <a:ext cx="985680" cy="1560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5"/>
          <a:stretch/>
        </p:blipFill>
        <p:spPr>
          <a:xfrm>
            <a:off x="4716360" y="4221000"/>
            <a:ext cx="1943280" cy="1330560"/>
          </a:xfrm>
          <a:prstGeom prst="rect">
            <a:avLst/>
          </a:prstGeom>
          <a:ln w="0">
            <a:noFill/>
          </a:ln>
        </p:spPr>
      </p:pic>
      <p:grpSp>
        <p:nvGrpSpPr>
          <p:cNvPr id="258" name="Grupa 19"/>
          <p:cNvGrpSpPr/>
          <p:nvPr/>
        </p:nvGrpSpPr>
        <p:grpSpPr>
          <a:xfrm>
            <a:off x="5651640" y="1951200"/>
            <a:ext cx="2286000" cy="2269800"/>
            <a:chOff x="5651640" y="1951200"/>
            <a:chExt cx="2286000" cy="2269800"/>
          </a:xfrm>
        </p:grpSpPr>
        <p:pic>
          <p:nvPicPr>
            <p:cNvPr id="259" name="Picture 4" descr=""/>
            <p:cNvPicPr/>
            <p:nvPr/>
          </p:nvPicPr>
          <p:blipFill>
            <a:blip r:embed="rId6"/>
            <a:stretch/>
          </p:blipFill>
          <p:spPr>
            <a:xfrm>
              <a:off x="5717160" y="1951200"/>
              <a:ext cx="2192760" cy="121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Diagram 12" descr=""/>
            <p:cNvPicPr/>
            <p:nvPr/>
          </p:nvPicPr>
          <p:blipFill>
            <a:blip r:embed="rId7"/>
            <a:stretch/>
          </p:blipFill>
          <p:spPr>
            <a:xfrm>
              <a:off x="6611040" y="3204000"/>
              <a:ext cx="132660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Diagram 13" descr=""/>
            <p:cNvPicPr/>
            <p:nvPr/>
          </p:nvPicPr>
          <p:blipFill>
            <a:blip r:embed="rId8"/>
            <a:stretch/>
          </p:blipFill>
          <p:spPr>
            <a:xfrm>
              <a:off x="5651640" y="3264480"/>
              <a:ext cx="1178640" cy="92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Grupa 21"/>
          <p:cNvGrpSpPr/>
          <p:nvPr/>
        </p:nvGrpSpPr>
        <p:grpSpPr>
          <a:xfrm>
            <a:off x="5842080" y="5694480"/>
            <a:ext cx="1944720" cy="696600"/>
            <a:chOff x="5842080" y="5694480"/>
            <a:chExt cx="1944720" cy="696600"/>
          </a:xfrm>
        </p:grpSpPr>
        <p:sp>
          <p:nvSpPr>
            <p:cNvPr id="263" name="Strzałka kolista 17"/>
            <p:cNvSpPr/>
            <p:nvPr/>
          </p:nvSpPr>
          <p:spPr>
            <a:xfrm rot="10800000">
              <a:off x="6562440" y="5814720"/>
              <a:ext cx="647640" cy="576360"/>
            </a:xfrm>
            <a:custGeom>
              <a:avLst/>
              <a:gdLst/>
              <a:ahLst/>
              <a:rect l="l" t="t" r="r" b="b"/>
              <a:pathLst>
                <a:path w="647543" h="576201">
                  <a:moveTo>
                    <a:pt x="36013" y="288101"/>
                  </a:moveTo>
                  <a:cubicBezTo>
                    <a:pt x="36013" y="161135"/>
                    <a:pt x="143800" y="53983"/>
                    <a:pt x="287581" y="38015"/>
                  </a:cubicBezTo>
                  <a:cubicBezTo>
                    <a:pt x="423451" y="22925"/>
                    <a:pt x="552635" y="93817"/>
                    <a:pt x="596426" y="207499"/>
                  </a:cubicBezTo>
                  <a:lnTo>
                    <a:pt x="629372" y="207498"/>
                  </a:lnTo>
                  <a:lnTo>
                    <a:pt x="575518" y="288100"/>
                  </a:lnTo>
                  <a:lnTo>
                    <a:pt x="485321" y="207498"/>
                  </a:lnTo>
                  <a:lnTo>
                    <a:pt x="516684" y="207498"/>
                  </a:lnTo>
                  <a:cubicBezTo>
                    <a:pt x="474282" y="136800"/>
                    <a:pt x="381587" y="97458"/>
                    <a:pt x="288162" y="110508"/>
                  </a:cubicBezTo>
                  <a:cubicBezTo>
                    <a:pt x="184203" y="125029"/>
                    <a:pt x="108037" y="200125"/>
                    <a:pt x="108037" y="288101"/>
                  </a:cubicBezTo>
                  <a:lnTo>
                    <a:pt x="36013" y="288101"/>
                  </a:lnTo>
                  <a:close/>
                </a:path>
              </a:pathLst>
            </a:custGeom>
            <a:solidFill>
              <a:srgbClr val="de6c36"/>
            </a:solidFill>
            <a:ln w="39960">
              <a:solidFill>
                <a:srgbClr val="b24d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upa 20"/>
            <p:cNvGrpSpPr/>
            <p:nvPr/>
          </p:nvGrpSpPr>
          <p:grpSpPr>
            <a:xfrm>
              <a:off x="5842080" y="5694480"/>
              <a:ext cx="1944720" cy="614520"/>
              <a:chOff x="5842080" y="5694480"/>
              <a:chExt cx="1944720" cy="614520"/>
            </a:xfrm>
          </p:grpSpPr>
          <p:sp>
            <p:nvSpPr>
              <p:cNvPr id="265" name="Pagon 15"/>
              <p:cNvSpPr/>
              <p:nvPr/>
            </p:nvSpPr>
            <p:spPr>
              <a:xfrm>
                <a:off x="5842080" y="5803920"/>
                <a:ext cx="647640" cy="50508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181" y="0"/>
                    </a:lnTo>
                    <a:lnTo>
                      <a:pt x="21600" y="10800"/>
                    </a:lnTo>
                    <a:lnTo>
                      <a:pt x="13181" y="21600"/>
                    </a:lnTo>
                    <a:lnTo>
                      <a:pt x="0" y="21600"/>
                    </a:lnTo>
                    <a:lnTo>
                      <a:pt x="8419" y="10800"/>
                    </a:lnTo>
                    <a:close/>
                  </a:path>
                </a:pathLst>
              </a:custGeom>
              <a:solidFill>
                <a:srgbClr val="f9b639"/>
              </a:solidFill>
              <a:ln w="39960">
                <a:solidFill>
                  <a:srgbClr val="df93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Strzałka kolista 16"/>
              <p:cNvSpPr/>
              <p:nvPr/>
            </p:nvSpPr>
            <p:spPr>
              <a:xfrm>
                <a:off x="6562800" y="5694480"/>
                <a:ext cx="647640" cy="576720"/>
              </a:xfrm>
              <a:custGeom>
                <a:avLst/>
                <a:gdLst/>
                <a:ahLst/>
                <a:rect l="l" t="t" r="r" b="b"/>
                <a:pathLst>
                  <a:path w="647543" h="576201">
                    <a:moveTo>
                      <a:pt x="36013" y="288101"/>
                    </a:moveTo>
                    <a:cubicBezTo>
                      <a:pt x="36013" y="161135"/>
                      <a:pt x="143800" y="53983"/>
                      <a:pt x="287581" y="38015"/>
                    </a:cubicBezTo>
                    <a:cubicBezTo>
                      <a:pt x="423451" y="22925"/>
                      <a:pt x="552635" y="93817"/>
                      <a:pt x="596426" y="207499"/>
                    </a:cubicBezTo>
                    <a:lnTo>
                      <a:pt x="629372" y="207498"/>
                    </a:lnTo>
                    <a:lnTo>
                      <a:pt x="575518" y="288100"/>
                    </a:lnTo>
                    <a:lnTo>
                      <a:pt x="485321" y="207498"/>
                    </a:lnTo>
                    <a:lnTo>
                      <a:pt x="516684" y="207498"/>
                    </a:lnTo>
                    <a:cubicBezTo>
                      <a:pt x="474282" y="136800"/>
                      <a:pt x="381587" y="97458"/>
                      <a:pt x="288162" y="110508"/>
                    </a:cubicBezTo>
                    <a:cubicBezTo>
                      <a:pt x="184203" y="125029"/>
                      <a:pt x="108037" y="200125"/>
                      <a:pt x="108037" y="288101"/>
                    </a:cubicBezTo>
                    <a:lnTo>
                      <a:pt x="36013" y="288101"/>
                    </a:lnTo>
                    <a:close/>
                  </a:path>
                </a:pathLst>
              </a:custGeom>
              <a:solidFill>
                <a:srgbClr val="de6c36"/>
              </a:solidFill>
              <a:ln w="39960">
                <a:solidFill>
                  <a:srgbClr val="b24d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Zagięty narożnik 18"/>
              <p:cNvSpPr/>
              <p:nvPr/>
            </p:nvSpPr>
            <p:spPr>
              <a:xfrm>
                <a:off x="7355160" y="5803920"/>
                <a:ext cx="431640" cy="433440"/>
              </a:xfrm>
              <a:prstGeom prst="foldedCorner">
                <a:avLst>
                  <a:gd name="adj" fmla="val 16666"/>
                </a:avLst>
              </a:prstGeom>
              <a:solidFill>
                <a:srgbClr val="cda3d6"/>
              </a:solidFill>
              <a:ln w="39960">
                <a:solidFill>
                  <a:srgbClr val="ac66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Prostokąt 23"/>
          <p:cNvSpPr/>
          <p:nvPr/>
        </p:nvSpPr>
        <p:spPr>
          <a:xfrm>
            <a:off x="250920" y="5013360"/>
            <a:ext cx="16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rójkąt równoramienny 24"/>
          <p:cNvSpPr/>
          <p:nvPr/>
        </p:nvSpPr>
        <p:spPr>
          <a:xfrm rot="5400000">
            <a:off x="1691280" y="5301000"/>
            <a:ext cx="863640" cy="144720"/>
          </a:xfrm>
          <a:prstGeom prst="triangle">
            <a:avLst>
              <a:gd name="adj" fmla="val 50000"/>
            </a:avLst>
          </a:prstGeom>
          <a:solidFill>
            <a:srgbClr val="eba786"/>
          </a:solidFill>
          <a:ln w="3996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Łącznik prosty 26"/>
          <p:cNvSpPr/>
          <p:nvPr/>
        </p:nvSpPr>
        <p:spPr>
          <a:xfrm>
            <a:off x="395280" y="5084640"/>
            <a:ext cx="115236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Łącznik prosty 27"/>
          <p:cNvSpPr/>
          <p:nvPr/>
        </p:nvSpPr>
        <p:spPr>
          <a:xfrm flipH="1">
            <a:off x="394920" y="5084640"/>
            <a:ext cx="115236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Diagram 34" descr=""/>
          <p:cNvPicPr/>
          <p:nvPr/>
        </p:nvPicPr>
        <p:blipFill>
          <a:blip r:embed="rId9"/>
          <a:stretch/>
        </p:blipFill>
        <p:spPr>
          <a:xfrm>
            <a:off x="2468520" y="4797360"/>
            <a:ext cx="1481040" cy="1365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C:\Documents and Settings\MK\Ustawienia lokalne\Temporary Internet Files\Content.IE5\I715L005\MP900401828[1].jpg"/>
          <p:cNvPicPr/>
          <p:nvPr/>
        </p:nvPicPr>
        <p:blipFill>
          <a:blip r:embed="rId10"/>
          <a:stretch/>
        </p:blipFill>
        <p:spPr>
          <a:xfrm>
            <a:off x="6950160" y="4363920"/>
            <a:ext cx="7189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68360" y="1645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Zachowaj przejrzystość prezentacj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Nie przesadzaj z ilością tekstu i animacji na slajdach, aby odbiorca nie czuł się przytłoczony nadmiarem informacj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Dopracuj szczegóły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Stosuj jednolite czcionki i wyrównaj obrazy – różne czcionki i nierówno ustawione rysunki przeszkadzają w odbiorze i podważają profesjonalizm prezentacj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Usuń bękar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Do przeniesienia spójników pozostających na końcu wiersza, stosuj ręczny podział wiersza (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Shift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Enter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Dbaj o rozmiar prezentacj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24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Skompresuj prezentację, jeśli zawiera dużo grafiki. 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76" name="Obraz 3" descr="Obraz5.jpg"/>
          <p:cNvPicPr/>
          <p:nvPr/>
        </p:nvPicPr>
        <p:blipFill>
          <a:blip r:embed="rId2"/>
          <a:stretch/>
        </p:blipFill>
        <p:spPr>
          <a:xfrm>
            <a:off x="8153280" y="-7920"/>
            <a:ext cx="1009800" cy="20588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9"/>
          <p:cNvSpPr/>
          <p:nvPr/>
        </p:nvSpPr>
        <p:spPr>
          <a:xfrm rot="1207800">
            <a:off x="6371640" y="19047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b13f9a"/>
                </a:solidFill>
                <a:latin typeface="Arial"/>
              </a:rPr>
              <a:t>Mniej znaczy więcej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 rot="1207800">
            <a:off x="6235560" y="4398480"/>
            <a:ext cx="150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b13f9a"/>
                </a:solidFill>
                <a:latin typeface="Arial"/>
              </a:rPr>
              <a:t>Shift</a:t>
            </a:r>
            <a:r>
              <a:rPr b="0" lang="pl-PL" sz="1400" spc="-1" strike="noStrike">
                <a:solidFill>
                  <a:srgbClr val="b13f9a"/>
                </a:solidFill>
                <a:latin typeface="Arial"/>
              </a:rPr>
              <a:t>+</a:t>
            </a:r>
            <a:r>
              <a:rPr b="1" lang="pl-PL" sz="1400" spc="-1" strike="noStrike">
                <a:solidFill>
                  <a:srgbClr val="b13f9a"/>
                </a:solidFill>
                <a:latin typeface="Arial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4T12:28:09Z</dcterms:created>
  <dc:creator>Twoja nazwa użytkownika</dc:creator>
  <dc:description/>
  <dc:language>en-US</dc:language>
  <cp:lastModifiedBy>MK</cp:lastModifiedBy>
  <dcterms:modified xsi:type="dcterms:W3CDTF">2013-04-23T19:34:22Z</dcterms:modified>
  <cp:revision>68</cp:revision>
  <dc:subject/>
  <dc:title>Tworzenie prezentacji</dc:title>
</cp:coreProperties>
</file>