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4C7-9629-4AFA-8938-75D48196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15E-C436-4750-8D02-1421E238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6A4-C75A-4396-84BE-CBF56A8A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871-38BD-4967-A7FF-69D30741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6CC3-3E79-4A2B-BF59-67AE673C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6454-4278-4082-A174-4772DD65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D35E-DE34-424D-B7A4-D13331FD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5548-3036-485D-9FCD-7F573684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DC52-D805-4886-84D3-88E69E56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BBDE-A162-4D64-A979-9E7BC30E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A142-0AF1-421E-B944-9CB7EFAD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259-AFE2-4C7F-9216-82ADC584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A365-0365-416B-BBF9-1716E1F8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A702-D557-486E-AA53-14102C8A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B6D7-4CD5-4B6D-922D-28DC3EB9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C22C-E0F5-412D-AEA5-130C4D5F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CA9C-3A92-4E53-8F1E-BC38FC7A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FF26-ED88-4912-888C-0371D0D4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D1B-803F-4463-8A25-C20B7FF3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E6A-AC1C-4C1E-89BD-C0E76C43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116-9499-4480-8F97-AEC9548B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1EEF-0965-443B-AC36-A6AAD78E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749-6B45-46F2-8B26-8CEACCC7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1A8-CB6E-4264-844B-757B8B8F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2809-384F-464F-B9DD-7FE26FADD028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9204-EC1E-40F3-A245-079C85C49E6F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l.wikipedia.org/wiki/Marketing" TargetMode="External"/><Relationship Id="rId2" Type="http://schemas.openxmlformats.org/officeDocument/2006/relationships/hyperlink" Target="http://pl.wikipedia.org/wiki/Produkt_(marketing)" TargetMode="External"/><Relationship Id="rId3" Type="http://schemas.openxmlformats.org/officeDocument/2006/relationships/hyperlink" Target="http://pl.wikipedia.org/wiki/Rynek_(ekonomia)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Cykl życia produkt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ykl życia produkt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– pojęcie z teorii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marketing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oznaczające okres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którym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produk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jest obecny na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rynk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Innymi słowy jest to rynkowy cykl życia produ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ykl ten składa się z czterech faz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prowadzenie na ryn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zrost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sycenie / dojrzałoś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spadek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060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1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068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141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4076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149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084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5157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6308640"/>
            <a:ext cx="748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Źródło: http://pl.wikipedia.org/wiki/Cykl_%C5%BCycia_produk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9:34:06Z</dcterms:created>
  <dc:creator>Kasia</dc:creator>
  <dc:description/>
  <dc:language>en-US</dc:language>
  <cp:lastModifiedBy>Kasia</cp:lastModifiedBy>
  <dcterms:modified xsi:type="dcterms:W3CDTF">2013-01-27T19:40:55Z</dcterms:modified>
  <cp:revision>1</cp:revision>
  <dc:subject/>
  <dc:title>Cykl życia produktu</dc:title>
</cp:coreProperties>
</file>