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5BE-5D0A-4317-A90C-54147221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752-7E3E-4AB6-B1B0-3EEBFA72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6F8-2CE9-49F4-91B4-C4BDC84B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DE5-C57B-4874-9160-61B14168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5080-B1AD-4D25-93BA-EA8AECCF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4500-3B63-488B-A54D-EBE9BFA0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AF3F-A2A7-4DA0-8B23-F959EAA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4208-D714-4115-A387-575A9C17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1803-8B2C-4D9C-AC3D-1898A435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1905-D8CF-468A-B162-19644CD7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0C17-A101-4741-9549-D810D370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5D8-AEE4-4323-824C-6F52CE24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0304-7AE9-4284-B190-1BC691D5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ACDB-6911-4ADA-AA05-7467AEC8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4260-AC82-4A42-A6C0-B71EBEAF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EF5B-DA94-47B8-AE12-87B182EE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3C3F-FB70-4797-A4A5-7F15845E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796-AC05-4B28-B47C-E1B727C1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FD1-FBD7-4CA3-AC64-C8765C93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D1FA-C04C-4D9F-B2EA-07461BA8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FF2-606A-4DAE-90FD-FCD53661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C226-F2B1-4E1F-AE87-06380D5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EF2-D76C-4A19-B0E0-9C3F3A32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F40D-8D7A-4FAC-84D5-7E80CF80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8ED0-13B8-41E1-9027-45051C93A6EA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DD6A-73F7-437B-A23C-69823780D86B}" type="slidenum">
              <a:rPr b="0" lang="pl-P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Marketing" TargetMode="External"/><Relationship Id="rId2" Type="http://schemas.openxmlformats.org/officeDocument/2006/relationships/hyperlink" Target="http://pl.wikipedia.org/wiki/Produkt_(marketing)" TargetMode="External"/><Relationship Id="rId3" Type="http://schemas.openxmlformats.org/officeDocument/2006/relationships/hyperlink" Target="http://pl.wikipedia.org/wiki/Rynek_(ekonomia)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ykl życia produkt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Cykl życia produkt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– pojęcie z teorii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rketing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oznaczające okres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którym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produk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 jest obecny na </a:t>
            </a:r>
            <a:r>
              <a:rPr b="0" lang="pl-PL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rynku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 Innymi słowy jest to rynkowy cykl życia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Cykl ten składa się z czterech faz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prowadzenie na ryne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wzrost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nasycenie / dojrzałość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spcBef>
                <a:spcPts val="374"/>
              </a:spcBef>
              <a:buClr>
                <a:srgbClr val="cc9900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spadek sprzedaż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060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068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141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076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084640"/>
            <a:ext cx="136836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5157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wstaw ilustracj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6308640"/>
            <a:ext cx="748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: http://pl.wikipedia.org/wiki/Cykl_%C5%BCycia_produ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9:34:06Z</dcterms:created>
  <dc:creator>Kasia</dc:creator>
  <dc:description/>
  <dc:language>en-US</dc:language>
  <cp:lastModifiedBy>Kasia</cp:lastModifiedBy>
  <dcterms:modified xsi:type="dcterms:W3CDTF">2013-01-27T19:40:55Z</dcterms:modified>
  <cp:revision>1</cp:revision>
  <dc:subject/>
  <dc:title>Cykl życia produktu</dc:title>
</cp:coreProperties>
</file>