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21A5-D366-4258-90EC-E974123D1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3401-A734-465C-BA4A-935208DC7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4DE9-A940-412C-BDCB-50F2A0446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916A-ED79-4F49-B0A1-1C7350499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41CCD-B430-49BD-A129-5E9D79DAE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4C5FC-A513-4FCE-9D99-FEFF37D83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50F74-9CA4-4E9D-88E9-3EB5F1261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6DFDA-415F-457B-B519-CA362413F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6E67D-EF74-4D04-8C22-DF3E8EDA8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622F3-8EAF-4B03-A1FA-8CD177014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4BA42-9C3C-4050-BFEC-2C0DC8AD7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B521-F8F1-4F3D-8DE9-5E3EB9819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B2687-C860-487E-81DD-FD8BE4FA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E7B7D-FF4D-4472-A951-75607253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E7081-3C66-40F8-BC2D-8C9EF3690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BD32E-E32D-48C2-921E-348AABFD8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41A5B-9EC4-44F8-850E-5003EC2DC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41C8-AADA-4417-B45D-2D3CCEA79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F757-A5F6-4722-90F0-2623C7A8D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9918-4305-495E-BF8B-6E2E2CC6B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B96C-1E38-4E66-A122-6CF00465C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56E8-677A-4C5E-AF6D-4CF633B3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80F1-88E5-42BE-BB03-486A3D15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062C-7647-493F-93ED-A9FED599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F2E16-5C1F-499F-BD86-A252FE314F39}" type="slidenum">
              <a:rPr b="0" lang="pl-P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C9632-B61D-4190-B2FA-4B1394C402ED}" type="slidenum">
              <a:rPr b="0" lang="pl-P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l.wikipedia.org/wiki/Marketing" TargetMode="External"/><Relationship Id="rId2" Type="http://schemas.openxmlformats.org/officeDocument/2006/relationships/hyperlink" Target="http://pl.wikipedia.org/wiki/Produkt_(marketing)" TargetMode="External"/><Relationship Id="rId3" Type="http://schemas.openxmlformats.org/officeDocument/2006/relationships/hyperlink" Target="http://pl.wikipedia.org/wiki/Rynek_(ekonomia)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Arial"/>
              </a:rPr>
              <a:t>Cykl życia produktu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Cykl życia produktu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 – pojęcie z teorii </a:t>
            </a:r>
            <a:r>
              <a:rPr b="0" lang="pl-PL" sz="16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marketingu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 oznaczające okres,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którym </a:t>
            </a:r>
            <a:r>
              <a:rPr b="0" lang="pl-PL" sz="16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produkt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 jest obecny na </a:t>
            </a:r>
            <a:r>
              <a:rPr b="0" lang="pl-PL" sz="16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rynku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 Innymi słowy jest to rynkowy cykl życia produk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Cykl ten składa się z czterech faz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-381240">
              <a:spcBef>
                <a:spcPts val="374"/>
              </a:spcBef>
              <a:buClr>
                <a:srgbClr val="cc99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prowadzenie na ryne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-381240">
              <a:spcBef>
                <a:spcPts val="374"/>
              </a:spcBef>
              <a:buClr>
                <a:srgbClr val="cc99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zrost sprzedaż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-381240">
              <a:spcBef>
                <a:spcPts val="374"/>
              </a:spcBef>
              <a:buClr>
                <a:srgbClr val="cc99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nasycenie / dojrzałość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-381240">
              <a:spcBef>
                <a:spcPts val="374"/>
              </a:spcBef>
              <a:buClr>
                <a:srgbClr val="cc99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spadek sprzedaż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2060640"/>
            <a:ext cx="1368360" cy="9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213372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 wstaw ilustracj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3068640"/>
            <a:ext cx="1368360" cy="9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314172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 wstaw ilustracj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4076640"/>
            <a:ext cx="1368360" cy="9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0920" y="414972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 wstaw ilustracj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5084640"/>
            <a:ext cx="1368360" cy="9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0920" y="515772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 wstaw ilustracj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6308640"/>
            <a:ext cx="748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Źródło: http://pl.wikipedia.org/wiki/Cykl_%C5%BCycia_produkt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7T19:34:06Z</dcterms:created>
  <dc:creator>Kasia</dc:creator>
  <dc:description/>
  <dc:language>en-US</dc:language>
  <cp:lastModifiedBy>Kasia</cp:lastModifiedBy>
  <dcterms:modified xsi:type="dcterms:W3CDTF">2013-01-27T19:40:55Z</dcterms:modified>
  <cp:revision>1</cp:revision>
  <dc:subject/>
  <dc:title>Cykl życia produktu</dc:title>
</cp:coreProperties>
</file>