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9.jpeg" ContentType="image/jpeg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EAC-C53C-4D53-A311-E3095DCF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881B-834B-496C-AD70-3F9B2E5A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E00D-4B4D-4586-B9D6-71EA5574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111D-A829-4A75-A24A-96590CB3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E2FE-AA24-4FFD-A17B-742CA67D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4EDA-1EE0-4F01-BC48-D81CEA5A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8FE0-499B-44C1-8285-8DD761DC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FF4B-F5D8-485A-BA1F-61B27F8E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21FD-C7A9-4B04-A102-29D5C940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37F0-9CF1-445C-9BCA-7F2A00B3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AFB6-9C5A-4335-B353-29EA857B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CA2-0B9C-4894-B2B2-171DA702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10D7-652E-40E6-A913-4A2BC35F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A2B4-E36A-4ED9-A264-1911B9BC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2214-2FDA-45F4-94C4-8EDCF595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26F5-AAFB-4481-9279-4174F88A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21AD-A50B-4639-98E8-88EDA775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12786-7B7A-402A-93A3-44332914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22212-244F-4D2C-90A1-50F944BD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8E9B0-752C-4735-BFEE-A95F30B1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C7028-1EF6-4B87-999E-BDDCE535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DD12C-896C-4C5E-98BA-F14A0A4A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AD6-84D5-4E6C-AF8F-B0C557DC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CDE4C-1938-425E-990C-338234B2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CB963-5433-4FC5-B62D-8755864B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C3D7D-A9DC-4416-9273-2B37B74A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0637E-5766-425C-A13D-19E5E47C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637C7-3B05-48CA-8303-E79E5752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496CE-A5E9-4268-A0F1-C59FAFFA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C4681-05F3-41E8-A93D-02E64A1F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F7BF0-829B-4100-82BC-B3B1E8BC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DEA86-8295-4BCF-94A4-594F74AE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6BD2A-F363-4841-8A7B-ACB67C2A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294-3366-4AB8-B98F-889A7692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C7FE3-6CD2-41BE-97CC-7F7BD2AC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6B5E5-234F-45A7-BB9D-9B4898E0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9A449-CBFA-40A9-AE06-4A674040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9AC88-282D-4B64-9039-6D6E375C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4F903-EC7A-43C9-87C4-1674BDCA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4E82E-E4E6-49C4-B5B9-D2256153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0EEB2-1CC9-41F6-AD0B-D284AD14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702C0-DB34-4FF8-9F30-ED0E43DE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9CAD6-638E-4B99-91FA-86E0AC96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96FC4-7696-44F0-8203-DF5FD13F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5A2-A348-4922-8460-57C9DA7C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21BE8-8263-4518-92F2-DB55F4DE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2375D-BEF7-4F03-965E-E6E06EBB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E017A-AA71-48FD-8561-4C7BF1EF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B1B28-368C-475D-B322-3A321165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BCBDD-8E77-4D8A-A488-F2E61D15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8F048-5FF5-423D-8D24-E81812B5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4DD9B-3988-481E-923F-CEB0A828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30AA6-AA7A-4E35-B0D8-F658BD03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2F35B-3623-4ABB-9E5C-AB183CC0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C3300-327E-488F-9F71-CE21656B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1EE-000A-4328-98CE-333CE84D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8BA26-D14D-46F2-A7E0-50C16DA4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0D1-1A8F-4EFD-8709-C6CABB9F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355-46EE-4894-A5B5-24329096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188-9C00-4FF7-853D-4F299A0F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F34C-69BE-4C81-B022-306DB3FF48DD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Prostokąt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Prostokąt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Łącznik prosty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1978-6472-48A1-B95F-F90B8BFF59B3}" type="slidenum">
              <a:rPr b="0" lang="pl-PL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B915-0FE6-4E24-ACEA-5A43839A6E5E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ostokąt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9C5D-A10C-4179-9D4C-5A7B0DAD0BE6}" type="slidenum">
              <a:rPr b="0" lang="pl-PL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BCCA-CCF4-46AA-8200-C177DBA6E78B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ytuł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2276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Trebuchet MS"/>
              </a:rPr>
              <a:t>Skuteczne przekazywanie informacji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ytuł 1" descr=""/>
          <p:cNvPicPr/>
          <p:nvPr/>
        </p:nvPicPr>
        <p:blipFill>
          <a:blip r:embed="rId1"/>
          <a:stretch/>
        </p:blipFill>
        <p:spPr>
          <a:xfrm>
            <a:off x="317520" y="225360"/>
            <a:ext cx="7381800" cy="1238400"/>
          </a:xfrm>
          <a:prstGeom prst="rect">
            <a:avLst/>
          </a:prstGeom>
          <a:ln w="0">
            <a:noFill/>
          </a:ln>
        </p:spPr>
      </p:pic>
      <p:pic>
        <p:nvPicPr>
          <p:cNvPr id="223" name="Symbol zastępczy zawartości 3" descr=""/>
          <p:cNvPicPr/>
          <p:nvPr/>
        </p:nvPicPr>
        <p:blipFill>
          <a:blip r:embed="rId2"/>
          <a:stretch/>
        </p:blipFill>
        <p:spPr>
          <a:xfrm>
            <a:off x="2414520" y="835200"/>
            <a:ext cx="5510160" cy="5773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MK\Ustawienia lokalne\Temporary Internet Files\Content.IE5\RNQRUGPE\MP900430530[1].jpg"/>
          <p:cNvPicPr/>
          <p:nvPr/>
        </p:nvPicPr>
        <p:blipFill>
          <a:blip r:embed="rId3"/>
          <a:stretch/>
        </p:blipFill>
        <p:spPr>
          <a:xfrm>
            <a:off x="422280" y="2762280"/>
            <a:ext cx="1765440" cy="1177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:\Documents and Settings\MK\Ustawienia lokalne\Temporary Internet Files\Content.IE5\I715L005\MP900439397[1].jpg"/>
          <p:cNvPicPr/>
          <p:nvPr/>
        </p:nvPicPr>
        <p:blipFill>
          <a:blip r:embed="rId4"/>
          <a:stretch/>
        </p:blipFill>
        <p:spPr>
          <a:xfrm>
            <a:off x="433440" y="909720"/>
            <a:ext cx="1762200" cy="1176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C:\Documents and Settings\MK\Ustawienia lokalne\Temporary Internet Files\Content.IE5\RNQRUGPE\MP900386353[1].jpg"/>
          <p:cNvPicPr/>
          <p:nvPr/>
        </p:nvPicPr>
        <p:blipFill>
          <a:blip r:embed="rId5"/>
          <a:stretch/>
        </p:blipFill>
        <p:spPr>
          <a:xfrm>
            <a:off x="468360" y="4581360"/>
            <a:ext cx="1763640" cy="1170000"/>
          </a:xfrm>
          <a:prstGeom prst="rect">
            <a:avLst/>
          </a:prstGeom>
          <a:ln w="0">
            <a:noFill/>
          </a:ln>
        </p:spPr>
      </p:pic>
      <p:sp>
        <p:nvSpPr>
          <p:cNvPr id="227" name="Prostokąt 8"/>
          <p:cNvSpPr/>
          <p:nvPr/>
        </p:nvSpPr>
        <p:spPr>
          <a:xfrm>
            <a:off x="395280" y="5805360"/>
            <a:ext cx="22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Do dzieła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rostokąt 9"/>
          <p:cNvSpPr/>
          <p:nvPr/>
        </p:nvSpPr>
        <p:spPr>
          <a:xfrm>
            <a:off x="324000" y="2133720"/>
            <a:ext cx="230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Planuje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rostokąt 10"/>
          <p:cNvSpPr/>
          <p:nvPr/>
        </p:nvSpPr>
        <p:spPr>
          <a:xfrm>
            <a:off x="431280" y="3959280"/>
            <a:ext cx="190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Jeden obraz to tysiąc słó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grpSp>
        <p:nvGrpSpPr>
          <p:cNvPr id="231" name="Grupa 24"/>
          <p:cNvGrpSpPr/>
          <p:nvPr/>
        </p:nvGrpSpPr>
        <p:grpSpPr>
          <a:xfrm>
            <a:off x="468360" y="1413000"/>
            <a:ext cx="3166920" cy="2160360"/>
            <a:chOff x="468360" y="1413000"/>
            <a:chExt cx="3166920" cy="2160360"/>
          </a:xfrm>
        </p:grpSpPr>
        <p:sp>
          <p:nvSpPr>
            <p:cNvPr id="232" name="pole tekstowe 5"/>
            <p:cNvSpPr/>
            <p:nvPr/>
          </p:nvSpPr>
          <p:spPr>
            <a:xfrm>
              <a:off x="468360" y="1413000"/>
              <a:ext cx="3166920" cy="2160360"/>
            </a:xfrm>
            <a:prstGeom prst="rect">
              <a:avLst/>
            </a:prstGeom>
            <a:solidFill>
              <a:srgbClr val="dec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Cel prezentacj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3" descr="C:\Documents and Settings\MK\Ustawienia lokalne\Temporary Internet Files\Content.IE5\3JSHBOGL\MP900431735[1].jpg"/>
            <p:cNvPicPr/>
            <p:nvPr/>
          </p:nvPicPr>
          <p:blipFill>
            <a:blip r:embed="rId2"/>
            <a:stretch/>
          </p:blipFill>
          <p:spPr>
            <a:xfrm>
              <a:off x="2339640" y="2205000"/>
              <a:ext cx="122364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" descr="C:\Documents and Settings\MK\Ustawienia lokalne\Temporary Internet Files\Content.IE5\AUXUKJDN\MP900386406[1].jpg"/>
            <p:cNvPicPr/>
            <p:nvPr/>
          </p:nvPicPr>
          <p:blipFill>
            <a:blip r:embed="rId3"/>
            <a:stretch/>
          </p:blipFill>
          <p:spPr>
            <a:xfrm>
              <a:off x="1260000" y="1869120"/>
              <a:ext cx="119736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2" descr="C:\Documents and Settings\MK\Ustawienia lokalne\Temporary Internet Files\Content.IE5\RNQRUGPE\MP900400225[1].jpg"/>
            <p:cNvPicPr/>
            <p:nvPr/>
          </p:nvPicPr>
          <p:blipFill>
            <a:blip r:embed="rId4"/>
            <a:stretch/>
          </p:blipFill>
          <p:spPr>
            <a:xfrm>
              <a:off x="540000" y="2277000"/>
              <a:ext cx="978480" cy="122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Grupa 25"/>
          <p:cNvGrpSpPr/>
          <p:nvPr/>
        </p:nvGrpSpPr>
        <p:grpSpPr>
          <a:xfrm>
            <a:off x="468360" y="3860640"/>
            <a:ext cx="3166920" cy="2160720"/>
            <a:chOff x="468360" y="3860640"/>
            <a:chExt cx="3166920" cy="2160720"/>
          </a:xfrm>
        </p:grpSpPr>
        <p:sp>
          <p:nvSpPr>
            <p:cNvPr id="237" name="pole tekstowe 6"/>
            <p:cNvSpPr/>
            <p:nvPr/>
          </p:nvSpPr>
          <p:spPr>
            <a:xfrm>
              <a:off x="468360" y="3860640"/>
              <a:ext cx="3166920" cy="2160720"/>
            </a:xfrm>
            <a:prstGeom prst="rect">
              <a:avLst/>
            </a:prstGeom>
            <a:solidFill>
              <a:srgbClr val="dec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Odbior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1" descr="C:\Documents and Settings\MK\Ustawienia lokalne\Temporary Internet Files\Content.IE5\I715L005\MP900422581[1].jpg"/>
            <p:cNvPicPr/>
            <p:nvPr/>
          </p:nvPicPr>
          <p:blipFill>
            <a:blip r:embed="rId5"/>
            <a:stretch/>
          </p:blipFill>
          <p:spPr>
            <a:xfrm>
              <a:off x="2052000" y="4220640"/>
              <a:ext cx="1563840" cy="12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2" descr="C:\Documents and Settings\MK\Ustawienia lokalne\Temporary Internet Files\Content.IE5\3JSHBOGL\MP900409652[1].jpg"/>
            <p:cNvPicPr/>
            <p:nvPr/>
          </p:nvPicPr>
          <p:blipFill>
            <a:blip r:embed="rId6"/>
            <a:stretch/>
          </p:blipFill>
          <p:spPr>
            <a:xfrm>
              <a:off x="1260000" y="4797000"/>
              <a:ext cx="122364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9" descr="C:\Documents and Settings\MK\Ustawienia lokalne\Temporary Internet Files\Content.IE5\AUXUKJDN\MP900439399[1].jpg"/>
            <p:cNvPicPr/>
            <p:nvPr/>
          </p:nvPicPr>
          <p:blipFill>
            <a:blip r:embed="rId7"/>
            <a:stretch/>
          </p:blipFill>
          <p:spPr>
            <a:xfrm>
              <a:off x="540000" y="4220640"/>
              <a:ext cx="935640" cy="140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Strzałka w prawo 18"/>
          <p:cNvSpPr/>
          <p:nvPr/>
        </p:nvSpPr>
        <p:spPr>
          <a:xfrm>
            <a:off x="3780000" y="4437000"/>
            <a:ext cx="1079280" cy="8636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ffffff"/>
                </a:solidFill>
                <a:latin typeface="Trebuchet MS"/>
              </a:rPr>
              <a:t>Dostos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ole tekstowe 19"/>
          <p:cNvSpPr/>
          <p:nvPr/>
        </p:nvSpPr>
        <p:spPr>
          <a:xfrm>
            <a:off x="5148360" y="21286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ilość tekstu na slajd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ole tekstowe 20"/>
          <p:cNvSpPr/>
          <p:nvPr/>
        </p:nvSpPr>
        <p:spPr>
          <a:xfrm>
            <a:off x="5148360" y="1700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liczbę slajd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ole tekstowe 21"/>
          <p:cNvSpPr/>
          <p:nvPr/>
        </p:nvSpPr>
        <p:spPr>
          <a:xfrm>
            <a:off x="5076720" y="42861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słownic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ole tekstowe 23"/>
          <p:cNvSpPr/>
          <p:nvPr/>
        </p:nvSpPr>
        <p:spPr>
          <a:xfrm>
            <a:off x="5076720" y="479124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kres trudn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załka w prawo 26"/>
          <p:cNvSpPr/>
          <p:nvPr/>
        </p:nvSpPr>
        <p:spPr>
          <a:xfrm>
            <a:off x="3851280" y="2205000"/>
            <a:ext cx="1081080" cy="86364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ffffff"/>
                </a:solidFill>
                <a:latin typeface="Trebuchet MS"/>
              </a:rPr>
              <a:t>Dostos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ole tekstowe 27"/>
          <p:cNvSpPr/>
          <p:nvPr/>
        </p:nvSpPr>
        <p:spPr>
          <a:xfrm>
            <a:off x="5076720" y="5373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grafik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ole tekstowe 28"/>
          <p:cNvSpPr/>
          <p:nvPr/>
        </p:nvSpPr>
        <p:spPr>
          <a:xfrm>
            <a:off x="5183280" y="26128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rodzaj i szybkość anim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32" descr="Obraz3.jpg"/>
          <p:cNvPicPr/>
          <p:nvPr/>
        </p:nvPicPr>
        <p:blipFill>
          <a:blip r:embed="rId8"/>
          <a:stretch/>
        </p:blipFill>
        <p:spPr>
          <a:xfrm>
            <a:off x="8151840" y="68400"/>
            <a:ext cx="10112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pic>
        <p:nvPicPr>
          <p:cNvPr id="251" name="Obraz 3" descr="Obraz4.jpg"/>
          <p:cNvPicPr/>
          <p:nvPr/>
        </p:nvPicPr>
        <p:blipFill>
          <a:blip r:embed="rId2"/>
          <a:stretch/>
        </p:blipFill>
        <p:spPr>
          <a:xfrm>
            <a:off x="8153280" y="1440"/>
            <a:ext cx="1011240" cy="2059200"/>
          </a:xfrm>
          <a:prstGeom prst="rect">
            <a:avLst/>
          </a:prstGeom>
          <a:ln w="0">
            <a:noFill/>
          </a:ln>
        </p:spPr>
      </p:pic>
      <p:sp>
        <p:nvSpPr>
          <p:cNvPr id="252" name="pole tekstowe 4"/>
          <p:cNvSpPr/>
          <p:nvPr/>
        </p:nvSpPr>
        <p:spPr>
          <a:xfrm>
            <a:off x="179280" y="1484280"/>
            <a:ext cx="4032360" cy="2449440"/>
          </a:xfrm>
          <a:prstGeom prst="rect">
            <a:avLst/>
          </a:prstGeom>
          <a:noFill/>
          <a:ln w="28440">
            <a:solidFill>
              <a:srgbClr val="f9b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ybierz rodzaj motywu oraz kolorystykę i stosuj je konsekwent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ole tekstowe 5"/>
          <p:cNvSpPr/>
          <p:nvPr/>
        </p:nvSpPr>
        <p:spPr>
          <a:xfrm>
            <a:off x="179280" y="4076640"/>
            <a:ext cx="4032360" cy="2376720"/>
          </a:xfrm>
          <a:prstGeom prst="rect">
            <a:avLst/>
          </a:prstGeom>
          <a:noFill/>
          <a:ln w="2844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stanów się, w  jaki prosty sposób można zobrazować tre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ole tekstowe 6"/>
          <p:cNvSpPr/>
          <p:nvPr/>
        </p:nvSpPr>
        <p:spPr>
          <a:xfrm>
            <a:off x="4427640" y="1484280"/>
            <a:ext cx="3600360" cy="4969080"/>
          </a:xfrm>
          <a:prstGeom prst="rect">
            <a:avLst/>
          </a:prstGeom>
          <a:noFill/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stosuj pomoce grafi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Smar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ykre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Kształ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dję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2738520" cy="936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4"/>
          <a:stretch/>
        </p:blipFill>
        <p:spPr>
          <a:xfrm>
            <a:off x="3094200" y="2205000"/>
            <a:ext cx="985680" cy="1560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5"/>
          <a:stretch/>
        </p:blipFill>
        <p:spPr>
          <a:xfrm>
            <a:off x="4716360" y="4221000"/>
            <a:ext cx="1943280" cy="1330560"/>
          </a:xfrm>
          <a:prstGeom prst="rect">
            <a:avLst/>
          </a:prstGeom>
          <a:ln w="0">
            <a:noFill/>
          </a:ln>
        </p:spPr>
      </p:pic>
      <p:grpSp>
        <p:nvGrpSpPr>
          <p:cNvPr id="258" name="Grupa 19"/>
          <p:cNvGrpSpPr/>
          <p:nvPr/>
        </p:nvGrpSpPr>
        <p:grpSpPr>
          <a:xfrm>
            <a:off x="5651640" y="1951200"/>
            <a:ext cx="2286000" cy="2269800"/>
            <a:chOff x="5651640" y="1951200"/>
            <a:chExt cx="2286000" cy="2269800"/>
          </a:xfrm>
        </p:grpSpPr>
        <p:pic>
          <p:nvPicPr>
            <p:cNvPr id="259" name="Picture 4" descr=""/>
            <p:cNvPicPr/>
            <p:nvPr/>
          </p:nvPicPr>
          <p:blipFill>
            <a:blip r:embed="rId6"/>
            <a:stretch/>
          </p:blipFill>
          <p:spPr>
            <a:xfrm>
              <a:off x="5717160" y="1951200"/>
              <a:ext cx="2192760" cy="121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Diagram 12" descr=""/>
            <p:cNvPicPr/>
            <p:nvPr/>
          </p:nvPicPr>
          <p:blipFill>
            <a:blip r:embed="rId7"/>
            <a:stretch/>
          </p:blipFill>
          <p:spPr>
            <a:xfrm>
              <a:off x="6611040" y="3204000"/>
              <a:ext cx="132660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Diagram 13" descr=""/>
            <p:cNvPicPr/>
            <p:nvPr/>
          </p:nvPicPr>
          <p:blipFill>
            <a:blip r:embed="rId8"/>
            <a:stretch/>
          </p:blipFill>
          <p:spPr>
            <a:xfrm>
              <a:off x="5651640" y="3264480"/>
              <a:ext cx="1178640" cy="92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2" name="Grupa 21"/>
          <p:cNvGrpSpPr/>
          <p:nvPr/>
        </p:nvGrpSpPr>
        <p:grpSpPr>
          <a:xfrm>
            <a:off x="5842080" y="5694480"/>
            <a:ext cx="1944720" cy="696600"/>
            <a:chOff x="5842080" y="5694480"/>
            <a:chExt cx="1944720" cy="696600"/>
          </a:xfrm>
        </p:grpSpPr>
        <p:sp>
          <p:nvSpPr>
            <p:cNvPr id="263" name="Strzałka kolista 17"/>
            <p:cNvSpPr/>
            <p:nvPr/>
          </p:nvSpPr>
          <p:spPr>
            <a:xfrm rot="10800000">
              <a:off x="6562440" y="5814720"/>
              <a:ext cx="647640" cy="576360"/>
            </a:xfrm>
            <a:custGeom>
              <a:avLst/>
              <a:gdLst/>
              <a:ahLst/>
              <a:rect l="l" t="t" r="r" b="b"/>
              <a:pathLst>
                <a:path w="647543" h="576201">
                  <a:moveTo>
                    <a:pt x="36013" y="288101"/>
                  </a:moveTo>
                  <a:cubicBezTo>
                    <a:pt x="36013" y="161135"/>
                    <a:pt x="143800" y="53983"/>
                    <a:pt x="287581" y="38015"/>
                  </a:cubicBezTo>
                  <a:cubicBezTo>
                    <a:pt x="423451" y="22925"/>
                    <a:pt x="552635" y="93817"/>
                    <a:pt x="596426" y="207499"/>
                  </a:cubicBezTo>
                  <a:lnTo>
                    <a:pt x="629372" y="207498"/>
                  </a:lnTo>
                  <a:lnTo>
                    <a:pt x="575518" y="288100"/>
                  </a:lnTo>
                  <a:lnTo>
                    <a:pt x="485321" y="207498"/>
                  </a:lnTo>
                  <a:lnTo>
                    <a:pt x="516684" y="207498"/>
                  </a:lnTo>
                  <a:cubicBezTo>
                    <a:pt x="474282" y="136800"/>
                    <a:pt x="381587" y="97458"/>
                    <a:pt x="288162" y="110508"/>
                  </a:cubicBezTo>
                  <a:cubicBezTo>
                    <a:pt x="184203" y="125029"/>
                    <a:pt x="108037" y="200125"/>
                    <a:pt x="108037" y="288101"/>
                  </a:cubicBezTo>
                  <a:lnTo>
                    <a:pt x="36013" y="288101"/>
                  </a:lnTo>
                  <a:close/>
                </a:path>
              </a:pathLst>
            </a:custGeom>
            <a:solidFill>
              <a:srgbClr val="de6c36"/>
            </a:solidFill>
            <a:ln w="39960">
              <a:solidFill>
                <a:srgbClr val="b24d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upa 20"/>
            <p:cNvGrpSpPr/>
            <p:nvPr/>
          </p:nvGrpSpPr>
          <p:grpSpPr>
            <a:xfrm>
              <a:off x="5842080" y="5694480"/>
              <a:ext cx="1944720" cy="614520"/>
              <a:chOff x="5842080" y="5694480"/>
              <a:chExt cx="1944720" cy="614520"/>
            </a:xfrm>
          </p:grpSpPr>
          <p:sp>
            <p:nvSpPr>
              <p:cNvPr id="265" name="Pagon 15"/>
              <p:cNvSpPr/>
              <p:nvPr/>
            </p:nvSpPr>
            <p:spPr>
              <a:xfrm>
                <a:off x="5842080" y="5803920"/>
                <a:ext cx="647640" cy="50508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505080"/>
                  <a:gd name="textAreaBottom" fmla="*/ 505440 h 50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181" y="0"/>
                    </a:lnTo>
                    <a:lnTo>
                      <a:pt x="21600" y="10800"/>
                    </a:lnTo>
                    <a:lnTo>
                      <a:pt x="13181" y="21600"/>
                    </a:lnTo>
                    <a:lnTo>
                      <a:pt x="0" y="21600"/>
                    </a:lnTo>
                    <a:lnTo>
                      <a:pt x="8419" y="10800"/>
                    </a:lnTo>
                    <a:close/>
                  </a:path>
                </a:pathLst>
              </a:custGeom>
              <a:solidFill>
                <a:srgbClr val="f9b639"/>
              </a:solidFill>
              <a:ln w="39960">
                <a:solidFill>
                  <a:srgbClr val="df93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Strzałka kolista 16"/>
              <p:cNvSpPr/>
              <p:nvPr/>
            </p:nvSpPr>
            <p:spPr>
              <a:xfrm>
                <a:off x="6562800" y="5694480"/>
                <a:ext cx="647640" cy="576720"/>
              </a:xfrm>
              <a:custGeom>
                <a:avLst/>
                <a:gdLst/>
                <a:ahLst/>
                <a:rect l="l" t="t" r="r" b="b"/>
                <a:pathLst>
                  <a:path w="647543" h="576201">
                    <a:moveTo>
                      <a:pt x="36013" y="288101"/>
                    </a:moveTo>
                    <a:cubicBezTo>
                      <a:pt x="36013" y="161135"/>
                      <a:pt x="143800" y="53983"/>
                      <a:pt x="287581" y="38015"/>
                    </a:cubicBezTo>
                    <a:cubicBezTo>
                      <a:pt x="423451" y="22925"/>
                      <a:pt x="552635" y="93817"/>
                      <a:pt x="596426" y="207499"/>
                    </a:cubicBezTo>
                    <a:lnTo>
                      <a:pt x="629372" y="207498"/>
                    </a:lnTo>
                    <a:lnTo>
                      <a:pt x="575518" y="288100"/>
                    </a:lnTo>
                    <a:lnTo>
                      <a:pt x="485321" y="207498"/>
                    </a:lnTo>
                    <a:lnTo>
                      <a:pt x="516684" y="207498"/>
                    </a:lnTo>
                    <a:cubicBezTo>
                      <a:pt x="474282" y="136800"/>
                      <a:pt x="381587" y="97458"/>
                      <a:pt x="288162" y="110508"/>
                    </a:cubicBezTo>
                    <a:cubicBezTo>
                      <a:pt x="184203" y="125029"/>
                      <a:pt x="108037" y="200125"/>
                      <a:pt x="108037" y="288101"/>
                    </a:cubicBezTo>
                    <a:lnTo>
                      <a:pt x="36013" y="288101"/>
                    </a:lnTo>
                    <a:close/>
                  </a:path>
                </a:pathLst>
              </a:custGeom>
              <a:solidFill>
                <a:srgbClr val="de6c36"/>
              </a:solidFill>
              <a:ln w="39960">
                <a:solidFill>
                  <a:srgbClr val="b24d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Zagięty narożnik 18"/>
              <p:cNvSpPr/>
              <p:nvPr/>
            </p:nvSpPr>
            <p:spPr>
              <a:xfrm>
                <a:off x="7355160" y="5803920"/>
                <a:ext cx="431640" cy="433440"/>
              </a:xfrm>
              <a:prstGeom prst="foldedCorner">
                <a:avLst>
                  <a:gd name="adj" fmla="val 16666"/>
                </a:avLst>
              </a:prstGeom>
              <a:solidFill>
                <a:srgbClr val="cda3d6"/>
              </a:solidFill>
              <a:ln w="39960">
                <a:solidFill>
                  <a:srgbClr val="ac66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Prostokąt 23"/>
          <p:cNvSpPr/>
          <p:nvPr/>
        </p:nvSpPr>
        <p:spPr>
          <a:xfrm>
            <a:off x="250920" y="5013360"/>
            <a:ext cx="16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rójkąt równoramienny 24"/>
          <p:cNvSpPr/>
          <p:nvPr/>
        </p:nvSpPr>
        <p:spPr>
          <a:xfrm rot="5400000">
            <a:off x="1691280" y="5301000"/>
            <a:ext cx="863640" cy="144720"/>
          </a:xfrm>
          <a:prstGeom prst="triangle">
            <a:avLst>
              <a:gd name="adj" fmla="val 50000"/>
            </a:avLst>
          </a:prstGeom>
          <a:solidFill>
            <a:srgbClr val="eba786"/>
          </a:solidFill>
          <a:ln w="3996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Łącznik prosty 26"/>
          <p:cNvSpPr/>
          <p:nvPr/>
        </p:nvSpPr>
        <p:spPr>
          <a:xfrm>
            <a:off x="395280" y="5084640"/>
            <a:ext cx="115236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Łącznik prosty 27"/>
          <p:cNvSpPr/>
          <p:nvPr/>
        </p:nvSpPr>
        <p:spPr>
          <a:xfrm flipH="1">
            <a:off x="394920" y="5084640"/>
            <a:ext cx="115236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Diagram 34" descr=""/>
          <p:cNvPicPr/>
          <p:nvPr/>
        </p:nvPicPr>
        <p:blipFill>
          <a:blip r:embed="rId9"/>
          <a:stretch/>
        </p:blipFill>
        <p:spPr>
          <a:xfrm>
            <a:off x="2468520" y="4797360"/>
            <a:ext cx="1481040" cy="1365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C:\Documents and Settings\MK\Ustawienia lokalne\Temporary Internet Files\Content.IE5\I715L005\MP900401828[1].jpg"/>
          <p:cNvPicPr/>
          <p:nvPr/>
        </p:nvPicPr>
        <p:blipFill>
          <a:blip r:embed="rId10"/>
          <a:stretch/>
        </p:blipFill>
        <p:spPr>
          <a:xfrm>
            <a:off x="6950160" y="4363920"/>
            <a:ext cx="7189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68360" y="1645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Zachowaj przejrzystość prezentacji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Nie przesadzaj z ilością tekstu i animacji na slajdach, aby odbiorca nie czuł się przytłoczony nadmiarem informacj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Dopracuj szczegóły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Stosuj jednolite czcionki i wyrównaj obrazy – różne czcionki i nierówno ustawione rysunki przeszkadzają w odbiorze i podważają profesjonalizm prezentacj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Usuń bękar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Do przeniesienia spójników pozostających na końcu wiersza, stosuj ręczny podział wiersza (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Shift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Enter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Dbaj o rozmiar prezentacji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24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Skompresuj prezentację, jeśli zawiera dużo grafiki. 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76" name="Obraz 3" descr="Obraz5.jpg"/>
          <p:cNvPicPr/>
          <p:nvPr/>
        </p:nvPicPr>
        <p:blipFill>
          <a:blip r:embed="rId2"/>
          <a:stretch/>
        </p:blipFill>
        <p:spPr>
          <a:xfrm>
            <a:off x="8153280" y="-7920"/>
            <a:ext cx="1009800" cy="20588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9"/>
          <p:cNvSpPr/>
          <p:nvPr/>
        </p:nvSpPr>
        <p:spPr>
          <a:xfrm rot="1207800">
            <a:off x="6371640" y="19047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b13f9a"/>
                </a:solidFill>
                <a:latin typeface="Arial"/>
              </a:rPr>
              <a:t>Mniej znaczy więcej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 rot="1207800">
            <a:off x="6235560" y="4398480"/>
            <a:ext cx="150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b13f9a"/>
                </a:solidFill>
                <a:latin typeface="Arial"/>
              </a:rPr>
              <a:t>Shift</a:t>
            </a:r>
            <a:r>
              <a:rPr b="0" lang="pl-PL" sz="1400" spc="-1" strike="noStrike">
                <a:solidFill>
                  <a:srgbClr val="b13f9a"/>
                </a:solidFill>
                <a:latin typeface="Arial"/>
              </a:rPr>
              <a:t>+</a:t>
            </a:r>
            <a:r>
              <a:rPr b="1" lang="pl-PL" sz="1400" spc="-1" strike="noStrike">
                <a:solidFill>
                  <a:srgbClr val="b13f9a"/>
                </a:solidFill>
                <a:latin typeface="Arial"/>
              </a:rPr>
              <a:t>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4T12:28:09Z</dcterms:created>
  <dc:creator>Twoja nazwa użytkownika</dc:creator>
  <dc:description/>
  <dc:language>en-US</dc:language>
  <cp:lastModifiedBy>MK</cp:lastModifiedBy>
  <dcterms:modified xsi:type="dcterms:W3CDTF">2013-04-23T19:34:22Z</dcterms:modified>
  <cp:revision>68</cp:revision>
  <dc:subject/>
  <dc:title>Tworzenie prezentacji</dc:title>
</cp:coreProperties>
</file>