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9CB9-A990-4A0C-9C37-4DCC1657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3267-DC84-4F2E-BB99-5C955036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D628-6C8B-42C0-9134-DE74CE8B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947A-FAC3-4DF0-A894-F8B96C44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F759-7A84-468B-A46F-1CD56E3B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6C6A-E7AE-4693-8EE8-562BFF6D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903F-210A-4535-9381-3A23D8D3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B622-52C1-496C-9CDA-0812967A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7C12-860A-466D-8E67-A8DCC786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B982-72A6-4200-9D8C-29AD417A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98D9-DC0C-4A5A-A6FA-AA089887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1E24-6096-4F6D-8A35-4F4B99D7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820B-5ABE-4EE3-8796-2EAEFBE1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2A28-FFEA-4CE3-AF8A-556F26C8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EB97-E6EA-42A6-824A-01B693E5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F283-F9E8-4979-AC5B-775165DE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9087-B6BD-4EE5-8D28-F6FB03D8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3E39-36FC-4CD7-9B66-BD9133D7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7A77-29DB-4E6C-8861-70296607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BCAB-01E0-4933-91E8-DE1A239D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055C-1603-43E9-A767-A5EEC095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B401-1496-4E10-B223-885BA50C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7468-1B5E-4E83-801D-2FE51BC1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EDF5-1B94-4E53-B32A-2CADFE77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3AD3-2428-4124-AAEC-7629DA6C5025}" type="slidenum">
              <a:rPr b="0" lang="pl-P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606A-E5C3-4974-A31D-4485EA8B94BB}" type="slidenum">
              <a:rPr b="0" lang="pl-P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l.wikipedia.org/wiki/Marketing" TargetMode="External"/><Relationship Id="rId2" Type="http://schemas.openxmlformats.org/officeDocument/2006/relationships/hyperlink" Target="http://pl.wikipedia.org/wiki/Produkt_(marketing)" TargetMode="External"/><Relationship Id="rId3" Type="http://schemas.openxmlformats.org/officeDocument/2006/relationships/hyperlink" Target="http://pl.wikipedia.org/wiki/Rynek_(ekonomia)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"/>
              </a:rPr>
              <a:t>Cykl życia produkt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Cykl życia produkt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 – pojęcie z teorii </a:t>
            </a:r>
            <a:r>
              <a:rPr b="0" lang="pl-PL" sz="1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marketing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 oznaczające okres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którym </a:t>
            </a:r>
            <a:r>
              <a:rPr b="0" lang="pl-PL" sz="1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produk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 jest obecny na </a:t>
            </a:r>
            <a:r>
              <a:rPr b="0" lang="pl-PL" sz="1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rynk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 Innymi słowy jest to rynkowy cykl życia produ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Cykl ten składa się z czterech faz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prowadzenie na ryn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zrost sprzedaż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nasycenie / dojrzałoś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spadek sprzedaż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060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2133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3068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3141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4076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4149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5084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5157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6308640"/>
            <a:ext cx="748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Źródło: http://pl.wikipedia.org/wiki/Cykl_%C5%BCycia_produkt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9:34:06Z</dcterms:created>
  <dc:creator>Kasia</dc:creator>
  <dc:description/>
  <dc:language>en-US</dc:language>
  <cp:lastModifiedBy>Kasia</cp:lastModifiedBy>
  <dcterms:modified xsi:type="dcterms:W3CDTF">2013-01-27T19:40:55Z</dcterms:modified>
  <cp:revision>1</cp:revision>
  <dc:subject/>
  <dc:title>Cykl życia produktu</dc:title>
</cp:coreProperties>
</file>