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C206-2F38-43ED-B9EA-B8307C2C352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84DD-8606-4FFF-BCE1-4ED0F060A43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2C44-B768-4D97-BA9B-A5C0E162A62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56D7-ED6C-4457-8376-A4F15D1FC42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0AB0-CBF6-44C7-9528-41608FD22E8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C6BC-EC9C-4070-B53A-5053971F9E9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50C5-2049-49BC-B41A-B959C648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BAF-A77F-4AB8-816B-1E561AB1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5A03-4094-4DA9-A546-CF4AE3B0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B93-28DE-45C3-9DE3-B2753F29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0EB-4692-463A-A384-50FADE27A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2FB-4C89-4234-B6F6-3F3E7FEA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90CE-342F-4ED9-BB4F-5542F0B2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CC6-69A6-4C7D-863B-A3AE4CE1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63D-2CA1-48EE-8F14-805FD323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3B4B-BA0B-438D-8E43-13E46AF4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BA5-598F-4727-B7F1-EAACBDA6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74A7-1A1D-49B3-8CFF-E8D15849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A681-15CF-4430-863A-EB0B137B14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mniki</a:t>
            </a:r>
            <a:br>
              <a:rPr sz="6000"/>
            </a:br>
            <a:r>
              <a:rPr b="1" lang="pl-PL" sz="4000" spc="-1" strike="noStrike">
                <a:solidFill>
                  <a:srgbClr val="996600"/>
                </a:solidFill>
                <a:latin typeface="Goudy Stout"/>
              </a:rPr>
              <a:t>w</a:t>
            </a: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 </a:t>
            </a:r>
            <a:br>
              <a:rPr sz="6000"/>
            </a:b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ls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yrenka Warszawsk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4" descr="IM000348.JPG"/>
          <p:cNvPicPr/>
          <p:nvPr/>
        </p:nvPicPr>
        <p:blipFill>
          <a:blip r:embed="rId1"/>
          <a:srcRect l="22157" t="0" r="27891" b="0"/>
          <a:stretch/>
        </p:blipFill>
        <p:spPr>
          <a:xfrm>
            <a:off x="571680" y="1214280"/>
            <a:ext cx="3357360" cy="504036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renka Warszawska jest symbolem Warszaw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j pomnik stoi nad brzegiem Wis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ryderyk Chop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3"/>
          <p:cNvSpPr/>
          <p:nvPr/>
        </p:nvSpPr>
        <p:spPr>
          <a:xfrm>
            <a:off x="4714920" y="2500200"/>
            <a:ext cx="350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yderyk Chopin był polskim kompozytore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piani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en z najbardziej znanych pomników Chopina sto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arku Łazienkowskim w Warsza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az 3" descr="szopen.jpg"/>
          <p:cNvPicPr/>
          <p:nvPr/>
        </p:nvPicPr>
        <p:blipFill>
          <a:blip r:embed="rId1"/>
          <a:stretch/>
        </p:blipFill>
        <p:spPr>
          <a:xfrm>
            <a:off x="571680" y="1214280"/>
            <a:ext cx="33508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ontanna Neptun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ntanna Neptuna jest symbolem Gdań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zeźba przedstawia boga mórz i oceanów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ept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az 6" descr="neptun.jpg"/>
          <p:cNvPicPr/>
          <p:nvPr/>
        </p:nvPicPr>
        <p:blipFill>
          <a:blip r:embed="rId1"/>
          <a:srcRect l="5714" t="0" r="2854" b="0"/>
          <a:stretch/>
        </p:blipFill>
        <p:spPr>
          <a:xfrm>
            <a:off x="571680" y="1214280"/>
            <a:ext cx="3429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mok Wawelsk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4572000" y="1785960"/>
            <a:ext cx="350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moka Wawelskiego ustawiono na pamiątkę legen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 smoku, który gnębił krakowian za rządów króla Kr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toi przed wejściem do Smoczej Jamy, nad Wisł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ko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5" descr="smok1.jpg"/>
          <p:cNvPicPr/>
          <p:nvPr/>
        </p:nvPicPr>
        <p:blipFill>
          <a:blip r:embed="rId1"/>
          <a:srcRect l="9619" t="0" r="2127" b="0"/>
          <a:stretch/>
        </p:blipFill>
        <p:spPr>
          <a:xfrm>
            <a:off x="642960" y="1285920"/>
            <a:ext cx="3357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49640" y="30715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Goudy Stout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8840" y="4857480"/>
            <a:ext cx="62150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Prezentację przygotował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Grażyna Ko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07:42Z</dcterms:created>
  <dc:creator>Grazyna</dc:creator>
  <dc:description/>
  <dc:language>en-US</dc:language>
  <cp:lastModifiedBy>Grazyna</cp:lastModifiedBy>
  <dcterms:modified xsi:type="dcterms:W3CDTF">2010-02-16T18:50:41Z</dcterms:modified>
  <cp:revision>22</cp:revision>
  <dc:subject/>
  <dc:title>Slajd 1</dc:title>
</cp:coreProperties>
</file>