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B262-8969-4448-BEB7-623C07C65B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9EB0-B5B3-4CA0-BEC7-42D7E2D928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C346-43A2-4BF0-B4D4-03D68DEB7B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55F3-5BAE-4CD5-9C50-F884431692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31F-8923-4F8B-8532-7E7FE2A4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ED5-53CC-49BD-A4CC-930A13F3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79F-AD2D-411B-BC3C-A5E4DBBA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95F-2ED8-4248-9D65-1CCAB9A3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899-DA69-4672-B4C8-22205DDA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7C2-DE30-4FAC-8F28-1758DB07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ADD-F55E-46F7-BEC2-5F3059F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068-F915-4537-9AB8-D476CDC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BD3-E57A-4DB6-992D-728AF177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909-8C21-438F-9D47-3DC63488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A41-D897-4076-A2DC-F43C82BA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D0F-FE98-4667-80BD-45B429C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4753-8A32-4C8C-9550-3B8C1EF10D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razyna</cp:lastModifiedBy>
  <dcterms:modified xsi:type="dcterms:W3CDTF">2010-04-15T21:05:19Z</dcterms:modified>
  <cp:revision>28</cp:revision>
  <dc:subject/>
  <dc:title>Slajd 1</dc:title>
</cp:coreProperties>
</file>