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7183-D7F0-4A22-8934-51B473A52A2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428E-7EF0-483C-A44E-836C22B92C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1B8E-5FE9-4480-8202-5AC7D139D01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D4DC-630C-49D6-B231-06299B7A5BF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A7F-1503-4E8A-A537-E3A8DF73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494-48CF-4C92-ACE0-EEBFB93A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64C-5264-48B2-9DD1-F83AB811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03D-3449-48BB-8693-DE5186D4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DCE-D445-4698-9E89-1F1C96FC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731-56B7-409D-8365-6990B581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4B6-32E2-42A0-87B8-389CE3B1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C99-FC07-4D17-B868-8D89B28F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4D3-930B-42AD-A2B6-21F59D40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ED8-AA2B-4BB9-8596-1798A97B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833-8B90-446C-97B9-1D7FFC5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8BD-AE56-4636-BA0F-F19C42D9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E804-72B9-4210-BB02-5B28D0891C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razyna</cp:lastModifiedBy>
  <dcterms:modified xsi:type="dcterms:W3CDTF">2010-04-15T21:05:19Z</dcterms:modified>
  <cp:revision>28</cp:revision>
  <dc:subject/>
  <dc:title>Slajd 1</dc:title>
</cp:coreProperties>
</file>