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0877-3AB7-4E06-B41E-F13EF338A8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2D1-CB44-4803-B623-F822CD3AF82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41B8-C7ED-48F9-85DA-8BC0245141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D17-BBE7-41E4-9665-7154786747E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DC3-4EC4-4F0F-BAE4-E78C0220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5445-E47C-405D-8E5C-E6553337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5BC-EE0D-4566-BC5C-EDB259DF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394-17C7-47EC-95CC-AE64B6F5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C23-1A54-429F-83B7-30FFF295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3A7-A7C5-4311-8411-1DDD4B26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F0C-D7BA-4FAC-8B0A-9925159B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71B-CC64-47C1-9440-0495E9E5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84D-EB11-4C37-B5C1-FAC13BE6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DD7-E934-463A-BC7B-7420455F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CCB-36F6-4BF4-B321-6EE20684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1BF-A19F-4BAE-8521-27036023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278B-2210-400B-9F25-1D5D42D6FC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razyna</cp:lastModifiedBy>
  <dcterms:modified xsi:type="dcterms:W3CDTF">2010-04-15T21:05:19Z</dcterms:modified>
  <cp:revision>28</cp:revision>
  <dc:subject/>
  <dc:title>Slajd 1</dc:title>
</cp:coreProperties>
</file>