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2314-97DC-4E78-9538-061A6EF74E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6159-4F48-41C4-BF11-C725284FE3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9C22-3B09-43EA-A7AA-260A64E82A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96ED-97F7-42D6-915B-D448CD93362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78F-FBAB-4A91-9B06-C6827E67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939-4D9C-4F49-8005-53D1A084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39D-A5CE-4291-ACFC-508202C7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091-5FCE-4365-84B5-D702CEE9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87E-D85D-4D9E-ACFA-A1230812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7CB-CF43-4250-ADA3-10E9327E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6A6-705F-4D21-B9A2-F9F22CE2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9CE-E0EF-4534-92D3-DE676D32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D22-4722-4D96-9E19-EFDF4604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52D-B74A-4DD4-8FB3-9FCB61AA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C6D-CA59-42A3-A539-A4F582F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E9F-ED95-4929-82E1-C68FC57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2ADF-B891-4D20-A057-9F3E659699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razyna</cp:lastModifiedBy>
  <dcterms:modified xsi:type="dcterms:W3CDTF">2010-04-15T21:05:19Z</dcterms:modified>
  <cp:revision>28</cp:revision>
  <dc:subject/>
  <dc:title>Slajd 1</dc:title>
</cp:coreProperties>
</file>