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F234-AC6A-4499-B3A9-9D7EBE129A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C410-EBFA-4E70-A2CE-7009878B31B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E0D2-51EA-4F92-9F86-1AC23B197F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16A0-B59B-439F-9D95-D19D6BD8C00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B05D-A955-4417-9A7A-8D9C2A573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B2AD-A09A-468D-A2E8-674691850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20A-6257-46C5-90CD-6376BC00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A9C3-074D-4501-9EEA-5E8D1B822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3E07-2DAC-435C-A0C5-14464932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258-6BA4-4C9F-97A2-DF36FEC7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24F-252A-4447-A7BE-46B8928D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2187-4308-4F29-B169-117F9932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C54-A2C7-4EF8-9261-0498B0BA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1180-2F2C-45D3-B9AD-483644B9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85F-40A1-4DB6-BB4F-481ABA4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5C8-0436-4B06-8E53-311766B9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6E1E-5113-45D1-9981-ADFCD80ED4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razyna</cp:lastModifiedBy>
  <dcterms:modified xsi:type="dcterms:W3CDTF">2010-04-15T21:05:19Z</dcterms:modified>
  <cp:revision>28</cp:revision>
  <dc:subject/>
  <dc:title>Slajd 1</dc:title>
</cp:coreProperties>
</file>