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DDD6-088F-4991-9684-AD0C7FEFDEE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5914-306F-4CF4-B158-D0D05F8BABE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D7B-E2DE-4924-8BB7-1A7E2AFC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EF0-E4AE-472C-95F0-6BB9CEE9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ED7D-63EF-4CDE-B947-018722A0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B2D-014F-4648-AF80-4A97C6F4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D93C-D748-47CA-A7F8-4C38C559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54F-C5D2-4BBE-9290-1D50F6B4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251-6C4C-466E-87FB-3C3103B2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EEA4-81EF-4424-A551-CAE0BD1F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F1A-7606-43CF-914B-55183ABD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94E7-E7D9-4F14-AFDE-9AA274B8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DA73-E549-45AB-8274-35F5562A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1368-6622-4233-80F4-1A3DB641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f5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7CE7-E991-444E-AB21-19C2CD89E8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Zasady zachowania się </a:t>
            </a:r>
            <a:br>
              <a:rPr sz="4400"/>
            </a:b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przy komputer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rcRect l="0" t="0" r="0" b="15285"/>
          <a:stretch/>
        </p:blipFill>
        <p:spPr>
          <a:xfrm>
            <a:off x="2571840" y="2214720"/>
            <a:ext cx="3929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az 1" descr="T3_zasada1_R.bmp"/>
          <p:cNvPicPr/>
          <p:nvPr/>
        </p:nvPicPr>
        <p:blipFill>
          <a:blip r:embed="rId1"/>
          <a:srcRect l="0" t="0" r="0" b="49538"/>
          <a:stretch/>
        </p:blipFill>
        <p:spPr>
          <a:xfrm>
            <a:off x="0" y="1571760"/>
            <a:ext cx="448776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Obraz 2" descr="T3_zasada1_R.bmp"/>
          <p:cNvPicPr/>
          <p:nvPr/>
        </p:nvPicPr>
        <p:blipFill>
          <a:blip r:embed="rId2"/>
          <a:srcRect l="0" t="48895" r="0" b="0"/>
          <a:stretch/>
        </p:blipFill>
        <p:spPr>
          <a:xfrm>
            <a:off x="4713120" y="1571760"/>
            <a:ext cx="443088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3"/>
          <p:cNvSpPr/>
          <p:nvPr/>
        </p:nvSpPr>
        <p:spPr>
          <a:xfrm rot="20377800">
            <a:off x="468720" y="5810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50"/>
                </a:solidFill>
                <a:latin typeface="Arial"/>
              </a:rPr>
              <a:t>DOBR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ole tekstowe 4"/>
          <p:cNvSpPr/>
          <p:nvPr/>
        </p:nvSpPr>
        <p:spPr>
          <a:xfrm rot="1261200">
            <a:off x="6620400" y="70812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Ź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ole tekstowe 5"/>
          <p:cNvSpPr/>
          <p:nvPr/>
        </p:nvSpPr>
        <p:spPr>
          <a:xfrm>
            <a:off x="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czas pracy przy komputerze ważna jest prawidłowa posta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ole tekstowe 6"/>
          <p:cNvSpPr/>
          <p:nvPr/>
        </p:nvSpPr>
        <p:spPr>
          <a:xfrm>
            <a:off x="478620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 siedzi się nieprawidłowo, można zniszczyć wzrok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uszkodzić kręgosł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raz 3" descr="T6_zasada4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1000080"/>
            <a:ext cx="44290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Obraz 3" descr="T6_zasada4_R.bmp"/>
          <p:cNvPicPr/>
          <p:nvPr/>
        </p:nvPicPr>
        <p:blipFill>
          <a:blip r:embed="rId2"/>
          <a:srcRect l="0" t="50229" r="0" b="0"/>
          <a:stretch/>
        </p:blipFill>
        <p:spPr>
          <a:xfrm>
            <a:off x="3857760" y="3786120"/>
            <a:ext cx="4255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raz 3" descr="T7_zasada5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714240"/>
            <a:ext cx="4527360" cy="2519640"/>
          </a:xfrm>
          <a:prstGeom prst="rect">
            <a:avLst/>
          </a:prstGeom>
          <a:ln w="0">
            <a:noFill/>
          </a:ln>
        </p:spPr>
      </p:pic>
      <p:pic>
        <p:nvPicPr>
          <p:cNvPr id="59" name="Obraz 3" descr="T7_zasada5_R.bmp"/>
          <p:cNvPicPr/>
          <p:nvPr/>
        </p:nvPicPr>
        <p:blipFill>
          <a:blip r:embed="rId2"/>
          <a:srcRect l="0" t="50034" r="0" b="0"/>
          <a:stretch/>
        </p:blipFill>
        <p:spPr>
          <a:xfrm>
            <a:off x="2643120" y="3929040"/>
            <a:ext cx="4532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raz 2" descr="T5_zasada3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1571760" y="428760"/>
            <a:ext cx="452736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2" descr="T5_zasada3_R.bmp"/>
          <p:cNvPicPr/>
          <p:nvPr/>
        </p:nvPicPr>
        <p:blipFill>
          <a:blip r:embed="rId2"/>
          <a:srcRect l="0" t="50170" r="0" b="0"/>
          <a:stretch/>
        </p:blipFill>
        <p:spPr>
          <a:xfrm>
            <a:off x="1285920" y="3500280"/>
            <a:ext cx="4416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50036" r="0" b="0"/>
          <a:stretch/>
        </p:blipFill>
        <p:spPr>
          <a:xfrm>
            <a:off x="214200" y="3357720"/>
            <a:ext cx="4876920" cy="271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0" t="0" r="0" b="49970"/>
          <a:stretch/>
        </p:blipFill>
        <p:spPr>
          <a:xfrm>
            <a:off x="3857760" y="357120"/>
            <a:ext cx="4527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48:52Z</dcterms:created>
  <dc:creator>Grazyna</dc:creator>
  <dc:description/>
  <dc:language>en-US</dc:language>
  <cp:lastModifiedBy>Grazyna</cp:lastModifiedBy>
  <dcterms:modified xsi:type="dcterms:W3CDTF">2010-06-19T07:55:02Z</dcterms:modified>
  <cp:revision>13</cp:revision>
  <dc:subject/>
  <dc:title>Zasady zachowania się przy komputerze</dc:title>
</cp:coreProperties>
</file>