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2949-1E9E-4B4B-84E2-68967E5D4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0A59-7D9E-4CF9-B8D9-E983EF8C2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39AF-BC9E-434A-8B97-26CA0923B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30D8-7D74-40D5-99A0-D0020186F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A824-EC20-4527-86DB-26B74E01A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AA76-DDD9-4B62-A55E-6985F47B5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028C-633D-4CF7-B409-58671CE34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1EE5-B9A3-446F-B41D-F1B19C89D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9054-E854-4FA5-B488-F080D084A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779D-97E4-447D-A353-416E0354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9BDF-B253-48F1-9975-4796F375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8B3D-603D-4CC5-ADF2-293F7B09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38977-EA93-4C89-81B0-F8642577286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ytuł 1"/>
          <p:cNvSpPr/>
          <p:nvPr/>
        </p:nvSpPr>
        <p:spPr>
          <a:xfrm>
            <a:off x="2357280" y="1785960"/>
            <a:ext cx="471492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ffffff"/>
                </a:solidFill>
                <a:latin typeface="Calibri"/>
              </a:rPr>
              <a:t>Urządzenia elektrycz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ole tekstowe 6"/>
          <p:cNvSpPr/>
          <p:nvPr/>
        </p:nvSpPr>
        <p:spPr>
          <a:xfrm>
            <a:off x="2786040" y="528624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Calibri"/>
              </a:rPr>
              <a:t>przykł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Obraz 2" descr="lodowka.bmp"/>
          <p:cNvPicPr/>
          <p:nvPr/>
        </p:nvPicPr>
        <p:blipFill>
          <a:blip r:embed="rId1"/>
          <a:stretch/>
        </p:blipFill>
        <p:spPr>
          <a:xfrm>
            <a:off x="3484440" y="1000080"/>
            <a:ext cx="217512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Obraz 2" descr="odkurzacz.bmp"/>
          <p:cNvPicPr/>
          <p:nvPr/>
        </p:nvPicPr>
        <p:blipFill>
          <a:blip r:embed="rId1"/>
          <a:stretch/>
        </p:blipFill>
        <p:spPr>
          <a:xfrm>
            <a:off x="2203560" y="1928880"/>
            <a:ext cx="47368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Obraz 2" descr="żelazko.bmp"/>
          <p:cNvPicPr/>
          <p:nvPr/>
        </p:nvPicPr>
        <p:blipFill>
          <a:blip r:embed="rId1"/>
          <a:stretch/>
        </p:blipFill>
        <p:spPr>
          <a:xfrm>
            <a:off x="2909880" y="1857240"/>
            <a:ext cx="33242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Obraz 2" descr="pralka.bmp"/>
          <p:cNvPicPr/>
          <p:nvPr/>
        </p:nvPicPr>
        <p:blipFill>
          <a:blip r:embed="rId1"/>
          <a:stretch/>
        </p:blipFill>
        <p:spPr>
          <a:xfrm>
            <a:off x="2843280" y="1442880"/>
            <a:ext cx="3255840" cy="39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3T15:53:53Z</dcterms:created>
  <dc:creator>Grazyna</dc:creator>
  <dc:description/>
  <dc:language>en-US</dc:language>
  <cp:lastModifiedBy>Grazyna</cp:lastModifiedBy>
  <dcterms:modified xsi:type="dcterms:W3CDTF">2010-06-19T07:56:54Z</dcterms:modified>
  <cp:revision>13</cp:revision>
  <dc:subject/>
  <dc:title>Slajd 1</dc:title>
</cp:coreProperties>
</file>