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470-391A-48DC-9EF0-4D227B88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C86-5652-4FBA-9B30-FCDD187E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80C-7F3F-4288-86EB-5D316061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2C5-46D1-407C-829F-0075D81D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0A6-039C-4EA9-996C-E16FF14C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5E0-57DE-467C-ACCA-D703C92E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135-FFA6-4712-8759-40CAC00A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D44-8B6E-43C8-A756-C199583F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C5A-6C6C-4A95-83A0-1017ED42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1AE-F644-4019-B763-FB37F91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3B9-5D6F-4EB4-AB90-519821D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CE5-BA18-4470-BE79-B8011262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08FA-85E6-438D-8329-6AD9B06AB0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0ce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Przybory do pisan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Dawniej i dzi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4" name="Obraz 3" descr="Pioro_gesie.jpg"/>
          <p:cNvPicPr/>
          <p:nvPr/>
        </p:nvPicPr>
        <p:blipFill>
          <a:blip r:embed="rId1"/>
          <a:stretch/>
        </p:blipFill>
        <p:spPr>
          <a:xfrm>
            <a:off x="2198520" y="1628640"/>
            <a:ext cx="4746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6" name="Obraz 3" descr="Pioro_stalowka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8" name="Obraz 3" descr="Pioro_wieczne.jpg"/>
          <p:cNvPicPr/>
          <p:nvPr/>
        </p:nvPicPr>
        <p:blipFill>
          <a:blip r:embed="rId1"/>
          <a:stretch/>
        </p:blipFill>
        <p:spPr>
          <a:xfrm>
            <a:off x="1998720" y="206064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c00000"/>
                </a:solidFill>
                <a:latin typeface="Calibri"/>
              </a:rPr>
              <a:t>KONIEC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59:13Z</dcterms:created>
  <dc:creator>Twoja nazwa użytkownika</dc:creator>
  <dc:description/>
  <dc:language>en-US</dc:language>
  <cp:lastModifiedBy>Grazyna</cp:lastModifiedBy>
  <dcterms:modified xsi:type="dcterms:W3CDTF">2010-11-12T14:43:52Z</dcterms:modified>
  <cp:revision>38</cp:revision>
  <dc:subject/>
  <dc:title>Slajd 1</dc:title>
</cp:coreProperties>
</file>