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79D1-09BC-481D-BA53-CC0B9BF7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933-AB5B-4501-8378-E80C8347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A48B-C49C-44F2-9A95-54A1540F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72D2-C023-4505-9D22-CCB58946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02B5-F715-434C-8D83-1DC7718B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125-373B-4C25-9BC9-2BA21F9D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CADB-F1E6-4263-9DFF-A376170A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845E-72C2-49D6-AC34-50BEE519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8A4-0A96-4D76-83CF-3B8FA09F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E575-6433-474E-A6BE-BE891EF4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F23-7E01-41D8-8120-D135C1C3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C6A-972C-4B4A-B896-5EE6D276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27B3-5681-40CD-B267-8D4F3FA9B4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0ce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c00000"/>
                </a:solidFill>
                <a:latin typeface="Calibri"/>
              </a:rPr>
              <a:t>Przybory do pisani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00000"/>
                </a:solidFill>
                <a:latin typeface="Calibri"/>
              </a:rPr>
              <a:t>Dawniej i dzi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4" name="Obraz 3" descr="Pioro_gesie.jpg"/>
          <p:cNvPicPr/>
          <p:nvPr/>
        </p:nvPicPr>
        <p:blipFill>
          <a:blip r:embed="rId1"/>
          <a:stretch/>
        </p:blipFill>
        <p:spPr>
          <a:xfrm>
            <a:off x="2198520" y="1628640"/>
            <a:ext cx="4746960" cy="38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6" name="Obraz 3" descr="Pioro_stalowka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8" name="Obraz 3" descr="Pioro_wieczne.jpg"/>
          <p:cNvPicPr/>
          <p:nvPr/>
        </p:nvPicPr>
        <p:blipFill>
          <a:blip r:embed="rId1"/>
          <a:stretch/>
        </p:blipFill>
        <p:spPr>
          <a:xfrm>
            <a:off x="1998720" y="2060640"/>
            <a:ext cx="51465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7200" spc="-1" strike="noStrike">
                <a:solidFill>
                  <a:srgbClr val="c00000"/>
                </a:solidFill>
                <a:latin typeface="Calibri"/>
              </a:rPr>
              <a:t>KONIEC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7:59:13Z</dcterms:created>
  <dc:creator>Twoja nazwa użytkownika</dc:creator>
  <dc:description/>
  <dc:language>en-US</dc:language>
  <cp:lastModifiedBy>Grazyna</cp:lastModifiedBy>
  <dcterms:modified xsi:type="dcterms:W3CDTF">2010-11-12T14:43:52Z</dcterms:modified>
  <cp:revision>38</cp:revision>
  <dc:subject/>
  <dc:title>Slajd 1</dc:title>
</cp:coreProperties>
</file>