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CF7-A3D1-44C9-9612-238B7033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B03-39A6-46E8-A10F-ED82B015C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4B61-7B9F-4D5F-BAF6-029598D10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5EA3-3609-40E3-8A73-89237E118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6F7A-52C3-4193-A6A4-4D5A868F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9CF0-C7FE-494E-B922-0696B48D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C12-E61E-47A0-9E66-1DE19EA1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D433-1BD7-41B0-9D26-47253C9A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8A9-5861-4E12-A679-1487F2766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F5D9-CE1E-4663-8C8D-8B3E9AF6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B7CE-E9EB-4852-8953-9C783B90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1B3-FAE1-4127-A757-9CCBF4E7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283E-973E-4CF5-8505-1927D0D789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4e0ce"/>
            </a:gs>
            <a:gs pos="100000">
              <a:srgbClr val="f8b04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714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600" spc="-1" strike="noStrike">
                <a:solidFill>
                  <a:srgbClr val="c00000"/>
                </a:solidFill>
                <a:latin typeface="Calibri"/>
              </a:rPr>
              <a:t>Przybory do pisania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00000"/>
                </a:solidFill>
                <a:latin typeface="Calibri"/>
              </a:rPr>
              <a:t>Dawniej i dzi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4" name="Obraz 3" descr="Pioro_gesie.jpg"/>
          <p:cNvPicPr/>
          <p:nvPr/>
        </p:nvPicPr>
        <p:blipFill>
          <a:blip r:embed="rId1"/>
          <a:stretch/>
        </p:blipFill>
        <p:spPr>
          <a:xfrm>
            <a:off x="2198520" y="1628640"/>
            <a:ext cx="4746960" cy="38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6" name="Obraz 3" descr="Pioro_stalowka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6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2060"/>
              </a:solidFill>
              <a:latin typeface="Arial"/>
              <a:ea typeface="Arial"/>
            </a:endParaRPr>
          </a:p>
        </p:txBody>
      </p:sp>
      <p:pic>
        <p:nvPicPr>
          <p:cNvPr id="48" name="Obraz 3" descr="Pioro_wieczne.jpg"/>
          <p:cNvPicPr/>
          <p:nvPr/>
        </p:nvPicPr>
        <p:blipFill>
          <a:blip r:embed="rId1"/>
          <a:stretch/>
        </p:blipFill>
        <p:spPr>
          <a:xfrm>
            <a:off x="1998720" y="2060640"/>
            <a:ext cx="514656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7200" spc="-1" strike="noStrike">
                <a:solidFill>
                  <a:srgbClr val="c00000"/>
                </a:solidFill>
                <a:latin typeface="Calibri"/>
              </a:rPr>
              <a:t>KONIEC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17:59:13Z</dcterms:created>
  <dc:creator>Twoja nazwa użytkownika</dc:creator>
  <dc:description/>
  <dc:language>en-US</dc:language>
  <cp:lastModifiedBy>Grazyna</cp:lastModifiedBy>
  <dcterms:modified xsi:type="dcterms:W3CDTF">2010-11-12T14:43:52Z</dcterms:modified>
  <cp:revision>38</cp:revision>
  <dc:subject/>
  <dc:title>Slajd 1</dc:title>
</cp:coreProperties>
</file>